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750-40C1-44F3-B320-9CB732E6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4B4-0615-4FAB-A978-EAE84930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2FD7F-1B44-4410-BC49-769DF9FF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1DE9C-CDB9-417A-AC57-D285BE8B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BC05B-EEA1-4683-802E-C9DA2A32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D99F1-98ED-4E74-850E-A1002FBB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3F4BB-5F26-4206-8543-D5F51DFC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AFE6F-5B2A-41C2-857B-FEC78E1B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5AEE5-6F3F-4F56-BC20-2104B911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28C80-0932-4F83-B04E-6F73D4D9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4922E-E85F-4AD1-B7DB-1BE13A2B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8FEB3-0533-4D4C-BE62-D7FFDD97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250-5B3A-4F15-8D8E-262799DD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F5300-3608-4A0F-9ECA-E0056CE7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ACF7C-43A1-4B09-AE15-4C9B3AEE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46EEF-8BC8-4E87-9E55-CC0F01C7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8D0B3-1746-46B5-A328-46E597F0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0352B-1991-4736-A7CA-DB738E94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15103-847E-4438-B1D1-2C360201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CFBD8-E722-4922-A422-BDDB6A9A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EB596-2405-4F35-B569-14D7C6A4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081A4-9B66-42CF-92D2-9706A185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5A930-8EA1-4498-A9C1-BFCD1677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127-5DE7-45A0-910D-711E2DBA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6059A-C8DF-4136-8AC1-9742E2B7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12C38-1CAC-49D5-A13D-1268F82E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9CFAA-1DCC-4B88-ABC0-74FABF5E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3640E-7D46-4950-A907-35000C0B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0D846-93E2-424A-B40D-84E50023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E8710-5A30-4396-B6DC-91C2C0B0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CF0C5-F826-4825-AEB3-98AC01AC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60DA3-12D5-4E6A-A408-85A52837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57234-38FA-4743-B2DC-AE0BE7F8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93013-E42A-4E8E-8CE9-0530EA3F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EF4F-188B-4C35-A554-9F30504A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8B4B0-94CA-4754-BABE-0DACBC5D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B5559-C5B7-4513-A5B4-BC4A09D3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C5AEF-7F61-433F-9562-E5009620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F52B2-761F-43E3-A18B-DDE570D7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BF519-8685-4606-A0E2-F9CB74BB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8F296-2689-45EC-A53D-152FF865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59ACA-AD11-410E-812F-68E429EC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52A8A-8A54-4470-81FE-F0F0B831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7543A-6438-44BB-B3CB-9D3210B0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130A7-CEB7-4E1C-8450-8509D8DD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8B7A-7140-47AC-ADB3-9DB76CF7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D1D45-801D-4C5E-BCA1-4F496FEA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0316F-A8AE-4F5B-A933-21A948FE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33300-E929-41D2-ACCA-061CF1F3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6E933-AE5B-4775-916E-D23D34B6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46804-5776-4A26-B830-04D6331C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59375-A22A-4F79-9517-D7BECD63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90227-54C3-4248-81A6-6F123756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15B1B-844C-4C3C-9D02-A1394A73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26008-8A88-4DB1-BED1-2EDFE753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E31A6-AF39-4419-9734-84C59577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D7CE-ABD8-41D7-A200-5C07C190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AA4FF-889C-4DF9-8F7B-0B4D979A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B2C3F-2A61-4935-A61B-F4B44954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11D99-2673-4BAD-BB66-BF2E9746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43238-9B0B-42FD-94F8-157180A6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E22C9-F99C-416C-9939-8973348F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5D746-70A6-4696-A1D4-416F83C4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CC577-F8BD-44C5-9160-31D22AD1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3BC53-2717-44EC-9155-C3BCEC4D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FB435-3C2E-4EE0-B897-1795C758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F5AC5-4FA1-4FB9-87B4-6676F7B5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18C9-E254-49EA-AD00-BB3272ED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30DB5-841B-435E-9951-D496AC2B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6C928-43DB-4B18-9E1B-9A3AE4A7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64C4E-7AD2-4B83-89EF-57292452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A63BB-06F6-47C3-BBF2-747A8FB2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2C5C7-A255-484E-9AFA-A7D55499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53E32-E1E6-4808-87B4-EBE00A05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BD8C6-46A6-4C7C-9257-385635FC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30FEB-FA7B-4D14-B0E7-78B2C33A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67015-FB40-4C21-AA09-409B3775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D8425-9069-49A7-9DAE-0F431C57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1577-4817-4251-8C77-314AD4B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8A38B-3BE6-4F86-AC85-B6FC58A6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58A08-AEA5-4090-8F44-3D5FF94D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1CD91-469F-4F99-B0F4-726EE6A1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AAAB1-B4F0-4CF7-B97D-FD5E2EAC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9229B-9B94-4951-BBCB-3CF96003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0A240-D70C-4048-B855-2D8E2B5F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883D09-7806-46C1-8774-0FE0DD52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A89B50-5223-4818-8EF9-4E220885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96AF7-1EA8-4DD6-885E-02AE913A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81FB6-4485-45F0-B35C-83020C06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CE2A-BEC2-4DCD-B5DB-F296E781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C0BFF-B18B-46BB-8B54-69E875DE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8974A-2DAF-4849-9AFD-E6720B9A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D920F-6CD8-4E0E-B86D-E0CC19A7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6D988D-1B94-415C-AF7D-B86A5E34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39A41-8565-435F-8C2D-B8AC78E8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5D6B4B-8786-4C2F-ACF2-4D8BF47E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7DF9B-BA22-4CA2-B7A8-6DE1926A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E3C9BC-B2EC-4DCA-9DC1-D19508DB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DE2FD-EF8E-4935-B73C-8B4564C9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746023-5648-4E1C-83C9-24BBB383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2E33-C71E-4209-8A73-C90637B1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77E8F-65F8-488A-BADC-EEC043B3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728DD-FE70-4F43-B386-EEC86048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0AA30-2E47-46BF-80AE-520944BC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D9A63-1D83-422B-B004-B01A73B9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3C8CD-41DB-468D-AE38-5E05EF14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CB861-96E2-4185-B3F4-87CA0ABC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EA1BC-D100-414D-B3F2-6C824699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155128-9C70-4712-8C13-CEA5126C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857AD-2AD9-464A-A57E-85B7E3A6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C6827-BAC0-4E0E-8235-2EC24050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532-F9AC-425C-A6B8-F899C43D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CA1C-FB4A-45AC-B248-26EFC750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E928F-43E1-44CE-8AA8-9A092E8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7E4E4-5ABE-498B-80F4-F8438BAB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51BB8-4649-4B75-9565-B4E8AAE5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CDF73-151F-4C48-8141-E0D05563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6707ED-6DD0-4A06-BA62-46E419CA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4D8A9-2572-4F94-BF3C-5CA8BF61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5182A3-7EF5-4812-84DB-478A078C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6C157D-C63B-4E26-9257-E9199F1A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A378CD-F40C-4C46-BA19-F9459AFF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6AFDA7-5D4D-482B-8A02-F74DC47B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5B2F-9D25-4364-80E8-D25D3C82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C608B8-8BCD-468C-81A6-B3F813E1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6F675-B397-440F-A2A8-132F60B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B3A4A8-6920-4ADC-8D1E-7BC9A3E5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4E87A0-7F7D-446E-805E-7672D27F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16B8B8-FDD2-4578-8986-47058CFE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9DC6A-F9E2-4B09-8AD0-37E60754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0308B-5947-4ACE-BA7C-2D25E989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F4763A-2E3A-4A9B-867A-00ED3F67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3021B-786F-4BD3-BEE8-8F980FE4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F01DEC-E1E4-477C-9296-A33DB1DF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C535-860E-4DB0-BC60-8D9C2A03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8086C-474F-44B4-831E-870FF226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0DCBA-3B25-4150-9CEF-91608B91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977186-25F5-4B93-A3CC-06E4A852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8D4E7-194A-4DE4-B230-532CE42D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F4A727-BA0E-473E-8B24-042BEC0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E32A0-AA94-4002-BD46-E953C754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F616E-130C-4AC0-8580-A3B5ABA8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FADEF-5D1F-494B-B65C-6C9D38ED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8BFD2-5134-4EF3-985D-C3C547A1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4EC713-08EC-4F45-8878-1AAF8BC0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7141-52B5-4DC5-B959-38076DF3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BCCE2A-4846-41B5-BE4B-4ADCF0B6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6E0DEE-7FEB-4F4E-9F41-4128AFC3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1648F8-88CD-46C2-9822-25D17EFD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E1E56D-A113-427C-96DA-E75D53B3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EBD0F4-2217-4797-9472-40DE7D29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4943A6-ACC2-46A1-A8DF-79AB97E7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889A8A-67C1-49C8-81C5-AC4C7177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0C6D1-1C08-4866-9815-E477EB04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247CDE-94ED-4C06-9F22-9A712CA2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7A5186-62F1-4404-8CB5-6EE75F59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B000-B927-4A22-B649-8E56629C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ACB5BF-E97C-4C18-944A-D7BEB306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D4F9DD-3A54-4198-A0B3-A8631D56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F81F3F-4304-4A92-8FE7-48AF9459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49D0F7-1F5B-44B3-9418-D676598D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E457DE-D8D5-40AB-AC5C-F3555EE2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F7CA0E-003C-45DE-AB9B-84BE3DF5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E64AF-1334-4CAD-B1AB-FB17EED0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AF7CA0-0957-4B69-B4C1-EFA6ECF1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A211F-9FA9-45E7-BFD4-F8FDF0E1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0B1EB1-3E6E-4B0E-B007-F6D1D215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A93C1-9C0B-4E18-9E80-93382225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63A577-176E-4427-8071-447B3AC3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ED9511-0791-4DB1-9125-B05E0A7F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043979-D350-4DF1-9B56-524BFCDE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082F40-FC86-4559-837D-FC108211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6770A5-58B6-48C1-90ED-52DE549D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5AABCB-A2B9-407E-8425-DF125F99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5CA2B2-47AD-4979-B336-A16FD2B7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5F86D8-D5EA-4D3A-B30C-FBC3B312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4B1004-B95F-4E85-93EE-42C592EC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DE3A6D-BE6E-4113-950B-92880D8B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357D8-9D84-4163-8F01-4AD1D018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3CB64E-7349-4D69-ADA1-A30C6F2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DDEA08-4ED3-4F39-93A4-46164A38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46749F-BF42-4959-93FA-AC17A5C5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99E721-463A-46BC-8D42-08AD47FC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941201-02E2-4519-A023-C132C099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8C31B6-ADFB-4259-848B-AE58E047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D9528C-3222-4117-82AA-C9C06416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A537A3-4E44-4041-B16B-5E88E641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F55D5B-F648-421B-A435-5F1A57E5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5F87F5-1C10-4804-934C-B74E65B5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8355-1581-445D-8B60-D7D21BCA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5F544D-296D-4DDF-A6C3-B9E6918B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E9EA28-2DA4-4D70-ADD2-8AA16A9E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842910-2519-4956-B3A7-3CAC8341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2F986C-B03D-4FF3-ABE7-DA189168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324F3C-03BA-400C-AB66-02EE512E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FB7143-6793-4E30-B12E-9514F274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687C1D-9F60-460B-A70A-499BACA3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D5A5B8-CBC3-4382-A726-9E7E1E47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ADCCAF-2F04-4D3F-8695-3F627E74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7D3294-3216-4597-9102-3243E3DE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0800F-9E4C-495C-A445-B0652BB2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66A9AB-A855-499E-9D42-F0001DE0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71A42F-DA69-48C6-A982-B6D27C35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7B82E5-B981-44BA-9FBF-F96ABABD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E48B98-0E05-4A0C-9E53-F9B4F01E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0C1068-3683-47E7-9D79-6356F4C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B62865-7C37-429C-B394-1ED083A1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26FC7D-A962-47EE-A55E-37E6CAA1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95F1E1-5DCC-4651-AC48-7FAF11E7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FAE415-A92B-4832-88FC-094E1C5F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C84B33-9389-4EA8-B1CC-468E9C84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4EAEF-2135-4EFC-AF7C-4D530A07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224559-E848-4A2B-AFCE-A4F432A3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E5B886-88DE-4565-98DC-4005B530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48093F-5DEC-4158-B432-11623AD1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C64BA6-1C9C-42C5-B46F-3623E74A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4D7648-B9C0-4F1D-B99E-D984223B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924B4E-B459-4199-B59D-96EA567C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2170D3-1965-4116-AC29-505B21EF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81BACD-E6F0-42E2-8B01-2245CA1B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C54A5A-D1A9-4C49-82FB-A8511734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ABA263-D50F-469A-9F30-BDC05F7C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9EA-D8F6-427B-A9CB-8C2BD86E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F7CC-DF31-4B27-BED3-7E349CB6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A719C5-9B63-4484-A555-77863ECA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5A03D5-A095-433D-9209-E0E2981E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434AD0-AFEC-4224-8DE1-7A68927F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276AAB-893F-4586-ABF3-B276EEF5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49DA03-4906-446D-9DE3-B900CBDE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AFBC2F-573A-4B67-BD31-66D8068E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E7CCE8-EDC7-4C5C-9F1F-EFD73950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E4BE21-55BD-4935-AB02-F4B2A4CE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C09208-6D22-4206-8626-AFD1A046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0F472E-0A29-426E-893D-D5FFA7C2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35BB-AABF-4FD5-992E-32CBBEB6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A2EB90-960B-45DB-97EE-08F32A42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18C568-BCB4-42A4-9FF4-E6AD352D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3C8264-FEB0-4A4C-9A59-1D311DE4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EE6FBA-150B-431B-B873-47DECB24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A6A233-812D-4A31-8D5E-D8C0FFF5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9DFDB9-1CF4-479F-BF2F-EF987F41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9442F7-7A5B-40C4-9799-E25DBCA6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D55370-3E85-48AA-A478-E984ABFE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621B05-430C-4BCE-8FFF-3B1094CF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CA3A4D-D3B5-4880-A67B-BF5E561B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66AF-28D6-404F-B7EA-2E553D5A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31679A-57B4-4B43-8695-BE76932C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819A88-680A-439B-B77D-331BEFCC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497AA5-129E-4160-A2BF-AF3C946F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24B3F5-7573-475E-B433-92927C63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82C12B-1924-42DF-A225-143812CC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41EB-5951-4656-B167-68C86515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622A2-9246-4BB1-B693-26C12964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6040-6CC7-4AA6-B110-A84A3E87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5439-B584-4E33-AAE2-0452688A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57062-A89F-4992-9673-A5C8C4C4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18E6F-4FAD-4A1E-B6EC-BCDEBA2F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4C899-5118-4635-8368-7965EC43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881-62B0-4CAB-8C10-6FFE2C03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5DA9C-6BE3-42F3-9CAA-BABCA478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2017C-E203-44A9-9078-C7EBD4FB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68EF-4ED9-4817-82BB-E0F8B17E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F596-381E-4708-B2F2-04494A8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31A5A-1F53-4536-8B9B-42A01F53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666E-EF65-4CA4-82C3-58FA24D8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AB53-82AE-4A75-8A59-4A00CD67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CB0C-91A8-4839-A0E8-E2ADDE29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2078D-1284-4657-80C8-2F4D422F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C76E5-08BB-499B-9259-82568B9F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BA7-C860-4162-BFF6-F889A298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A8467-8B60-4171-8B1F-D2E9E981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C41F7-B087-41FA-ABAD-AA4C665E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6849B-F891-42A0-8EF6-08550A5C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9ED31-21A2-40CF-B0E0-D2F65331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11782-3CD0-4ECB-81C8-A023B733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80601-3F07-4017-9BE9-93930483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1F8EC-B259-41D5-883F-78050884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C548E-92EE-4A08-BEC8-E9AB1657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9A54D-CDCC-469F-98F7-AB2ECF71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3C57C-E1BD-495C-9998-67956E29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5B7-1FC2-4C1D-81D0-2F510D62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87E4D-6D39-4388-99D4-AF29F04E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E18CD-4682-4C8E-8B71-8F188A2A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DF6C2-8E19-4A9C-B4B6-FF9DB7D5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C1D7D-0A79-42FB-B9DF-3D7B9362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2B746-FCB8-4CED-BAB6-E64652C0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4E919-3642-48DC-92D6-10329AEE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4E773-C718-402B-B323-D386BC62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8AFA7-D4B4-489A-895E-C0D0708A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F0644-D07C-437D-B443-45E1C266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801A0-1E87-4685-AB0D-13C1BEA0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F6F-4CBE-4EF5-8DA3-53E4E58E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6C562-1E99-4877-806A-69530DC1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45DB0-D3C5-4838-B072-A403F767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75E7C-65CF-4DB2-B863-68AB9530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2F8C8-A4B9-4A91-81C9-D27B1B0F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D2C7E-2D8C-47E2-9997-E23F2C53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93912-4AB1-447E-89F2-47D5C9F3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F327-D779-431F-B623-28D09FF8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A0D1E-7512-422E-A96A-423DA99B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FCCF-9DB7-4B41-A75E-665A92F2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B6D8C-8DDF-4256-933C-B827D5F2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E65-6995-4C7F-8BC0-D6945A50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EBEA3-9E93-40DE-9D7A-CF43489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4082D-7B3F-4AE8-9C47-9795D9AD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73725-6CDF-44B7-866C-D9598E7D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43603-F41E-4802-8828-E92B6E94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3742E-E600-44DD-AB8B-25BE8E88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531D9-531B-4AE8-9874-FA8C1888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B4E7D-9202-41C1-9954-AB8A7258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CFB46-0F13-4523-97A6-CC42F641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31786-97EC-4E0B-A20D-B7BDF690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72F3A-EB7C-44C3-AD96-BCBB6D8B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CB2-96C2-46DB-86A8-F37238E2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D27F-CEA9-4D0F-8C04-93EBB47F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CEAEF-423A-4DC5-AA7F-EF4CFAEF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5AAB-4B43-4C98-9C6F-EBEE82C2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975AE-859C-4E08-9E54-43A0A7AA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49912-0A2F-49E0-9BCF-27979708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9DF9F-DDD8-43EA-9CCC-07E66927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A3319-E63F-4A39-81FB-65E3F2A6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9E3FD-F18A-4ADC-A9CD-EE50C25B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347F7-A29E-4ACA-B0CF-5874C862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93A65-7C57-4FE7-99D1-9B614917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0940-D954-46F9-86BE-4F6158CC94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77CF-6FAF-46E1-AD14-8501432EBC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2064-E9B6-47D0-BB0B-D86C50304C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4FB2-0CC3-4DCF-985A-D894B36A19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0519-01D4-461F-B53B-42C50C6F48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6211-064A-44F7-95E3-382C4F62F9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652C-2FF7-46B2-B832-4CBBC31895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C1B3-BB7E-4391-8827-739A0328FC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A6B7-88C2-4758-8C28-75DC31CA69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BFB4-2BF1-43DB-8EE1-52DA2F03BE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8FAF-B236-494C-AE70-52EA8393D8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91BF-A2FE-49C3-BC73-B1048240C4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7C93-2F03-411F-A763-29EF3B5559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5ECF-CDF8-4E14-9B57-77C9E10312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3E96-AE9E-45F0-9FCF-3EF4D0EE44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A24C-86BF-4098-BEF5-BB9AF92B14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065C-A39F-4763-9E83-82EC40FE13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BB2F-E1A9-4A03-B250-4E217159BA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3C2F-44EA-49C9-9F50-AFD5291928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4A6B-1F77-4285-85EE-9493FB1980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A8AF-C31A-4FEA-B418-01E4509ACB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8DD2-B11D-431F-A530-69A78C705B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56B4-C4B8-4C2E-B50C-4F25B9DEAA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AEBA-85DA-4822-8786-F7D581B832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DC2C-4941-4846-AE9A-FBDAB28D5F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B510-C7D7-4E6B-95BF-96D2E6B7F9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FFAA-0FEA-45B0-A434-37DD3862FC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234000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ы гражданского 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3" descr="C:\Users\НВ\Desktop\длть.jpg"/>
          <p:cNvPicPr/>
          <p:nvPr/>
        </p:nvPicPr>
        <p:blipFill>
          <a:blip r:embed="rId1"/>
          <a:stretch/>
        </p:blipFill>
        <p:spPr>
          <a:xfrm>
            <a:off x="609480" y="3571920"/>
            <a:ext cx="2335320" cy="2298600"/>
          </a:xfrm>
          <a:prstGeom prst="rect">
            <a:avLst/>
          </a:prstGeom>
          <a:ln w="0">
            <a:noFill/>
          </a:ln>
        </p:spPr>
      </p:pic>
      <p:sp>
        <p:nvSpPr>
          <p:cNvPr id="1109" name="Прямоугольник 4"/>
          <p:cNvSpPr/>
          <p:nvPr/>
        </p:nvSpPr>
        <p:spPr>
          <a:xfrm>
            <a:off x="0" y="11592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ение здравоохранения Липец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астное образовательное автоном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е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Елецкий медицинский колледж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Заголовок 1"/>
          <p:cNvSpPr/>
          <p:nvPr/>
        </p:nvSpPr>
        <p:spPr>
          <a:xfrm>
            <a:off x="6012000" y="4888080"/>
            <a:ext cx="26589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да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курин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Заголовок 1"/>
          <p:cNvSpPr/>
          <p:nvPr/>
        </p:nvSpPr>
        <p:spPr>
          <a:xfrm>
            <a:off x="3459240" y="6375240"/>
            <a:ext cx="22255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ц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ы гражданских правоотношений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о материальные и нематериальные блага, по поводу которых возникают гражданские правоотно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1221840" y="1483920"/>
            <a:ext cx="7921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. 128 Гражданского кодекса РФ определяет следующ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их правоотнош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50560" y="2852280"/>
            <a:ext cx="8821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щи, включая деньги и ценные бумаги, иное имущество, в том числе имущественные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ы и услу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интеллектуальной деятельности, в том числе исключительные права на них (интеллектуальная собствен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териальные бл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2" descr="C:\Users\НВ\Desktop\д.jpg"/>
          <p:cNvPicPr/>
          <p:nvPr/>
        </p:nvPicPr>
        <p:blipFill>
          <a:blip r:embed="rId1"/>
          <a:stretch/>
        </p:blipFill>
        <p:spPr>
          <a:xfrm>
            <a:off x="6804000" y="5445000"/>
            <a:ext cx="1854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к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знаются действия граждан и юридических лиц, направленные на  установление, изменение или прекращение гражданских прав и обязанностей (ст. 153 Гражданского кодекса РФ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Объект 4" descr=""/>
          <p:cNvPicPr/>
          <p:nvPr/>
        </p:nvPicPr>
        <p:blipFill>
          <a:blip r:embed="rId1"/>
          <a:stretch/>
        </p:blipFill>
        <p:spPr>
          <a:xfrm>
            <a:off x="0" y="1773360"/>
            <a:ext cx="4809960" cy="3530520"/>
          </a:xfrm>
          <a:prstGeom prst="rect">
            <a:avLst/>
          </a:prstGeom>
          <a:ln w="0">
            <a:noFill/>
          </a:ln>
        </p:spPr>
      </p:pic>
      <p:pic>
        <p:nvPicPr>
          <p:cNvPr id="1146" name="Объект 5" descr=""/>
          <p:cNvPicPr/>
          <p:nvPr/>
        </p:nvPicPr>
        <p:blipFill>
          <a:blip r:embed="rId2"/>
          <a:stretch/>
        </p:blipFill>
        <p:spPr>
          <a:xfrm>
            <a:off x="4359240" y="3560760"/>
            <a:ext cx="46753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тариальное удостоверен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ок обяза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50560" y="126792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в случаях, указанных в законе  (например, передоверие, ипотека 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в случаях, предусмотренных  соглашением сторон, хотя бы по закону для сделок данного вида эта форма не  требова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2" descr="C:\Users\НВ\Desktop\Новая папка (2)\льд.jpg"/>
          <p:cNvPicPr/>
          <p:nvPr/>
        </p:nvPicPr>
        <p:blipFill>
          <a:blip r:embed="rId1"/>
          <a:stretch/>
        </p:blipFill>
        <p:spPr>
          <a:xfrm>
            <a:off x="6948360" y="4076640"/>
            <a:ext cx="1681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едействительных сдело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250560" y="692280"/>
            <a:ext cx="8893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поримая сделк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сделка, являющаяся недействительной по основаниям, установленным Гражданским кодексом РФ, в силу признания ее таковой су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179280" y="2565360"/>
            <a:ext cx="8785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чтожная сделк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сделка, являющаяся недействительной по основаниям,  установленным Гражданским кодексом РФ, независимо от признания ее таковой су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3" descr="C:\Users\НВ\Desktop\эхб.jpg"/>
          <p:cNvPicPr/>
          <p:nvPr/>
        </p:nvPicPr>
        <p:blipFill>
          <a:blip r:embed="rId1"/>
          <a:stretch/>
        </p:blipFill>
        <p:spPr>
          <a:xfrm>
            <a:off x="5940360" y="4292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 в объективном смысл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совокупность правовых норм, закрепляющих и охраняющих принадлежность материальных благ конкретным лиц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250560" y="1916280"/>
            <a:ext cx="8893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 в субъективном смысл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субъективные права собственника по осуществлению принадлежащим имуществом по своему усмотрению и в своем интересе полного хозяйственного господства, включающее в себя право владения, пользования и распоря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Picture 2" descr="C:\Users\НВ\Desktop\олд.jpg"/>
          <p:cNvPicPr/>
          <p:nvPr/>
        </p:nvPicPr>
        <p:blipFill>
          <a:blip r:embed="rId1"/>
          <a:stretch/>
        </p:blipFill>
        <p:spPr>
          <a:xfrm>
            <a:off x="539640" y="4653000"/>
            <a:ext cx="2194200" cy="187164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3" descr="C:\Users\НВ\Desktop\шщ.jpg"/>
          <p:cNvPicPr/>
          <p:nvPr/>
        </p:nvPicPr>
        <p:blipFill>
          <a:blip r:embed="rId2"/>
          <a:stretch/>
        </p:blipFill>
        <p:spPr>
          <a:xfrm>
            <a:off x="3059280" y="4687920"/>
            <a:ext cx="2782800" cy="18540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4" descr="C:\Users\НВ\Desktop\лд.jpg"/>
          <p:cNvPicPr/>
          <p:nvPr/>
        </p:nvPicPr>
        <p:blipFill>
          <a:blip r:embed="rId3"/>
          <a:stretch/>
        </p:blipFill>
        <p:spPr>
          <a:xfrm>
            <a:off x="6256440" y="4687920"/>
            <a:ext cx="24541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права собственности раскрывается в п. 1 ст. 209 Гражданского кодекса РФ и включает в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234720" y="242064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мочие владения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нная на законе  возможность иметь имущество в своем хозяйстве, фактически обладать 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2916000" y="809280"/>
            <a:ext cx="4608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мочие влад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мочие пользо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мочие распо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0560" y="371628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мочие пользования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нная на законе возможность использования имущества путем  извлечения из него полезных свой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250560" y="4941360"/>
            <a:ext cx="88930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мочие распоряже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основанная на законе возможность определять юридическую судьбу имущества путем продажи, дарения и т.д. вплоть до уничт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Picture 2" descr="C:\Users\НВ\Desktop\i.jpg"/>
          <p:cNvPicPr/>
          <p:nvPr/>
        </p:nvPicPr>
        <p:blipFill>
          <a:blip r:embed="rId1"/>
          <a:stretch/>
        </p:blipFill>
        <p:spPr>
          <a:xfrm>
            <a:off x="1187280" y="836640"/>
            <a:ext cx="10810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ой гарантией защиты права собственности выступае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ое регулирование оснований и порядка прекращения права собственн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Так, право собственности прекращается п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250560" y="1988640"/>
            <a:ext cx="8893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чуждении собственником своего имущества другим лиц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азе собственника от права собствен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бели или уничтожении имущ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утрате права собственности на имущество в иных случаях, предусмотренных зак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Picture 2" descr="C:\Users\НВ\Desktop\Новая папка (2)\що.jpg"/>
          <p:cNvPicPr/>
          <p:nvPr/>
        </p:nvPicPr>
        <p:blipFill>
          <a:blip r:embed="rId1"/>
          <a:stretch/>
        </p:blipFill>
        <p:spPr>
          <a:xfrm>
            <a:off x="6443640" y="5084640"/>
            <a:ext cx="1925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удительное прекращение права собственност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ускается только по снованиям, предусмотренным законом. Принудительное безвозмездное изъятие у собственника имущества допускается только в случа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95280" y="2421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щение взыскания на имущество по обязательств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искация (статья 24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Picture 2" descr="C:\Users\НВ\Desktop\Новая папка (2)\ппро.jpg"/>
          <p:cNvPicPr/>
          <p:nvPr/>
        </p:nvPicPr>
        <p:blipFill>
          <a:blip r:embed="rId1"/>
          <a:stretch/>
        </p:blipFill>
        <p:spPr>
          <a:xfrm>
            <a:off x="5796000" y="3581280"/>
            <a:ext cx="20113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Объект 3" descr=""/>
          <p:cNvPicPr/>
          <p:nvPr/>
        </p:nvPicPr>
        <p:blipFill>
          <a:blip r:embed="rId1"/>
          <a:stretch/>
        </p:blipFill>
        <p:spPr>
          <a:xfrm>
            <a:off x="828720" y="682560"/>
            <a:ext cx="741348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щными правам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яду с правом собственности, в частности, 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179280" y="1052640"/>
            <a:ext cx="885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пожизненного наследуемого владения земельным участ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постоянного (бессрочного) пользования земельным участ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витуты (право ограниченного пользования чужим недвижимым имущество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хозяйственного ведения имуществ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оперативного управления имуществом (ст. 216 Гражданского кодекса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17928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вещных прав установлены законом и не могут устанавливаться догов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гражданского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ие право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ки как юридические факты в гражданском пр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 и иные вещные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2" descr="C:\Users\НВ\Desktop\th12-minust.jpg"/>
          <p:cNvPicPr/>
          <p:nvPr/>
        </p:nvPicPr>
        <p:blipFill>
          <a:blip r:embed="rId1"/>
          <a:stretch/>
        </p:blipFill>
        <p:spPr>
          <a:xfrm>
            <a:off x="6948360" y="260280"/>
            <a:ext cx="18241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29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хозяйственного веден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право государственного или муниципального унитарного предприятия владеть, пользоваться и распоряжаться имуществом государства или муниципального образования в пределах, определяемых в соответствии с Гражданским кодексом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24000" y="3068280"/>
            <a:ext cx="8820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оперативного управлен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право казенного предприятия или учреждения владеть, пользоваться и распоряжаться в отношении закрепленного за ними имущества в пределах, установленных законом, в соответствии с целями своей деятельности, заданиями собственника и назначением иму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атулла В.И. Основы правовых знаний: учеб. пособие для студентов сред. проф. заведений / В.И. Шкалулла, В.В. Надвикова, М.В. Сытинская; под ред. В.И. Шкатуллы. М.: Издательский центр «Академия», 2010. – Глава 4, §1-8, стр. 59-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8508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е прав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отрасль частного права, регулирующая имущественные и связанные с ними личные неимущественные отношения, основанные на равенстве, автономии воли и имущественно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ости их уча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324000" y="2637000"/>
            <a:ext cx="84960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едмет гражданского права вход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250560" y="3212640"/>
            <a:ext cx="7777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муществен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личные неимущественные отношения, связанные с имущественны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чные неимущественные отношения, не связанные с имуществен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Picture 2" descr="C:\Users\НВ\Desktop\льл.jpg"/>
          <p:cNvPicPr/>
          <p:nvPr/>
        </p:nvPicPr>
        <p:blipFill>
          <a:blip r:embed="rId1"/>
          <a:stretch/>
        </p:blipFill>
        <p:spPr>
          <a:xfrm>
            <a:off x="7020000" y="5246640"/>
            <a:ext cx="19047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58840" y="-360"/>
            <a:ext cx="885672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щественные отноше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ключают в себя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Вещные (например, право собственности)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Обязательственные (например, возникающие из договора купли-продажи, причинения вреда имуществу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40760" y="2060640"/>
            <a:ext cx="903636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ые неимущественные отношения, связанные с имущественными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тношения, которые возникают по поводу использования объектов интеллектуальной собственности, в частности, произведений науки литературы и искусства, изобретений, промышленных образцо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287280" y="4292280"/>
            <a:ext cx="885672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ые неимущественные отношения, не связанные с имущественным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- это отношения, которые возникают по поводу нематериальных благ – неотчуждаемых прав и свобод человека (жизнь, здоровье, честь, достоинство, деловая репутация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ы гражданского 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404640" y="243828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Принцип равенства участников граждански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Принцип неприкосновенности собств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Принцип свободы дого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Принцип недопустимости произвольного вмешательства кого-либо в частные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Принцип беспрепятственного осуществления гражданских пр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2" descr="C:\Users\НВ\Desktop\1267130_full1253453340.jpg"/>
          <p:cNvPicPr/>
          <p:nvPr/>
        </p:nvPicPr>
        <p:blipFill>
          <a:blip r:embed="rId1"/>
          <a:stretch/>
        </p:blipFill>
        <p:spPr>
          <a:xfrm>
            <a:off x="374760" y="260280"/>
            <a:ext cx="15238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и гражданского права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ормативные правовые ак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Международные догов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Обычаи делового обор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2" descr="C:\Users\НВ\Desktop\дь.jpg"/>
          <p:cNvPicPr/>
          <p:nvPr/>
        </p:nvPicPr>
        <p:blipFill>
          <a:blip r:embed="rId1"/>
          <a:stretch/>
        </p:blipFill>
        <p:spPr>
          <a:xfrm>
            <a:off x="6012000" y="3789360"/>
            <a:ext cx="20160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03280" y="252360"/>
            <a:ext cx="6483600" cy="18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ы гражданских правоотно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324000" y="24397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ческие л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е л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чные образования (Российская Федерация, субъекты Российской Федерации и муниципальные образова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Picture 2" descr="C:\Users\НВ\Desktop\зщл.jpg"/>
          <p:cNvPicPr/>
          <p:nvPr/>
        </p:nvPicPr>
        <p:blipFill>
          <a:blip r:embed="rId1"/>
          <a:stretch/>
        </p:blipFill>
        <p:spPr>
          <a:xfrm>
            <a:off x="6659640" y="1557360"/>
            <a:ext cx="2193840" cy="14461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3" descr="C:\Users\НВ\Desktop\щдд.jpg"/>
          <p:cNvPicPr/>
          <p:nvPr/>
        </p:nvPicPr>
        <p:blipFill>
          <a:blip r:embed="rId2"/>
          <a:stretch/>
        </p:blipFill>
        <p:spPr>
          <a:xfrm>
            <a:off x="7093080" y="4524480"/>
            <a:ext cx="1587240" cy="22460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C:\Users\НВ\Desktop\дд.jpg"/>
          <p:cNvPicPr/>
          <p:nvPr/>
        </p:nvPicPr>
        <p:blipFill>
          <a:blip r:embed="rId3"/>
          <a:stretch/>
        </p:blipFill>
        <p:spPr>
          <a:xfrm>
            <a:off x="395280" y="458640"/>
            <a:ext cx="165420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26920" y="79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ческие лиц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граждане Российской Федерации, иностранные граждане и лица без гражд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532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ст. 17 Гражданского кодекса РФ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ая правоспособн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способность иметь гражданские права и нести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0" y="1412640"/>
            <a:ext cx="85694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того, чтобы физическое лицо стало субъектом гражданских правоотношений, необходимо чтобы оно обладало правоспособностью и дееспособ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4400" y="3716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 гражданской дееспособностью в соответствии с п.1 ст. 21 Гражданского кодекса РФ понимается способность  гражданина своими действиями приобретать и осуществлять гражданские права, создавать для себя гражданские обязанности и исполнять 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Текст 4"/>
          <p:cNvSpPr/>
          <p:nvPr/>
        </p:nvSpPr>
        <p:spPr>
          <a:xfrm>
            <a:off x="574560" y="5589720"/>
            <a:ext cx="85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ая дееспособность возникает в полном объеме с наступлением совершеннолетия, то есть по достижении восемнадцатилетне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м лицо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ется организация, которая имеет в собственности, хозяйственном ведении или оперативном управлен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собленное имущество и отвечает по своим обязательствам этим имуществом, может от своего имени приобретать и осуществлять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щественные и личные неимущественные права, нести обязанности, быть истцом и ответчиком в суде. Юридические лица должны иметь самостоятельный бал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3" descr="C:\Users\НВ\Desktop\4.jpg"/>
          <p:cNvPicPr/>
          <p:nvPr/>
        </p:nvPicPr>
        <p:blipFill>
          <a:blip r:embed="rId1"/>
          <a:stretch/>
        </p:blipFill>
        <p:spPr>
          <a:xfrm>
            <a:off x="6875640" y="4626000"/>
            <a:ext cx="1584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3:42:41Z</dcterms:created>
  <dc:creator>НВ</dc:creator>
  <dc:description/>
  <dc:language>en-US</dc:language>
  <cp:lastModifiedBy>Надежда</cp:lastModifiedBy>
  <dcterms:modified xsi:type="dcterms:W3CDTF">2013-10-18T16:37:34Z</dcterms:modified>
  <cp:revision>27</cp:revision>
  <dc:subject/>
  <dc:title>Основы гражданского права</dc:title>
</cp:coreProperties>
</file>