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4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356-51FF-427B-A79B-8FFA44F9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434-C90E-49A1-819E-2DC0D64E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3CF8C-5FE8-4E43-8BEF-24BD15D0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26CDA-0AB5-4E89-AEEF-CBEEA7E5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D82D8-354C-4EC8-8C5F-6B5A843B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3F29B-CE8B-4371-8721-0C11AADB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1363D-F76E-482E-BCE2-9CCD0960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02FCF-58A3-47E5-A893-053069D7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BAE24-F843-4BE2-8EB2-E316143A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CF6EC-BD95-4D59-821D-44D67C15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3975C-2124-49B2-90BF-F1B9F8C9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59B4C-EF6D-4612-8FBB-36E5D67C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D67-388E-4865-BAC9-931B7B53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D90AF-0439-43DA-99B3-803B4069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39CDA-6B48-4FA2-A2E7-764B0363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28ECA-077E-4C86-9F50-7CD70464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724D4-67E8-4DBA-8C17-872697BE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37529-06A1-428B-86A9-9D35884C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8C6FA-6C8D-4B1E-AF21-B0C22074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1196F-4DAC-4F90-93E7-8014289D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3E85B-8467-437B-9046-01F5D5B3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BBFEE-D2D5-4D41-9AB2-1C6B744B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6523E-C823-4DC9-A2BD-1FF296A8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12E-BE9E-441F-8F41-138A478C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672AE-F1EC-4025-A1B7-B003AEB6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1F913-D893-4846-AA2D-52075E3A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6C551-BB41-446A-B089-565FB852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B55E4-83E9-41CF-B318-32E3D893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ED61B-B8D3-4FAC-9699-08608CF5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F7774-7358-4BBB-9EB4-CF18C5F3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CB970-E445-4FD5-980A-462BB1F6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75F4E-6921-4CEB-BB2C-0F2B534B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92290-67C6-42E9-9F1B-FD53E18F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3EA15-B7E8-4B1D-A871-AB7F4353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482F-ECD4-47DD-8C98-05A3F17D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70355-B385-4487-9C7C-E98248D9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00C46-B360-44E5-B253-2CC6C782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E8D8F-98CE-4667-8B28-46652D7A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9CE0-D0EA-4DFC-A4EB-1C883504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6F57-E498-48BE-8099-150F49C1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4315-F72D-4D7C-A798-0BFB1B5D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ED6A-CD8D-476C-BDB0-603A1E00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2375-9105-4448-8F6E-EFF0FC08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AD11-633B-48F0-9756-E8BA7796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5BD-8489-427F-B291-871FBBEE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B514-508D-44EF-9C8A-E8692923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7514-F02B-463E-AFAB-2C4E662F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0E41-F141-488A-BC11-57A2B5E2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3ABD-59CC-4980-92F3-5E82565A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471D-E522-45F5-B00C-BBF517EA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135CD-749D-43F6-BE92-42ABFD66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BC37-F0EA-45EB-9601-7F8AFDE1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37A4-582D-4891-BF2A-D7D71139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61DA-2EC2-4677-B86A-29741043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F8DA-B420-4D3B-BDC9-AD26DAE6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032-8660-4DFC-8CB9-F3D0D859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A4559-C6C5-4AAF-86A4-B8261119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9C0B-40F1-4D6B-8380-97A4F79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07EC-99BD-4D07-92F3-E6F07742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8C09-0D32-4F32-913B-6C51E7BE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11F2-55D7-499E-A03E-09953FCE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BF5C-8990-4333-8DA2-E78BCEEE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4103-8B26-495B-9F4A-8632CF58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91E22-721B-4B83-9ACC-242BA328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CB6CD-0620-4296-8EC7-864BCBAC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A7ED-8852-48EE-88BC-2460FB7F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051-0465-4D31-A766-26626D68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E285E-4522-479A-B2C7-6FCAAF7A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E009-BC07-40EF-A9B7-08AD5FBC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A1915-53C8-4387-9B74-B5A39596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C294-076C-4C40-B2F6-D7DC6C77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4B97-3EB8-4FCF-A5CF-C29F47D4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5C216-EF89-4108-981A-3D2BC4E4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4ED61-209A-4110-B764-A5DFADB6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1160B-8A6B-4351-B67A-3E092468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D2A19-3E49-426D-BFB2-D9A23B2C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28BB4-CE75-4907-98A9-CEEE8F70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912-7EA1-48F6-88C5-B423BA60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1473F-49E7-4DF5-9444-2CD7AF34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4997A-A185-4F17-A6EB-2AD8ED70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210DC-F3D3-434B-B454-80BCAB4A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6A50-3322-4FFF-94B6-E1670F88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17105-716C-4403-BA0F-4FB81E79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BB952-38DC-4E50-8640-17C5F283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7C304-35A5-411F-A873-C96085CE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924A7-7626-4F8A-823A-7C7610AA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F59E3-58F7-43BD-AAA9-3530BA10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F0DB4-7801-4D7C-8032-03624A7E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A02-1123-4D58-BC20-04E145F5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BA8AF-F81A-4F28-ABDE-69F433FA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41173-74A9-4CE4-BDB3-1A9D915B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380D2-F16F-4CDC-B5E8-F51ADF35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DCE2C-3DDF-4AB9-B9A0-D2060735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C3635-92EE-46F7-8C7A-69DB045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C1E91-E2A8-4A6E-B24A-40A2D0C5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99115-4CD7-4BE1-87AC-D019C551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BEEC9-C3E3-4767-A830-5BDFF845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BD92C-4DE8-46DE-8344-562E2F97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8AA0C-DD38-446B-890B-01C8E7D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7FD-ED33-4292-871F-E3D9817B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D676C-2ACD-45A5-8DFC-8538545E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97348-BBB2-4109-B304-8D74746C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331EC-C56A-41D6-B662-83204764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6AC1E-F2DD-444C-AF08-311C896F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55B9F-A92B-4407-8F02-6BD15719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CD5D5-B25F-4ECC-A22C-1EFD5A76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75733-40DC-4C04-8BBF-7AF58FC9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35432-3E28-4BEC-9092-83863867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1E4E0-50DD-48FB-A72E-BE5C2E6E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348C9-91D9-47E6-9962-0D1008F1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13E-3892-4D41-8AE3-086A193F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9CC42-677B-4848-8B1E-260246E5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54056-55BE-46DC-B25D-7079E51A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71575-4FEE-4479-8B1C-8E874E58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3F692-9195-4F46-91B9-3A6D3C33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AAC88-0654-4252-B344-6EF75D81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CAC31-92EE-4F6D-AFD0-41914BBC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26857-01A5-4661-A88F-586DDBD2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776EB-068A-4E82-9806-CBAE2B47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E941D-4FED-4B0A-B716-1DE6D67E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9DBD3-E593-4990-8FB4-1562FAD9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655-F165-4E20-B8AD-0000A4ED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F2AA9-3E17-4FEE-847E-90656EC4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95530-2E2A-4B45-8E5C-9F5E6D95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F6D5E-9AEC-4118-BAD4-8B1AD15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5D278-04BD-4226-A612-263B35D1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26FC1-D6AC-4A47-8A09-CBD67F9A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B6050-0B3C-4569-B133-70FD0A29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2877F-C5A8-444D-87F5-9CC2A016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40CE8-D6E4-4BC2-9C8F-51B71DB5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1728D-F7A5-41E2-9543-DE8436C5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74B61-2FA5-4C9F-8050-1795F984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6422-9E0C-4E54-AD49-EBD9A4C77C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DC3E-B4EC-4817-8B15-A15B43C6AA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A5B7-669B-4B08-BD72-1015046E61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C3A3-B0DC-457E-8728-A3155BAC6B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DCE5-C9CD-4730-8286-AA6F0D96AA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5C33-9AAD-498B-849D-EB35718E8D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F556-950B-432F-8709-10F3905628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6FD7-A830-4DE0-A60E-FBD3739641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8F5F-F7EA-4F53-A47C-64C845332C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FDDA-1A2B-4ECC-A601-F8E1A24AEE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5C8A-32BA-41B5-BD39-E7387C5DCB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991280" cy="116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ЛИТИЧЕСКАЯ СИСТЕМА ОБЩЕСТВ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Прямоугольник 3"/>
          <p:cNvSpPr/>
          <p:nvPr/>
        </p:nvSpPr>
        <p:spPr>
          <a:xfrm>
            <a:off x="0" y="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ение здравоохранения Липецкой области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е образовательное учреждение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его профессионального образования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Елецкий медицинский колледж»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Заголовок 1"/>
          <p:cNvSpPr/>
          <p:nvPr/>
        </p:nvSpPr>
        <p:spPr>
          <a:xfrm>
            <a:off x="6300720" y="4724280"/>
            <a:ext cx="24433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л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даватель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курина Н.В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7" name="Picture 8" descr="C:\Users\НВ\Desktop\globe2.gif"/>
          <p:cNvPicPr/>
          <p:nvPr/>
        </p:nvPicPr>
        <p:blipFill>
          <a:blip r:embed="rId1"/>
          <a:stretch/>
        </p:blipFill>
        <p:spPr>
          <a:xfrm>
            <a:off x="6737400" y="493560"/>
            <a:ext cx="1785960" cy="17575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C:\Users\НВ\Desktop\hamam52.ru.jpg"/>
          <p:cNvPicPr/>
          <p:nvPr/>
        </p:nvPicPr>
        <p:blipFill>
          <a:blip r:embed="rId2"/>
          <a:stretch/>
        </p:blipFill>
        <p:spPr>
          <a:xfrm>
            <a:off x="1187280" y="3933720"/>
            <a:ext cx="20163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Объект 3" descr=""/>
          <p:cNvPicPr/>
          <p:nvPr/>
        </p:nvPicPr>
        <p:blipFill>
          <a:blip r:embed="rId1"/>
          <a:stretch/>
        </p:blipFill>
        <p:spPr>
          <a:xfrm>
            <a:off x="-42840" y="0"/>
            <a:ext cx="92422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2530440" cy="10666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спублика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21" name="Объект 4" descr=""/>
          <p:cNvPicPr/>
          <p:nvPr/>
        </p:nvPicPr>
        <p:blipFill>
          <a:blip r:embed="rId1"/>
          <a:stretch/>
        </p:blipFill>
        <p:spPr>
          <a:xfrm>
            <a:off x="0" y="2554200"/>
            <a:ext cx="9144000" cy="43038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2987280" y="115560"/>
            <a:ext cx="5977080" cy="201780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это такая форма правления, при которой высшие органы власти и высшие должностные лица избираются, при этом срок их полномочий конституционно ограничен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2"/>
          <a:stretch/>
        </p:blipFill>
        <p:spPr>
          <a:xfrm>
            <a:off x="1020600" y="189000"/>
            <a:ext cx="1176480" cy="785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"/>
          <p:cNvPicPr/>
          <p:nvPr/>
        </p:nvPicPr>
        <p:blipFill>
          <a:blip r:embed="rId3"/>
          <a:stretch/>
        </p:blipFill>
        <p:spPr>
          <a:xfrm>
            <a:off x="4019400" y="4797360"/>
            <a:ext cx="11764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Схема 1" descr=""/>
          <p:cNvPicPr/>
          <p:nvPr/>
        </p:nvPicPr>
        <p:blipFill>
          <a:blip r:embed="rId1"/>
          <a:stretch/>
        </p:blipFill>
        <p:spPr>
          <a:xfrm>
            <a:off x="-42840" y="0"/>
            <a:ext cx="919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3249720" cy="1143000"/>
          </a:xfrm>
          <a:prstGeom prst="rect">
            <a:avLst/>
          </a:prstGeom>
          <a:solidFill>
            <a:srgbClr val="85a3ff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рма государственного устройства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27" name="Объект 4" descr=""/>
          <p:cNvPicPr/>
          <p:nvPr/>
        </p:nvPicPr>
        <p:blipFill>
          <a:blip r:embed="rId1"/>
          <a:stretch/>
        </p:blipFill>
        <p:spPr>
          <a:xfrm>
            <a:off x="176040" y="3273480"/>
            <a:ext cx="8858520" cy="34812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3348000" y="115560"/>
            <a:ext cx="5796000" cy="3025800"/>
          </a:xfrm>
          <a:prstGeom prst="rect">
            <a:avLst/>
          </a:prstGeom>
          <a:solidFill>
            <a:srgbClr val="153fba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это административно-территориальное и национальное строение государства, которое раскрывает характер взаимоотношений между его составными частями, между центральными и местными органами государственной власт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2592360" cy="9986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нитарное государство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2592360" cy="63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зна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78920" y="2852640"/>
            <a:ext cx="8713800" cy="3889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йствует одна конституция, единая система законодательства, одно гражданств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ункционирует единая денежная система, проводится обязательная для всех административно-территориальных единиц общая налоговая и кредитная полити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ществуют единые представительные, исполнительные и судебные органы, которые осуществляют руководство соответствующими органами местного самоуправл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058920" y="189000"/>
            <a:ext cx="5833800" cy="2448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единое государственное образование, состоящее из административно-территориальных единиц, которые подчиняются центральным органам власти и признаками государственного суверенитета не обладают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2601720" cy="9223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едерация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131640" y="188640"/>
            <a:ext cx="5761080" cy="1655640"/>
          </a:xfrm>
          <a:prstGeom prst="rect">
            <a:avLst/>
          </a:prstGeom>
          <a:solidFill>
            <a:srgbClr val="153fba"/>
          </a:solidFill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ровольное объединение нескольких ранее самостоятельных государственных образований в одно союзное государ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23640" y="2491920"/>
            <a:ext cx="8569080" cy="4249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1) верховная законодательная, исполнительная и судебная власть принадлежит федеральным органам государственной власти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2) конституция разграничивает полномочия субъектов федерации и самой федерации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3) субъекты федерации могут принимать свои конституции, уставы, законы и иные нормативные правовые акты; они имеют свои высшие органы представительной, исполнительной и судебной власти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4) имеется двойное гражданство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5) наличие двухпалатного парламента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6) двухканальная система налогов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640" y="1699920"/>
            <a:ext cx="2592360" cy="63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зна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920" y="783720"/>
            <a:ext cx="2890800" cy="99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федерация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564000" y="189000"/>
            <a:ext cx="5256000" cy="640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юз суверенных государств для достижения конкретных целей, при которой объединившиеся государства, полностью сохраняя суверенитет и значительную независимость, передают часть своих властных полномочий совместным органам власти для координации некоторых действ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27" descr="j0346765"/>
          <p:cNvPicPr/>
          <p:nvPr/>
        </p:nvPicPr>
        <p:blipFill>
          <a:blip r:embed="rId1"/>
          <a:stretch/>
        </p:blipFill>
        <p:spPr>
          <a:xfrm>
            <a:off x="1187280" y="115920"/>
            <a:ext cx="9781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518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84360" y="2492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итические режим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осударство как главный институт политической систем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" name="Picture 4" descr="C:\Users\НВ\Desktop\network.jpg"/>
          <p:cNvPicPr/>
          <p:nvPr/>
        </p:nvPicPr>
        <p:blipFill>
          <a:blip r:embed="rId1"/>
          <a:stretch/>
        </p:blipFill>
        <p:spPr>
          <a:xfrm>
            <a:off x="5870520" y="262080"/>
            <a:ext cx="3078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3249720" cy="1143000"/>
          </a:xfrm>
          <a:prstGeom prst="rect">
            <a:avLst/>
          </a:prstGeom>
          <a:solidFill>
            <a:srgbClr val="85a3ff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итический режим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93" name="Объект 4" descr=""/>
          <p:cNvPicPr/>
          <p:nvPr/>
        </p:nvPicPr>
        <p:blipFill>
          <a:blip r:embed="rId1"/>
          <a:stretch/>
        </p:blipFill>
        <p:spPr>
          <a:xfrm>
            <a:off x="176040" y="3273480"/>
            <a:ext cx="8858520" cy="34812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3492000" y="115560"/>
            <a:ext cx="5472360" cy="3025800"/>
          </a:xfrm>
          <a:prstGeom prst="rect">
            <a:avLst/>
          </a:prstGeom>
          <a:solidFill>
            <a:srgbClr val="153fba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окупность приемов, методов и способов осуществления государственной власти в обществе, характеризует степень политической свободы, правовое положение личности в обществе и определенный тип политической системы, существующей в стра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Схема 1" descr=""/>
          <p:cNvPicPr/>
          <p:nvPr/>
        </p:nvPicPr>
        <p:blipFill>
          <a:blip r:embed="rId1"/>
          <a:stretch/>
        </p:blipFill>
        <p:spPr>
          <a:xfrm>
            <a:off x="420840" y="0"/>
            <a:ext cx="82659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576360"/>
          </a:xfrm>
          <a:prstGeom prst="rect">
            <a:avLst/>
          </a:prstGeom>
          <a:solidFill>
            <a:srgbClr val="c000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сударство как главный институт политической системы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590560" cy="504720"/>
          </a:xfrm>
          <a:prstGeom prst="rect">
            <a:avLst/>
          </a:prstGeom>
          <a:solidFill>
            <a:srgbClr val="7030a0"/>
          </a:solidFill>
          <a:ln w="9360">
            <a:solidFill>
              <a:srgbClr val="ffff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судар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03280" y="836640"/>
            <a:ext cx="5616360" cy="3744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txBody>
          <a:bodyPr anchor="b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обая организация политической власти общества, обладающая публичной властью, суверенитетом, располагающая специальным аппаратом, осуществляющим на профессиональной основе функции управления, имеющая возможность принимать общеобязательные веления в отношении всех граждан, проживающих на ее территор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9" name="Picture 2" descr="C:\Users\НВ\Desktop\depositphotos_3165888-Gold-world-cup-2010-vector.jpg"/>
          <p:cNvPicPr/>
          <p:nvPr/>
        </p:nvPicPr>
        <p:blipFill>
          <a:blip r:embed="rId2"/>
          <a:stretch/>
        </p:blipFill>
        <p:spPr>
          <a:xfrm>
            <a:off x="250920" y="184464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C:\Users\НВ\Desktop\803.jpg"/>
          <p:cNvPicPr/>
          <p:nvPr/>
        </p:nvPicPr>
        <p:blipFill>
          <a:blip r:embed="rId3"/>
          <a:stretch/>
        </p:blipFill>
        <p:spPr>
          <a:xfrm>
            <a:off x="3276720" y="4703760"/>
            <a:ext cx="2911320" cy="19861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C:\Users\НВ\Desktop\1253352913_29.jpg"/>
          <p:cNvPicPr/>
          <p:nvPr/>
        </p:nvPicPr>
        <p:blipFill>
          <a:blip r:embed="rId4"/>
          <a:stretch/>
        </p:blipFill>
        <p:spPr>
          <a:xfrm>
            <a:off x="679320" y="4659480"/>
            <a:ext cx="1949760" cy="2030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C:\Users\НВ\Desktop\77710643_2822077_13590b9c20023.jpg"/>
          <p:cNvPicPr/>
          <p:nvPr/>
        </p:nvPicPr>
        <p:blipFill>
          <a:blip r:embed="rId5"/>
          <a:stretch/>
        </p:blipFill>
        <p:spPr>
          <a:xfrm>
            <a:off x="6804000" y="4678200"/>
            <a:ext cx="18097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solidFill>
            <a:srgbClr val="cc0099"/>
          </a:solidFill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утренние функции государства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7030a0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экономическая (выработка экономической политики, установление правовых основ рынка и ценовой политики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социальная (создание условий, обеспечивающих достойную жизнь и свободное развитие человека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экологическ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строительство гидромелиоративных, ирригационных, транспортных и иных общественных систе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информационн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взимание налог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) охранительн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ешние функции государства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95280" y="1483920"/>
            <a:ext cx="4633920" cy="2644920"/>
          </a:xfrm>
          <a:prstGeom prst="rect">
            <a:avLst/>
          </a:prstGeom>
          <a:solidFill>
            <a:srgbClr val="819df1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боронн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внешнеэкономическ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культурного сотрудниче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дипломатическ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экологическ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информационн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Picture 2" descr="C:\Users\НВ\Desktop\post-3-12955468722069.jpg"/>
          <p:cNvPicPr/>
          <p:nvPr/>
        </p:nvPicPr>
        <p:blipFill>
          <a:blip r:embed="rId1"/>
          <a:stretch/>
        </p:blipFill>
        <p:spPr>
          <a:xfrm>
            <a:off x="5076720" y="1143000"/>
            <a:ext cx="2279880" cy="1709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C:\Users\НВ\Desktop\9may_victorydayparade_machinery01.jpg"/>
          <p:cNvPicPr/>
          <p:nvPr/>
        </p:nvPicPr>
        <p:blipFill>
          <a:blip r:embed="rId2"/>
          <a:stretch/>
        </p:blipFill>
        <p:spPr>
          <a:xfrm>
            <a:off x="6443640" y="2565360"/>
            <a:ext cx="2522520" cy="16225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C:\Users\НВ\Desktop\a2264ef3be190ea09c095ecfffd.jpg"/>
          <p:cNvPicPr/>
          <p:nvPr/>
        </p:nvPicPr>
        <p:blipFill>
          <a:blip r:embed="rId3"/>
          <a:stretch/>
        </p:blipFill>
        <p:spPr>
          <a:xfrm>
            <a:off x="4575240" y="4005360"/>
            <a:ext cx="2444760" cy="18334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C:\Users\НВ\Desktop\i.jpg"/>
          <p:cNvPicPr/>
          <p:nvPr/>
        </p:nvPicPr>
        <p:blipFill>
          <a:blip r:embed="rId4"/>
          <a:stretch/>
        </p:blipFill>
        <p:spPr>
          <a:xfrm>
            <a:off x="7236000" y="115920"/>
            <a:ext cx="1730160" cy="1279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C:\Users\НВ\Desktop\i.jpg"/>
          <p:cNvPicPr/>
          <p:nvPr/>
        </p:nvPicPr>
        <p:blipFill>
          <a:blip r:embed="rId5"/>
          <a:stretch/>
        </p:blipFill>
        <p:spPr>
          <a:xfrm>
            <a:off x="6840360" y="5014800"/>
            <a:ext cx="19083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Объект 3" descr=""/>
          <p:cNvPicPr/>
          <p:nvPr/>
        </p:nvPicPr>
        <p:blipFill>
          <a:blip r:embed="rId1"/>
          <a:stretch/>
        </p:blipFill>
        <p:spPr>
          <a:xfrm>
            <a:off x="249120" y="622440"/>
            <a:ext cx="8802720" cy="5254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1" descr="j0237940"/>
          <p:cNvPicPr/>
          <p:nvPr/>
        </p:nvPicPr>
        <p:blipFill>
          <a:blip r:embed="rId2"/>
          <a:stretch/>
        </p:blipFill>
        <p:spPr>
          <a:xfrm>
            <a:off x="1020600" y="765000"/>
            <a:ext cx="1151280" cy="814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C:\Users\НВ\Desktop\virtual-team3.jpg.jpg"/>
          <p:cNvPicPr/>
          <p:nvPr/>
        </p:nvPicPr>
        <p:blipFill>
          <a:blip r:embed="rId3"/>
          <a:stretch/>
        </p:blipFill>
        <p:spPr>
          <a:xfrm>
            <a:off x="7093080" y="779400"/>
            <a:ext cx="1174680" cy="7844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7" descr="j0346765"/>
          <p:cNvPicPr/>
          <p:nvPr/>
        </p:nvPicPr>
        <p:blipFill>
          <a:blip r:embed="rId4"/>
          <a:stretch/>
        </p:blipFill>
        <p:spPr>
          <a:xfrm>
            <a:off x="4135320" y="2492280"/>
            <a:ext cx="9781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274608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нархия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348000" y="691920"/>
            <a:ext cx="5688000" cy="5545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форма правления, при которой верховная власть в государстве принадлежит одному лицу, получающему эту власть в порядке престолонаследия. Для монархии характерно пожизненное правление и юридическая безответственность монарх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Picture 31" descr="j0237940"/>
          <p:cNvPicPr/>
          <p:nvPr/>
        </p:nvPicPr>
        <p:blipFill>
          <a:blip r:embed="rId1"/>
          <a:stretch/>
        </p:blipFill>
        <p:spPr>
          <a:xfrm>
            <a:off x="1116000" y="193680"/>
            <a:ext cx="115092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3:36:25Z</dcterms:created>
  <dc:creator>НВ</dc:creator>
  <dc:description/>
  <dc:language>en-US</dc:language>
  <cp:lastModifiedBy>Надежда</cp:lastModifiedBy>
  <dcterms:modified xsi:type="dcterms:W3CDTF">2013-10-18T16:16:54Z</dcterms:modified>
  <cp:revision>33</cp:revision>
  <dc:subject/>
  <dc:title>СОЦИОЛОГИЯ КАК НАУКА</dc:title>
</cp:coreProperties>
</file>