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6057-A07F-4191-8508-ABA95FAF4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1C88-3FEC-471D-8BA7-D82090FCD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0FB7-D3EA-498A-8B25-05212AF00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3224-39DD-4C9D-B33A-8DF5301C1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20608-23EF-45DC-B025-8C43B6727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36D7D-DAB1-40D8-80E3-75211DF4E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F2B8B-1710-44B4-8CA8-03319F85E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D970D-D04F-42C0-89F7-85FD4A27C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8F653-7406-4544-BF94-455D4D44C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95E4E-F2AC-4679-A9D2-F9B2F7251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88273-6DEA-4047-B244-D86CDF084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FAF2-D074-4238-8BC0-A0B1E9293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51298-9F67-4B7C-A2C2-47D9F7EBC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57B4E-0E96-4064-A437-D2E312BC8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159FE-9036-4419-BAB6-762D40E8F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8B4CA-5B36-4943-BB7D-A5DB3F745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4F263-E548-4D6B-A9CC-BCDF398F7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52FFE7-9EDD-42A7-A2D6-0403DCD3B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B8EF44-C540-4C20-ADFA-7FA434BEE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3E1201-E43D-457D-AD69-FD9817113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B09832-83DE-4610-A8FB-4198C713C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7F64CB-F63A-4B73-89F1-7CF5280F5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4469-1F94-40E2-9D92-9670E9682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1449AA-F1C7-4C4F-B427-F79B74ADE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D9CA1E-F693-4ED9-96CA-B7AB03843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D631E0-FC60-43E6-BA96-B8DA90E66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1F8D84-34D1-41E4-AFEB-3E59E997F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91FC74-6CDA-4FBA-A674-BF460E00C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548210-0332-46E2-8D6C-395163C00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3AC878-3668-49C8-A0F2-91BBF59C2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561198-23B7-4D8E-8835-E952FDD0B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F24576-2BB3-45CE-BA03-4CAAF094E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EBDAA1-820C-4E1C-9E83-C44F27769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9807-EDFF-428F-87EF-CE22C35E5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D0A8D2-A05B-4D9B-B902-5324344E2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9A0555-2652-44A8-90B2-E12E1C3D6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DF5094-87BE-414D-A45F-ABD690E7C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FB92DA-9BBD-4200-9DF4-953AAA328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681E38-7B40-4811-A349-5D04C8D12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743679-B287-46E3-9C5B-F94A8726E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DC557E-5CF1-40F9-A474-8CDFC2249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37EF3A-1A6D-4600-919C-BDAD20BDC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DD4440-EBC1-4D3A-95AD-837597E08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43C48D-C425-4D04-A28B-E37300434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5A3B-D45D-4C25-B6A9-85FA3109B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F74422-CC93-47CA-B95F-F1BD8705F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E234E9-8B12-4AAA-AB99-9E0385DC9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BF5922-7583-4018-8FDF-7778EF44B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EE4434-200A-4FAA-B48B-7B7DA1EA5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98468E-2668-478D-ACAF-8214ACA67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CF476C-F82B-4236-9A31-20BDBDA23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4C4F3D-38C9-46C9-B97E-A70AAF676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402B82-DC6E-42FD-85E7-31B988F1A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E67962-326D-41A7-874C-9192CD251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79B48A-1522-4D72-AF67-224BDD10F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1D52-F05A-4896-AF8C-C236E1DE6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901EA7-2A3E-4A18-9495-DBC0FEA24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A8E82E-AF8C-43BA-A32C-EF6C231CE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B73DBF-AC5D-4B4F-BC2D-6405E5402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A69709-AF5C-43F5-812A-F4BC6A736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0B6418-8E7B-4FBE-A674-9BF03C491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AFA68B-6C0E-4E92-9476-DF30D9ABD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35F3A2-BB9F-4D90-A203-2F5F55A99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4B8650-2FF7-4000-A323-80D2698C6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42F888-7B5D-45F1-B40F-E2CCD1F58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73050B-96C9-4C99-8A92-1C780A0EE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74E5-B9E9-42CE-89ED-399698DB3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8CE63F-F63C-4049-B58F-EC93900C9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EB285F-E55C-446C-9631-694EF3A42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A27DDD-57FF-4606-8462-3551061D9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99B2-A421-4A2A-BB4F-03E42C9D4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4C58-EBDF-462C-B569-B2D6C9336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C22E4-6FC7-4285-920E-5665B5DFFEBC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5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1" name="Полилиния 18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8" descr=""/>
              <p:cNvPicPr/>
              <p:nvPr/>
            </p:nvPicPr>
            <p:blipFill>
              <a:blip r:embed="rId3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pic>
          <p:nvPicPr>
            <p:cNvPr id="54" name="Прямая соединительная линия 19" descr=""/>
            <p:cNvPicPr/>
            <p:nvPr/>
          </p:nvPicPr>
          <p:blipFill>
            <a:blip r:embed="rId4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D72E2-DA7B-4E87-9B3F-B859F1C2AA7F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Нашивка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898C9-2243-4BAA-886A-7580412B3F6A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58403-6053-4A12-8C83-CEF22829C0B8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20004-8D2D-4061-96D5-CD6FC89D7746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Полилиния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Полилиния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29" name="Прямоугольный треугольник 15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0" name="Прямоугольный треугольник 15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32" name="Прямая соединительная линия 16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3" name="Нашивка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Нашивка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6013D-CCCF-471F-BBB1-C3139DF38326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66960" indent="-49536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da1f28"/>
                </a:solidFill>
                <a:latin typeface="Lucida Sans Unicode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da1f28"/>
                </a:solidFill>
                <a:latin typeface="Lucida Sans Unicode"/>
              </a:rPr>
              <a:t>                                                                                                              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277" name="Rectangle 4" descr=""/>
          <p:cNvPicPr/>
          <p:nvPr/>
        </p:nvPicPr>
        <p:blipFill>
          <a:blip r:embed="rId1"/>
          <a:stretch/>
        </p:blipFill>
        <p:spPr>
          <a:xfrm>
            <a:off x="566640" y="298440"/>
            <a:ext cx="8016840" cy="622440"/>
          </a:xfrm>
          <a:prstGeom prst="rect">
            <a:avLst/>
          </a:prstGeom>
          <a:ln w="0">
            <a:noFill/>
          </a:ln>
        </p:spPr>
      </p:pic>
      <p:sp>
        <p:nvSpPr>
          <p:cNvPr id="278" name="Прямоугольник 4"/>
          <p:cNvSpPr/>
          <p:nvPr/>
        </p:nvSpPr>
        <p:spPr>
          <a:xfrm>
            <a:off x="1066680" y="1219320"/>
            <a:ext cx="73152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Что такое внимание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иды внима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войства внима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ичины невнимательност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оявления синдромов дефицита             внимания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Упражнения на развитие внима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Прямоугольник 5"/>
          <p:cNvSpPr/>
          <p:nvPr/>
        </p:nvSpPr>
        <p:spPr>
          <a:xfrm>
            <a:off x="2362320" y="304920"/>
            <a:ext cx="632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b641b"/>
                </a:solidFill>
                <a:latin typeface="Verdana"/>
              </a:rPr>
              <a:t>Развитие вним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13. Теряет вещи, необходимые в школе и дома (например, игрушки, карандаши, книги и одежду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14. Часто совершает опасные действия, не задумываясь о последствиях (например, выбегает на улицу, не оглядываясь по сторонам). При этом не ищет приключений или острых ощущений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черезмерная двигательная активность (симптомы 1, 2, 9, 10),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отвлекаемость - невнимательность (симптомы 3, 6, 7, 8, 12, 13)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импульсивности (симптомы 4, 5, 11, 14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Наличие 8 и более симптомов – признаки синдрома дефицита внимания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06" name="Rectangle 2" descr=""/>
          <p:cNvPicPr/>
          <p:nvPr/>
        </p:nvPicPr>
        <p:blipFill>
          <a:blip r:embed="rId1"/>
          <a:stretch/>
        </p:blipFill>
        <p:spPr>
          <a:xfrm>
            <a:off x="755640" y="225360"/>
            <a:ext cx="8242200" cy="1152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" dur="50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" dur="50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50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 txBox="1"/>
          <p:nvPr/>
        </p:nvSpPr>
        <p:spPr>
          <a:xfrm>
            <a:off x="380880" y="1523880"/>
            <a:ext cx="8229600" cy="46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Lucida Sans Unicode"/>
              </a:rPr>
              <a:t>1. «Успевай-ка». </a:t>
            </a:r>
            <a:r>
              <a:rPr b="0" lang="ru-RU" sz="2200" spc="-1" strike="noStrike">
                <a:solidFill>
                  <a:srgbClr val="000000"/>
                </a:solidFill>
                <a:latin typeface="Lucida Sans Unicode"/>
              </a:rPr>
              <a:t>Взрослый называет цифры, а ребенок, услышав условленную  цифру ,например, 8,  говорит «Стоп». Можно усложнить правила: «Стоп» говорить, если перед числом 8 назвали 7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457200" indent="-457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Lucida Sans Unicode"/>
              </a:rPr>
              <a:t>. Переписать без ошибок зашифрованные слова, а затем расшифровать. Например</a:t>
            </a:r>
            <a:r>
              <a:rPr b="1" lang="ru-RU" sz="2200" spc="-1" strike="noStrike">
                <a:solidFill>
                  <a:srgbClr val="000000"/>
                </a:solidFill>
                <a:latin typeface="Lucida Sans Unicode"/>
              </a:rPr>
              <a:t>: АВОРОК, АЛОКШ, КИНЕЧУ, АДОГОП, АЛКУК, ТЕЛОМАС, АНИШАМ, РОФОТЕВС, ЬЛИБОМОТВА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457200" indent="-457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Lucida Sans Unicode"/>
              </a:rPr>
              <a:t>3. Корректурная проба (тест Бурдона). </a:t>
            </a:r>
            <a:r>
              <a:rPr b="0" lang="ru-RU" sz="2200" spc="-1" strike="noStrike">
                <a:solidFill>
                  <a:srgbClr val="000000"/>
                </a:solidFill>
                <a:latin typeface="Lucida Sans Unicode"/>
              </a:rPr>
              <a:t>Таблица букв, написанных в различном порядке. Надо быстро вычеркивать только определенные буквы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457200" indent="-457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Lucida Sans Unicode"/>
              </a:rPr>
              <a:t>4. Найти «спрятавшиеся» слова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457200" indent="-457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457200" indent="-457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08" name="Заголовок 1" descr=""/>
          <p:cNvPicPr/>
          <p:nvPr/>
        </p:nvPicPr>
        <p:blipFill>
          <a:blip r:embed="rId1"/>
          <a:stretch/>
        </p:blipFill>
        <p:spPr>
          <a:xfrm>
            <a:off x="603360" y="208080"/>
            <a:ext cx="8242200" cy="1170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" dur="50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" dur="50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50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5. </a:t>
            </a: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Решить задачу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: на столе лежали: книга, ручка, краски, фломастер, тушь. Один предмет убрали и заменили другим. И оказалось, что на столе лежат: ручка, тушь. ластик, книга, краски. Что убрали со стола  и что положили на стол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6. Игра </a:t>
            </a: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«Летает – не летает»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700" spc="-1" strike="noStrike">
                <a:solidFill>
                  <a:srgbClr val="000000"/>
                </a:solidFill>
                <a:latin typeface="Lucida Sans Unicode"/>
              </a:rPr>
              <a:t>        </a:t>
            </a:r>
            <a:endParaRPr b="0" lang="en-US" sz="4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12" name="Заголовок 4" descr=""/>
          <p:cNvPicPr/>
          <p:nvPr/>
        </p:nvPicPr>
        <p:blipFill>
          <a:blip r:embed="rId1"/>
          <a:stretch/>
        </p:blipFill>
        <p:spPr>
          <a:xfrm>
            <a:off x="407880" y="146160"/>
            <a:ext cx="5164200" cy="527364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5" descr="C:\Users\Илья\Desktop\images.jpg"/>
          <p:cNvPicPr/>
          <p:nvPr/>
        </p:nvPicPr>
        <p:blipFill>
          <a:blip r:embed="rId2"/>
          <a:stretch/>
        </p:blipFill>
        <p:spPr>
          <a:xfrm>
            <a:off x="5715000" y="3124080"/>
            <a:ext cx="2019240" cy="25336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9" dur="2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700" spc="-1" strike="noStrike">
                <a:solidFill>
                  <a:srgbClr val="000000"/>
                </a:solidFill>
                <a:latin typeface="Lucida Sans Unicode"/>
              </a:rPr>
              <a:t>Если люди говорят плохое о твоих детях — это значит, они говорят плохое о тебе.</a:t>
            </a:r>
            <a:endParaRPr b="0" lang="en-US" sz="4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15" name="Rectangle 2" descr=""/>
          <p:cNvPicPr/>
          <p:nvPr/>
        </p:nvPicPr>
        <p:blipFill>
          <a:blip r:embed="rId1"/>
          <a:stretch/>
        </p:blipFill>
        <p:spPr>
          <a:xfrm>
            <a:off x="255600" y="365040"/>
            <a:ext cx="8211960" cy="13114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7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ru-RU" sz="4700" spc="-1" strike="noStrike">
                <a:solidFill>
                  <a:srgbClr val="000000"/>
                </a:solidFill>
                <a:latin typeface="Lucida Sans Unicode"/>
              </a:rPr>
              <a:t>Быть бессмысленно добрым так же глупо, </a:t>
            </a:r>
            <a:endParaRPr b="0" lang="en-US" sz="4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7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ru-RU" sz="4700" spc="-1" strike="noStrike">
                <a:solidFill>
                  <a:srgbClr val="000000"/>
                </a:solidFill>
                <a:latin typeface="Lucida Sans Unicode"/>
              </a:rPr>
              <a:t>как и быть безумно    строгим. </a:t>
            </a:r>
            <a:endParaRPr b="0" lang="en-US" sz="4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17" name="Rectangle 2" descr=""/>
          <p:cNvPicPr/>
          <p:nvPr/>
        </p:nvPicPr>
        <p:blipFill>
          <a:blip r:embed="rId1"/>
          <a:stretch/>
        </p:blipFill>
        <p:spPr>
          <a:xfrm>
            <a:off x="285840" y="219240"/>
            <a:ext cx="8407440" cy="12078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000000"/>
                </a:solidFill>
                <a:latin typeface="Lucida Sans Unicode"/>
              </a:rPr>
              <a:t>Любить детей — это и курица умеет. А вот уметь воспитывать их — это великое  дело, требующее таланта и широкого знания жизни. </a:t>
            </a:r>
            <a:endParaRPr b="0" lang="en-US" sz="4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19" name="Rectangle 2" descr=""/>
          <p:cNvPicPr/>
          <p:nvPr/>
        </p:nvPicPr>
        <p:blipFill>
          <a:blip r:embed="rId1"/>
          <a:stretch/>
        </p:blipFill>
        <p:spPr>
          <a:xfrm>
            <a:off x="268200" y="219240"/>
            <a:ext cx="8425080" cy="12078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000000"/>
                </a:solidFill>
                <a:latin typeface="Lucida Sans Unicode"/>
              </a:rPr>
              <a:t>Знаете ли, какой самый верный способ сделать вашего ребенка несчастным,— это приучить его не встречать ни в чем отказа. </a:t>
            </a:r>
            <a:endParaRPr b="0" lang="en-US" sz="4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21" name="Rectangle 2" descr=""/>
          <p:cNvPicPr/>
          <p:nvPr/>
        </p:nvPicPr>
        <p:blipFill>
          <a:blip r:embed="rId1"/>
          <a:stretch/>
        </p:blipFill>
        <p:spPr>
          <a:xfrm>
            <a:off x="317520" y="268200"/>
            <a:ext cx="8375760" cy="11588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Lucida Sans Unicode"/>
              </a:rPr>
              <a:t>Без хороших отцов 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ru-RU" sz="4400" spc="-1" strike="noStrike">
                <a:solidFill>
                  <a:srgbClr val="000000"/>
                </a:solidFill>
                <a:latin typeface="Lucida Sans Unicode"/>
              </a:rPr>
              <a:t>нет хорошего воспитания,    несмотря на все школы. 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23" name="Rectangle 2" descr=""/>
          <p:cNvPicPr/>
          <p:nvPr/>
        </p:nvPicPr>
        <p:blipFill>
          <a:blip r:embed="rId1"/>
          <a:stretch/>
        </p:blipFill>
        <p:spPr>
          <a:xfrm>
            <a:off x="285840" y="219240"/>
            <a:ext cx="8407440" cy="12078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 txBox="1"/>
          <p:nvPr/>
        </p:nvSpPr>
        <p:spPr>
          <a:xfrm>
            <a:off x="45720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281" name="Заголовок 1" descr=""/>
          <p:cNvPicPr/>
          <p:nvPr/>
        </p:nvPicPr>
        <p:blipFill>
          <a:blip r:embed="rId1"/>
          <a:stretch/>
        </p:blipFill>
        <p:spPr>
          <a:xfrm>
            <a:off x="255600" y="268200"/>
            <a:ext cx="8589960" cy="52246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Lucida Sans Unicode"/>
              </a:rPr>
              <a:t>Когда ругаешь ребенка, подумай, нет ли в тебе этих качеств, ведь это же ТВОЙ ребенок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25" name="Rectangle 2" descr=""/>
          <p:cNvPicPr/>
          <p:nvPr/>
        </p:nvPicPr>
        <p:blipFill>
          <a:blip r:embed="rId1"/>
          <a:stretch/>
        </p:blipFill>
        <p:spPr>
          <a:xfrm>
            <a:off x="365040" y="244440"/>
            <a:ext cx="8328240" cy="11826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В воспитании детей с дефицитом внимания необходимо избегать двух крайностей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1. Проявления чрезмерной жалости и вседозволенности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2. Постановки перед ним повышенных требований, которые он не в состоянии выполнять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27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" dur="1000"/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" dur="1000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1000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Rectangle 4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341360"/>
          </a:xfrm>
          <a:prstGeom prst="rect">
            <a:avLst/>
          </a:prstGeom>
          <a:ln w="0">
            <a:noFill/>
          </a:ln>
        </p:spPr>
      </p:pic>
      <p:pic>
        <p:nvPicPr>
          <p:cNvPr id="283" name="Схема 4" descr=""/>
          <p:cNvPicPr/>
          <p:nvPr/>
        </p:nvPicPr>
        <p:blipFill>
          <a:blip r:embed="rId2"/>
          <a:stretch/>
        </p:blipFill>
        <p:spPr>
          <a:xfrm>
            <a:off x="1494000" y="1390680"/>
            <a:ext cx="6162480" cy="4076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Заголовок 1" descr=""/>
          <p:cNvPicPr/>
          <p:nvPr/>
        </p:nvPicPr>
        <p:blipFill>
          <a:blip r:embed="rId1"/>
          <a:stretch/>
        </p:blipFill>
        <p:spPr>
          <a:xfrm>
            <a:off x="907920" y="-122400"/>
            <a:ext cx="8242560" cy="890640"/>
          </a:xfrm>
          <a:prstGeom prst="rect">
            <a:avLst/>
          </a:prstGeom>
          <a:ln w="0">
            <a:noFill/>
          </a:ln>
        </p:spPr>
      </p:pic>
      <p:sp>
        <p:nvSpPr>
          <p:cNvPr id="285" name="Овал 4"/>
          <p:cNvSpPr/>
          <p:nvPr/>
        </p:nvSpPr>
        <p:spPr>
          <a:xfrm>
            <a:off x="304920" y="3505320"/>
            <a:ext cx="4190760" cy="2819160"/>
          </a:xfrm>
          <a:prstGeom prst="ellipse">
            <a:avLst/>
          </a:prstGeom>
          <a:noFill/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Овал 5"/>
          <p:cNvSpPr/>
          <p:nvPr/>
        </p:nvSpPr>
        <p:spPr>
          <a:xfrm>
            <a:off x="5029200" y="685800"/>
            <a:ext cx="3505320" cy="2362320"/>
          </a:xfrm>
          <a:prstGeom prst="ellipse">
            <a:avLst/>
          </a:prstGeom>
          <a:noFill/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Прямоугольник 6"/>
          <p:cNvSpPr/>
          <p:nvPr/>
        </p:nvSpPr>
        <p:spPr>
          <a:xfrm flipV="1" rot="10800000">
            <a:off x="990720" y="136800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КОНЦЕНТРАЦИ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(ученик может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осредоточить своё внимание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Прямоугольник 7"/>
          <p:cNvSpPr/>
          <p:nvPr/>
        </p:nvSpPr>
        <p:spPr>
          <a:xfrm flipV="1" rot="10800000">
            <a:off x="5791320" y="1073520"/>
            <a:ext cx="2590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УСТОЙЧИВОСТЬ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(ученик может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удерживать  внимание  на изучаемом объекте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Овал 9"/>
          <p:cNvSpPr/>
          <p:nvPr/>
        </p:nvSpPr>
        <p:spPr>
          <a:xfrm>
            <a:off x="457200" y="762120"/>
            <a:ext cx="3809880" cy="2514600"/>
          </a:xfrm>
          <a:prstGeom prst="ellipse">
            <a:avLst/>
          </a:prstGeom>
          <a:noFill/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Овал 10"/>
          <p:cNvSpPr/>
          <p:nvPr/>
        </p:nvSpPr>
        <p:spPr>
          <a:xfrm>
            <a:off x="4876920" y="3505320"/>
            <a:ext cx="3962160" cy="2819160"/>
          </a:xfrm>
          <a:prstGeom prst="ellipse">
            <a:avLst/>
          </a:prstGeom>
          <a:noFill/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Прямоугольник 11"/>
          <p:cNvSpPr/>
          <p:nvPr/>
        </p:nvSpPr>
        <p:spPr>
          <a:xfrm>
            <a:off x="1295280" y="3962520"/>
            <a:ext cx="26672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  <a:ea typeface="Verdana"/>
              </a:rPr>
              <a:t>РАСПРЕДЕЛЕНИЕ или ОБЪЁМ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  <a:ea typeface="Verdana"/>
              </a:rPr>
              <a:t>(ученик охватывает вниманием одновременно несколько объектов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Прямоугольник 13"/>
          <p:cNvSpPr/>
          <p:nvPr/>
        </p:nvSpPr>
        <p:spPr>
          <a:xfrm>
            <a:off x="5181480" y="4267080"/>
            <a:ext cx="320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ЕРЕКЛЮЧАЕМОСТЬ  (ученик перемещает внимание  с одного объекта на другой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1. Часто наблюдаются беспокойные движения в кистях и стопах. Сидя на стуле, ребенок корчится, извивается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2. Не может спокойно сидеть на месте, когда это требуется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3. Легко отвлекается на посторонние стимулы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294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242560" cy="1177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8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4. С трудом дожидается своей очереди во время игр и в различных ситуациях в коллективе (занятия в школе, экскурсии и т. д.)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5. На вопросы часто отвечает, не задумываясь, не выслушав их до конца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 txBox="1"/>
          <p:nvPr/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6. При выполнении предложенных заданий испытывает сложности (не связанные с негативным поведением или недостаточностью понимания)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7. С трудом сохраняет внимание при выполнении заданий или во время игр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8. Часто переходит от одного незавершенного действия к другому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9. Не может играть тихо, спокойно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10. Болтливый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11. Мешает другим, пристает к окружающим (например, вмешивается в игры других детей)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12. Часто складывается впечатление, что ребенок не слушает обращенную к нему речь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Илья</cp:lastModifiedBy>
  <dcterms:modified xsi:type="dcterms:W3CDTF">2013-10-16T16:34:10Z</dcterms:modified>
  <cp:revision>8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