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73A4-BC62-4EAA-9C3D-67F1AF7EB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B310-E947-4181-AE25-B8B1C269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FB3E-A732-4530-B35F-3B3F76B46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B86C-11C4-4F69-B533-5078680DE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1BE3-096E-4CA1-9383-C7781E97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CB4D-B54A-4054-AA49-0CC084D1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BC58-66ED-4299-823A-DDA8E69F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7FC5-5F5C-4437-A180-42D4BDCA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1524-1DC1-4F1B-A8C8-63D3D93D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99A5-99E9-423F-8DF8-C1FEB156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80F9-2599-41C6-AA72-C2052D99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9744-4C88-4ACC-A84A-49FE3D05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9E16-D4DD-4F5C-BB64-1EC72FBCC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4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1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8240" y="2361960"/>
            <a:ext cx="8915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п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кация,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кв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рель, в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лшебник, н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дежда, пр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дст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влен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371600"/>
            <a:ext cx="5486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Проверь товарищ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Картинка 9 из 123"/>
          <p:cNvPicPr/>
          <p:nvPr/>
        </p:nvPicPr>
        <p:blipFill>
          <a:blip r:embed="rId1"/>
          <a:stretch/>
        </p:blipFill>
        <p:spPr>
          <a:xfrm>
            <a:off x="6172200" y="2514600"/>
            <a:ext cx="2514600" cy="405612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6" descr=""/>
          <p:cNvPicPr/>
          <p:nvPr/>
        </p:nvPicPr>
        <p:blipFill>
          <a:blip r:embed="rId2"/>
          <a:stretch/>
        </p:blipFill>
        <p:spPr>
          <a:xfrm>
            <a:off x="-1066680" y="2444760"/>
            <a:ext cx="4054320" cy="322416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7" descr=""/>
          <p:cNvPicPr/>
          <p:nvPr/>
        </p:nvPicPr>
        <p:blipFill>
          <a:blip r:embed="rId3"/>
          <a:stretch/>
        </p:blipFill>
        <p:spPr>
          <a:xfrm>
            <a:off x="450720" y="2505240"/>
            <a:ext cx="6126120" cy="3011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" descr="C:\Documents and Settings\Настя\Рабочий стол\Смешарики\Клипарты\228b.jpg"/>
          <p:cNvPicPr/>
          <p:nvPr/>
        </p:nvPicPr>
        <p:blipFill>
          <a:blip r:embed="rId4"/>
          <a:stretch/>
        </p:blipFill>
        <p:spPr>
          <a:xfrm>
            <a:off x="0" y="685800"/>
            <a:ext cx="1409760" cy="151920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9" descr=""/>
          <p:cNvPicPr/>
          <p:nvPr/>
        </p:nvPicPr>
        <p:blipFill>
          <a:blip r:embed="rId5"/>
          <a:stretch/>
        </p:blipFill>
        <p:spPr>
          <a:xfrm>
            <a:off x="2590920" y="152280"/>
            <a:ext cx="5516280" cy="23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981080"/>
            <a:ext cx="914400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не на уроке было легко выполнять…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не на уроке было сложно 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60020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981080"/>
            <a:ext cx="914400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Уч. с. 42 (с.53) упр.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60020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00"/>
                </a:solidFill>
                <a:latin typeface="Arial"/>
              </a:rPr>
              <a:t>Домашнее зад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1981080"/>
            <a:ext cx="914400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8000" spc="-1" strike="noStrike">
                <a:solidFill>
                  <a:srgbClr val="0033cc"/>
                </a:solidFill>
                <a:latin typeface="Arial"/>
              </a:rPr>
              <a:t>Спасибо за урок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228240" y="76176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Я, тот, эта, этот, ты, он, таков, твой, мой, она, наш, ваш, его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Оно, мы, её, их,  свой, сам, вы, они, самый, весь, всякий, каждый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8" name="Заголовок 1" descr=""/>
          <p:cNvPicPr/>
          <p:nvPr/>
        </p:nvPicPr>
        <p:blipFill>
          <a:blip r:embed="rId2"/>
          <a:stretch/>
        </p:blipFill>
        <p:spPr>
          <a:xfrm>
            <a:off x="609480" y="1522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600" y="1143000"/>
            <a:ext cx="89154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Местоимение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– э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Местоимения, которые заменяют имена существительные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– это местоимения-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Местоимения, которые заменяют имена прилагательные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– это местоимения-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5369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2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оимения-существитель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оимения-прилагатель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, ты, он, она, его, оно, мы, её, их, сам, вы, он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т, эта, этот, таков, твой, мой, наш, ваш, свой, самый, весь, всякий, каждый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54" name="Заголовок 1" descr=""/>
          <p:cNvPicPr/>
          <p:nvPr/>
        </p:nvPicPr>
        <p:blipFill>
          <a:blip r:embed="rId2"/>
          <a:stretch/>
        </p:blipFill>
        <p:spPr>
          <a:xfrm>
            <a:off x="1752480" y="152280"/>
            <a:ext cx="6400800" cy="900360"/>
          </a:xfrm>
          <a:prstGeom prst="rect">
            <a:avLst/>
          </a:prstGeom>
          <a:ln w="0">
            <a:noFill/>
          </a:ln>
        </p:spPr>
      </p:pic>
      <p:sp>
        <p:nvSpPr>
          <p:cNvPr id="55" name="Содержимое 2"/>
          <p:cNvSpPr/>
          <p:nvPr/>
        </p:nvSpPr>
        <p:spPr>
          <a:xfrm>
            <a:off x="457200" y="1219320"/>
            <a:ext cx="403848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514440" indent="-386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1.Личное местоимение 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Я,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386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2.Личное местоимение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ТЫ, В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386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3.Личные местоимения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ОН,ОНА,ОНО, ОН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одержимое 4"/>
          <p:cNvSpPr/>
          <p:nvPr/>
        </p:nvSpPr>
        <p:spPr>
          <a:xfrm>
            <a:off x="4648320" y="1143000"/>
            <a:ext cx="403848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624600" indent="-493560">
              <a:spcBef>
                <a:spcPts val="751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Указывает на того, к кому (к чему) обращена реч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24600" indent="-493560">
              <a:spcBef>
                <a:spcPts val="751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Указывает на того, о ком (или о чём) речь ведут друг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24600" indent="-493560">
              <a:spcBef>
                <a:spcPts val="751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Указывает на того, кто (что) говорит о себ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2209680"/>
            <a:ext cx="1447920" cy="297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352680" y="1600200"/>
            <a:ext cx="152424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048120" y="365760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60020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Исправь предл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762120" y="9144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Мы обиделись на их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Мы с ими давно дружим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Они ждали нег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Личное местоимение начинается при письме с буквы  </a:t>
            </a: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Н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, если перед ним стоит предлог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Прямоугольник 5" descr=""/>
          <p:cNvPicPr/>
          <p:nvPr/>
        </p:nvPicPr>
        <p:blipFill>
          <a:blip r:embed="rId1"/>
          <a:stretch/>
        </p:blipFill>
        <p:spPr>
          <a:xfrm>
            <a:off x="5175360" y="2859120"/>
            <a:ext cx="3846240" cy="305424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6" descr=""/>
          <p:cNvPicPr/>
          <p:nvPr/>
        </p:nvPicPr>
        <p:blipFill>
          <a:blip r:embed="rId2"/>
          <a:stretch/>
        </p:blipFill>
        <p:spPr>
          <a:xfrm>
            <a:off x="4011480" y="3602160"/>
            <a:ext cx="5937480" cy="2859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" descr="C:\Documents and Settings\Настя\Рабочий стол\Смешарики\Клипарты\228b.jpg"/>
          <p:cNvPicPr/>
          <p:nvPr/>
        </p:nvPicPr>
        <p:blipFill>
          <a:blip r:embed="rId3"/>
          <a:stretch/>
        </p:blipFill>
        <p:spPr>
          <a:xfrm>
            <a:off x="7734240" y="457200"/>
            <a:ext cx="1409760" cy="1519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C:\Documents and Settings\Настя\Рабочий стол\Смешарики\3045207-wooden-box.jpg"/>
          <p:cNvPicPr/>
          <p:nvPr/>
        </p:nvPicPr>
        <p:blipFill>
          <a:blip r:embed="rId4"/>
          <a:stretch/>
        </p:blipFill>
        <p:spPr>
          <a:xfrm>
            <a:off x="4343400" y="2666880"/>
            <a:ext cx="5029200" cy="454500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7" descr=""/>
          <p:cNvPicPr/>
          <p:nvPr/>
        </p:nvPicPr>
        <p:blipFill>
          <a:blip r:embed="rId5"/>
          <a:stretch/>
        </p:blipFill>
        <p:spPr>
          <a:xfrm>
            <a:off x="536400" y="-6480"/>
            <a:ext cx="61326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82 0.0296 C -0.06198 -0.08883 -0.04514 -0.20681 -0.08316 -0.25978 C -0.12048 -0.31252 -0.2118 -0.31252 -0.30382 -0.29101 C -0.39583 -0.26972 -0.56944 -0.18367 -0.63541 -0.13093 C -0.70104 -0.07819 -0.68837 0.000459999999999999 -0.69948 0.0259 E">
                                      <p:cBhvr>
                                        <p:cTn id="31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295 -0.07033 C 0.08542 -0.16609 0.1184 -0.26163 0.05295 -0.28707 C -0.01198 -0.31252 -0.25903 -0.25908 -0.33611 -0.22392 C -0.41302 -0.18899 -0.39705 -0.10109 -0.40937 -0.07657 E">
                                      <p:cBhvr>
                                        <p:cTn id="38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D:\Мамуля\Смешарики\якорь.JPG"/>
          <p:cNvPicPr/>
          <p:nvPr/>
        </p:nvPicPr>
        <p:blipFill>
          <a:blip r:embed="rId1"/>
          <a:stretch/>
        </p:blipFill>
        <p:spPr>
          <a:xfrm flipH="1" rot="21213000">
            <a:off x="1075680" y="6571800"/>
            <a:ext cx="3305160" cy="4415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Картинка 444 из 9807"/>
          <p:cNvPicPr/>
          <p:nvPr/>
        </p:nvPicPr>
        <p:blipFill>
          <a:blip r:embed="rId2"/>
          <a:srcRect l="49696" t="82003" r="16530" b="5146"/>
          <a:stretch/>
        </p:blipFill>
        <p:spPr>
          <a:xfrm>
            <a:off x="4038480" y="5791320"/>
            <a:ext cx="5105520" cy="106668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6" descr=""/>
          <p:cNvPicPr/>
          <p:nvPr/>
        </p:nvPicPr>
        <p:blipFill>
          <a:blip r:embed="rId3"/>
          <a:stretch/>
        </p:blipFill>
        <p:spPr>
          <a:xfrm>
            <a:off x="3425760" y="6162840"/>
            <a:ext cx="6572160" cy="301140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7" descr=""/>
          <p:cNvPicPr/>
          <p:nvPr/>
        </p:nvPicPr>
        <p:blipFill>
          <a:blip r:embed="rId4"/>
          <a:stretch/>
        </p:blipFill>
        <p:spPr>
          <a:xfrm>
            <a:off x="1908000" y="6254640"/>
            <a:ext cx="4054680" cy="3224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" descr="C:\Documents and Settings\Настя\Рабочий стол\Смешарики\Клипарты\228b.jpg"/>
          <p:cNvPicPr/>
          <p:nvPr/>
        </p:nvPicPr>
        <p:blipFill>
          <a:blip r:embed="rId5"/>
          <a:stretch/>
        </p:blipFill>
        <p:spPr>
          <a:xfrm>
            <a:off x="0" y="762120"/>
            <a:ext cx="1409760" cy="1519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Картинка 444 из 9807"/>
          <p:cNvPicPr/>
          <p:nvPr/>
        </p:nvPicPr>
        <p:blipFill>
          <a:blip r:embed="rId6"/>
          <a:srcRect l="49696" t="82003" r="16530" b="5146"/>
          <a:stretch/>
        </p:blipFill>
        <p:spPr>
          <a:xfrm>
            <a:off x="0" y="5791320"/>
            <a:ext cx="5029200" cy="106668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16" descr=""/>
          <p:cNvPicPr/>
          <p:nvPr/>
        </p:nvPicPr>
        <p:blipFill>
          <a:blip r:embed="rId7"/>
          <a:stretch/>
        </p:blipFill>
        <p:spPr>
          <a:xfrm>
            <a:off x="2133720" y="0"/>
            <a:ext cx="7029360" cy="1712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3" descr="699a1d804d98"/>
          <p:cNvPicPr/>
          <p:nvPr/>
        </p:nvPicPr>
        <p:blipFill>
          <a:blip r:embed="rId8"/>
          <a:stretch/>
        </p:blipFill>
        <p:spPr>
          <a:xfrm>
            <a:off x="6324480" y="2057400"/>
            <a:ext cx="17305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927 -0.25717 L -0.08593 -0.92322 E">
                                      <p:cBhvr>
                                        <p:cTn id="51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61 -0.10162 L -0.02239 -0.52384 E">
                                      <p:cBhvr>
                                        <p:cTn id="56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9 -0.01272 L -0.0309 -0.50162 E">
                                      <p:cBhvr>
                                        <p:cTn id="65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6T19:28:22Z</dcterms:created>
  <dc:creator>александр</dc:creator>
  <dc:description/>
  <dc:language>en-US</dc:language>
  <cp:lastModifiedBy>user</cp:lastModifiedBy>
  <dcterms:modified xsi:type="dcterms:W3CDTF">2013-10-07T06:58:5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