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659-A4AC-43AF-B836-967A675F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124-FDCF-48A3-BC0F-3E01598E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F01-2835-4F98-BDC3-D940A96B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520-98B7-45B3-ACAB-7D7936FD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04F-D739-4DCA-ACE6-84D147D2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44F-891D-4D1A-B7E2-5E320AFB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D4D-C533-4B96-9937-1183D5CF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37C-8112-4329-AD38-1624E755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515-F368-4FA8-99E8-DB5E72F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063-3FF6-4CA8-B4A3-AFC96D7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893-FD00-40F0-A386-3E97737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ED-22CD-426A-8D67-68362BC5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D02A-3109-4C77-9795-DE332DC91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дминистрация муниципального образования Павлово-Посадский</a:t>
            </a:r>
            <a:br>
              <a:rPr sz="1400"/>
            </a:br>
            <a:r>
              <a:rPr b="0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униципальный район Московской области</a:t>
            </a:r>
            <a:br>
              <a:rPr sz="1400"/>
            </a:br>
            <a:r>
              <a:rPr b="1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униципальное образовательное учреждение дополнительного образования детей</a:t>
            </a:r>
            <a:br>
              <a:rPr sz="1400"/>
            </a:br>
            <a:r>
              <a:rPr b="1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тский эколого-биологический центр</a:t>
            </a:r>
            <a:br>
              <a:rPr sz="1400"/>
            </a:br>
            <a:r>
              <a:rPr b="1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«МОУ ДОД ДЭБЦ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74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Весна идёт, весне дорогу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58920" y="609300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уководители проекта:  Гусева Оксана Серг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Хорьякова Наталья Васильевна, Чистякова Людмила Вита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DSCF4568"/>
          <p:cNvPicPr/>
          <p:nvPr/>
        </p:nvPicPr>
        <p:blipFill>
          <a:blip r:embed="rId2"/>
          <a:stretch/>
        </p:blipFill>
        <p:spPr>
          <a:xfrm>
            <a:off x="2340000" y="2708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4881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llodsWest"/>
              </a:rPr>
              <a:t>-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Чтение произведений различных авторов по теме;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Исследовательская работа детей дома;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Бесед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13-03-25 10"/>
          <p:cNvPicPr/>
          <p:nvPr/>
        </p:nvPicPr>
        <p:blipFill>
          <a:blip r:embed="rId2"/>
          <a:stretch/>
        </p:blipFill>
        <p:spPr>
          <a:xfrm>
            <a:off x="571680" y="1357200"/>
            <a:ext cx="3708360" cy="4945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4429080" y="114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родуктивная деятельность: рисование, работа с бумагой и пластилином по темам;</a:t>
            </a:r>
            <a:br>
              <a:rPr sz="1800"/>
            </a:b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- Поэтапное заполнение проекта элементами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2013-03-28 18"/>
          <p:cNvPicPr/>
          <p:nvPr/>
        </p:nvPicPr>
        <p:blipFill>
          <a:blip r:embed="rId3"/>
          <a:stretch/>
        </p:blipFill>
        <p:spPr>
          <a:xfrm>
            <a:off x="5286240" y="2357280"/>
            <a:ext cx="2934000" cy="391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51 - W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4214880" cy="15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идактические игры;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 Подвижные игры;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 Заучивание стихотворений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13-04-08 16"/>
          <p:cNvPicPr/>
          <p:nvPr/>
        </p:nvPicPr>
        <p:blipFill>
          <a:blip r:embed="rId2"/>
          <a:stretch/>
        </p:blipFill>
        <p:spPr>
          <a:xfrm>
            <a:off x="1143000" y="20001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013-04-08 13"/>
          <p:cNvPicPr/>
          <p:nvPr/>
        </p:nvPicPr>
        <p:blipFill>
          <a:blip r:embed="rId3"/>
          <a:stretch/>
        </p:blipFill>
        <p:spPr>
          <a:xfrm>
            <a:off x="5072040" y="785880"/>
            <a:ext cx="34052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896400" y="5072040"/>
            <a:ext cx="32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Тематическое занят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«Грачи. Гнездование птиц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aa9f4837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57578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3. Заключительный эта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651672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формление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- Проведение обобщающего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- Проведение воспитательного мероприятия:       «Здравствуй, весна» с участникам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DSC00266"/>
          <p:cNvPicPr/>
          <p:nvPr/>
        </p:nvPicPr>
        <p:blipFill>
          <a:blip r:embed="rId2"/>
          <a:stretch/>
        </p:blipFill>
        <p:spPr>
          <a:xfrm>
            <a:off x="468360" y="234936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2013-04-11 11"/>
          <p:cNvPicPr/>
          <p:nvPr/>
        </p:nvPicPr>
        <p:blipFill>
          <a:blip r:embed="rId3"/>
          <a:stretch/>
        </p:blipFill>
        <p:spPr>
          <a:xfrm>
            <a:off x="5500800" y="1428840"/>
            <a:ext cx="325908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SCF4572"/>
          <p:cNvPicPr/>
          <p:nvPr/>
        </p:nvPicPr>
        <p:blipFill>
          <a:blip r:embed="rId2"/>
          <a:stretch/>
        </p:blipFill>
        <p:spPr>
          <a:xfrm>
            <a:off x="857160" y="571680"/>
            <a:ext cx="7604280" cy="570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SCF4579"/>
          <p:cNvPicPr/>
          <p:nvPr/>
        </p:nvPicPr>
        <p:blipFill>
          <a:blip r:embed="rId2"/>
          <a:stretch/>
        </p:blipFill>
        <p:spPr>
          <a:xfrm>
            <a:off x="785880" y="500040"/>
            <a:ext cx="7746840" cy="581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SCF4584"/>
          <p:cNvPicPr/>
          <p:nvPr/>
        </p:nvPicPr>
        <p:blipFill>
          <a:blip r:embed="rId2"/>
          <a:stretch/>
        </p:blipFill>
        <p:spPr>
          <a:xfrm>
            <a:off x="785880" y="428760"/>
            <a:ext cx="782172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SCF4581"/>
          <p:cNvPicPr/>
          <p:nvPr/>
        </p:nvPicPr>
        <p:blipFill>
          <a:blip r:embed="rId2"/>
          <a:stretch/>
        </p:blipFill>
        <p:spPr>
          <a:xfrm>
            <a:off x="539640" y="26028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SCF4591"/>
          <p:cNvPicPr/>
          <p:nvPr/>
        </p:nvPicPr>
        <p:blipFill>
          <a:blip r:embed="rId3"/>
          <a:stretch/>
        </p:blipFill>
        <p:spPr>
          <a:xfrm>
            <a:off x="4859280" y="26028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SCF4592"/>
          <p:cNvPicPr/>
          <p:nvPr/>
        </p:nvPicPr>
        <p:blipFill>
          <a:blip r:embed="rId4"/>
          <a:stretch/>
        </p:blipFill>
        <p:spPr>
          <a:xfrm>
            <a:off x="2268360" y="3429000"/>
            <a:ext cx="489600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SCF4602"/>
          <p:cNvPicPr/>
          <p:nvPr/>
        </p:nvPicPr>
        <p:blipFill>
          <a:blip r:embed="rId2"/>
          <a:stretch/>
        </p:blipFill>
        <p:spPr>
          <a:xfrm>
            <a:off x="4357800" y="428760"/>
            <a:ext cx="4375080" cy="583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SCF4598"/>
          <p:cNvPicPr/>
          <p:nvPr/>
        </p:nvPicPr>
        <p:blipFill>
          <a:blip r:embed="rId3"/>
          <a:stretch/>
        </p:blipFill>
        <p:spPr>
          <a:xfrm>
            <a:off x="357120" y="1000080"/>
            <a:ext cx="3900600" cy="505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c8e_d3c8012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SCF4568"/>
          <p:cNvPicPr/>
          <p:nvPr/>
        </p:nvPicPr>
        <p:blipFill>
          <a:blip r:embed="rId2"/>
          <a:stretch/>
        </p:blipFill>
        <p:spPr>
          <a:xfrm>
            <a:off x="611280" y="189000"/>
            <a:ext cx="8351640" cy="6262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288520" y="62578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анно «Весна идёт, весне дорог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33425762_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13-04-17 11"/>
          <p:cNvPicPr/>
          <p:nvPr/>
        </p:nvPicPr>
        <p:blipFill>
          <a:blip r:embed="rId2"/>
          <a:stretch/>
        </p:blipFill>
        <p:spPr>
          <a:xfrm>
            <a:off x="826920" y="404640"/>
            <a:ext cx="7728120" cy="5796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133360" y="616572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ша творческая группа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896472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AllodsWest"/>
              </a:rPr>
              <a:t>1.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Формирование представлений о весне, сезонных изменения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Воспитание бережного отношения к пробуждению природы через организацию разных видов деятельности: познавательной 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наблюдение, исследовательская,  художественное слово), игровой, продуктивной (творческая рабо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13-03-25 10"/>
          <p:cNvPicPr/>
          <p:nvPr/>
        </p:nvPicPr>
        <p:blipFill>
          <a:blip r:embed="rId2"/>
          <a:stretch/>
        </p:blipFill>
        <p:spPr>
          <a:xfrm>
            <a:off x="3564000" y="3213000"/>
            <a:ext cx="2338200" cy="311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2013-04-08 16"/>
          <p:cNvPicPr/>
          <p:nvPr/>
        </p:nvPicPr>
        <p:blipFill>
          <a:blip r:embed="rId3"/>
          <a:stretch/>
        </p:blipFill>
        <p:spPr>
          <a:xfrm>
            <a:off x="684360" y="3213000"/>
            <a:ext cx="2414520" cy="321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AM_1078"/>
          <p:cNvPicPr/>
          <p:nvPr/>
        </p:nvPicPr>
        <p:blipFill>
          <a:blip r:embed="rId4"/>
          <a:stretch/>
        </p:blipFill>
        <p:spPr>
          <a:xfrm>
            <a:off x="6443640" y="3213000"/>
            <a:ext cx="2301840" cy="307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сширить знания детей о первых признаках весны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б особенностях  жизни птиц в период наступления ве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Учить устанавливать простейшие связи между условиями наступающего весеннего года и поведением животных, состоянием расти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 Развивать стремление общаться со сверстниками в процессе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Развивать познавательную активность, мышление, воображение, коммуникативные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Развивать продуктивную деятельность детей, развивать творческие способност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. Воспитание творческой инициативы, бережного отношения к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ип проект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 доминирующей в проекте деятельности: познавательный, твор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 числу участников: коллективный (группами по 7-10 человек, всего 8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 времени проведения: среднесрочный (2 меся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 уровню интеграции: межпредме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 характеру контактов: в рамках УДОД,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13-03-28 15"/>
          <p:cNvPicPr/>
          <p:nvPr/>
        </p:nvPicPr>
        <p:blipFill>
          <a:blip r:embed="rId2"/>
          <a:stretch/>
        </p:blipFill>
        <p:spPr>
          <a:xfrm>
            <a:off x="2714760" y="357192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655020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став проектной групп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едагоги УДОД: Гусева Оксана Серге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Хорьякова Наталья Васильевна, Чистякова Людмила Витальев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оспитанники объеди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«Ступеньки творчества», «Радуга» и «Мастерилка» - дети     5-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13-04-11 11"/>
          <p:cNvPicPr/>
          <p:nvPr/>
        </p:nvPicPr>
        <p:blipFill>
          <a:blip r:embed="rId2"/>
          <a:stretch/>
        </p:blipFill>
        <p:spPr>
          <a:xfrm>
            <a:off x="2286000" y="2571840"/>
            <a:ext cx="5035680" cy="37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е обеспечение проект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0040" y="928440"/>
            <a:ext cx="842976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граммы «Ступеньки творчества» и «Мастерил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Художественная литература: рассказы, стихотворения, загадки о весне, растительном и живот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глядные пособия: репродукции картин, фотографии,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идак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ведение комплексных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Художественное творчество: рисование, конструирование, ле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013-04-02 13"/>
          <p:cNvPicPr/>
          <p:nvPr/>
        </p:nvPicPr>
        <p:blipFill>
          <a:blip r:embed="rId2"/>
          <a:stretch/>
        </p:blipFill>
        <p:spPr>
          <a:xfrm>
            <a:off x="2500200" y="3357720"/>
            <a:ext cx="4341960" cy="325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полагаемый результат проект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llodsWest"/>
              </a:rPr>
              <a:t>1.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оздание общей композиции по теме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Проведение воспитательного меро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«Здравствуй, весна» с участникам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 Обогащение активного и пассивного словар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Познавательный интерес к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Развитие у детей наблюдательности, творческой активности, сплочённости колле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DSC00252"/>
          <p:cNvPicPr/>
          <p:nvPr/>
        </p:nvPicPr>
        <p:blipFill>
          <a:blip r:embed="rId2"/>
          <a:stretch/>
        </p:blipFill>
        <p:spPr>
          <a:xfrm>
            <a:off x="2571840" y="3357720"/>
            <a:ext cx="435744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8031738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ализаци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214520" y="1499760"/>
            <a:ext cx="432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. 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2013-03-18 17"/>
          <p:cNvPicPr/>
          <p:nvPr/>
        </p:nvPicPr>
        <p:blipFill>
          <a:blip r:embed="rId2"/>
          <a:stretch/>
        </p:blipFill>
        <p:spPr>
          <a:xfrm>
            <a:off x="714240" y="142884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175280" y="32148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Выбор темы проекта, определение его целей и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оставление плана основного этап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Подборка необходимых материалов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Подготовка основы будущего п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4881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43040" y="500040"/>
            <a:ext cx="468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2. Основно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28760" y="1928880"/>
            <a:ext cx="424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бобщение знаний детей о первых признаках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Рассматривание иллюстраций, произведений художник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2013-03-25 17"/>
          <p:cNvPicPr/>
          <p:nvPr/>
        </p:nvPicPr>
        <p:blipFill>
          <a:blip r:embed="rId2"/>
          <a:stretch/>
        </p:blipFill>
        <p:spPr>
          <a:xfrm>
            <a:off x="5072040" y="142884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2"/>
          <p:cNvSpPr/>
          <p:nvPr/>
        </p:nvSpPr>
        <p:spPr>
          <a:xfrm>
            <a:off x="357120" y="5143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Тематическое занятие «Деревья весн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5:21:55Z</dcterms:created>
  <dc:creator>Loner-XP</dc:creator>
  <dc:description/>
  <dc:language>en-US</dc:language>
  <cp:lastModifiedBy>user</cp:lastModifiedBy>
  <dcterms:modified xsi:type="dcterms:W3CDTF">2013-10-18T15:01:15Z</dcterms:modified>
  <cp:revision>24</cp:revision>
  <dc:subject/>
  <dc:title>МУНИЦИПАЛЬНОЕ ОБРАЗОВАТЕЛЬНОЕ УЧРЕЖДЕНИЕ  ДОПОЛНИТЕЛЬНОГО ОБРАЗОВАНИЯ ДЕТЕЙ  Детский Эколого-Биологический Центр</dc:title>
</cp:coreProperties>
</file>