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1D9-B24D-4995-BB20-676E9629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8AFC-5DB5-4CD9-A836-50D2A05F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C47B-DD37-460B-AC8E-6422CCFA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F13-BBAA-4B51-9DE1-165F3653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EAD9-32BE-413E-B3FE-0B6B4EC5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FBB9-BD00-40B8-80AC-61C4D95F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C9FC-AF04-41FF-89AA-FD2B8BCA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AB3E-0DDA-4AB5-A9F7-DE62EB5B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9382-6A0A-42B5-91A5-515FCB31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87E2-5415-44C2-9259-27D39006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1459-B5DA-4474-992F-67DC529A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79C-5453-4EE0-8DC6-4C13BD8A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4094-991D-4B67-82AA-CFE237D9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5559-6D28-45AA-B729-3F1753A2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AF19-584C-497F-9931-80CFC4F3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B768-0559-4D07-B532-A1C585E2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7237-D79C-46E1-9C87-B95C46C0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B97-9F47-4677-81A9-64FBD38A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C82-DB76-4F36-9B3B-96E311CE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C08-7208-4CC5-8814-6ED91656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677-879B-4301-BEAD-90AB249D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3CB-1F04-44FC-B8E1-51F12C40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EB9-EF17-4EB3-8DF3-09F93377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A68-78FE-4EB2-A510-7F1D263B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9A95-A9F7-410D-909F-D9DC3AF93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4D2C-DFF3-4FD7-8A62-AF1D25F76D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e5ffff"/>
                </a:solidFill>
                <a:latin typeface="Times New Roman"/>
              </a:rPr>
              <a:t>СКАЗКА НЕ 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e5ffff"/>
                </a:solidFill>
                <a:latin typeface="Times New Roman"/>
              </a:rPr>
              <a:t>ОБМАН, А ТАЙНА .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76360" y="181080"/>
            <a:ext cx="619128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09640" y="800280"/>
            <a:ext cx="75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476360" y="1085760"/>
            <a:ext cx="61912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7:09:27Z</dcterms:created>
  <dc:creator>Александр</dc:creator>
  <dc:description/>
  <dc:language>en-US</dc:language>
  <cp:lastModifiedBy>Александр</cp:lastModifiedBy>
  <dcterms:modified xsi:type="dcterms:W3CDTF">2013-03-20T17:25:44Z</dcterms:modified>
  <cp:revision>2</cp:revision>
  <dc:subject/>
  <dc:title> СКАЗКА НЕ   ОБМАН,АТАЙНА</dc:title>
</cp:coreProperties>
</file>