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871-9C16-4B96-9059-E67C40BA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C62-B67B-463C-9DE6-C2327000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B9F-87C9-47BB-A6A1-EE84A6C6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A9B-C993-4B58-B94E-A3503A92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2A6-A593-4EA5-8758-7B763268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75E-DFCC-47B9-8C2F-ECDE3F37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FBC-ACF8-4013-BFCC-98D6A801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BC3-BC12-4DF0-800E-0B7F8C26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A03-7941-49C5-A42E-A0FDA7F3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FC3-9CC3-42E9-9B88-142F0260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964-233E-47C8-A480-93F77BD9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920-E272-4C57-BA50-44992EE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86A8-CB72-4BDD-9612-315908F07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855" TargetMode="External"/><Relationship Id="rId3" Type="http://schemas.openxmlformats.org/officeDocument/2006/relationships/hyperlink" Target="http://ru.wikipedia.org/wiki/1856" TargetMode="External"/><Relationship Id="rId4" Type="http://schemas.openxmlformats.org/officeDocument/2006/relationships/hyperlink" Target="http://ru.wikipedia.org/wiki/&#1052;&#1080;&#1085;&#1080;&#1089;&#1090;&#1077;&#1088;&#1089;&#1090;&#1074;&#1086;_&#1074;&#1085;&#1091;&#1090;&#1088;&#1077;&#1085;&#1085;&#1080;&#1093;_&#1076;&#1077;&#1083;" TargetMode="External"/><Relationship Id="rId5" Type="http://schemas.openxmlformats.org/officeDocument/2006/relationships/hyperlink" Target="http://ru.wikipedia.org/wiki/&#1042;&#1083;&#1072;&#1076;&#1080;&#1084;&#1080;&#1088;&#1089;&#1082;&#1072;&#1103;_&#1075;&#1091;&#1073;&#1077;&#1088;&#1085;&#1080;&#1103;" TargetMode="External"/><Relationship Id="rId6" Type="http://schemas.openxmlformats.org/officeDocument/2006/relationships/hyperlink" Target="http://ru.wikipedia.org/wiki/&#1044;&#1077;&#1083;&#1086;&#1087;&#1088;&#1086;&#1080;&#1079;&#1074;&#1086;&#1076;&#1089;&#1090;&#1074;&#1086;" TargetMode="External"/><Relationship Id="rId7" Type="http://schemas.openxmlformats.org/officeDocument/2006/relationships/hyperlink" Target="http://ru.wikipedia.org/wiki/&#1054;&#1087;&#1086;&#1083;&#1095;&#1077;&#1085;&#1080;&#1077;" TargetMode="External"/><Relationship Id="rId8" Type="http://schemas.openxmlformats.org/officeDocument/2006/relationships/hyperlink" Target="http://ru.wikipedia.org/wiki/&#1050;&#1088;&#1099;&#1084;&#1089;&#1082;&#1072;&#1103;_&#1074;&#1086;&#1081;&#1085;&#1072;" TargetMode="External"/><Relationship Id="rId9" Type="http://schemas.openxmlformats.org/officeDocument/2006/relationships/hyperlink" Target="http://ru.wikipedia.org/wiki/&#1044;&#1077;&#1094;&#1077;&#1085;&#1090;&#1088;&#1072;&#1083;&#1080;&#1079;&#1072;&#1094;&#1080;&#1103;" TargetMode="External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6;&#1091;&#1089;&#1089;&#1082;&#1080;&#1081;_&#1074;&#1077;&#1089;&#1090;&#1085;&#1080;&#1082;_(&#1078;&#1091;&#1088;&#1085;&#1072;&#1083;)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6;&#1103;&#1079;&#1072;&#1085;&#1089;&#1082;&#1072;&#1103;_&#1075;&#1091;&#1073;&#1077;&#1088;&#1085;&#1080;&#1103;" TargetMode="External"/><Relationship Id="rId3" Type="http://schemas.openxmlformats.org/officeDocument/2006/relationships/hyperlink" Target="http://ru.wikipedia.org/wiki/&#1058;&#1074;&#1077;&#1088;&#1100;" TargetMode="External"/><Relationship Id="rId4" Type="http://schemas.openxmlformats.org/officeDocument/2006/relationships/hyperlink" Target="http://ru.wikipedia.org/wiki/&#1056;&#1091;&#1089;&#1089;&#1082;&#1080;&#1081;_&#1074;&#1077;&#1089;&#1090;&#1085;&#1080;&#1082;_(&#1078;&#1091;&#1088;&#1085;&#1072;&#1083;)" TargetMode="External"/><Relationship Id="rId5" Type="http://schemas.openxmlformats.org/officeDocument/2006/relationships/hyperlink" Target="http://ru.wikipedia.org/wiki/&#1057;&#1086;&#1074;&#1088;&#1077;&#1084;&#1077;&#1085;&#1085;&#1080;&#1082;_(&#1078;&#1091;&#1088;&#1085;&#1072;&#1083;)" TargetMode="External"/><Relationship Id="rId6" Type="http://schemas.openxmlformats.org/officeDocument/2006/relationships/hyperlink" Target="http://ru.wikipedia.org/wiki/&#1041;&#1080;&#1073;&#1083;&#1080;&#1086;&#1090;&#1077;&#1082;&#1072;_&#1076;&#1083;&#1103;_&#1095;&#1090;&#1077;&#1085;&#1080;&#1103;_(&#1078;&#1091;&#1088;&#1085;&#1072;&#1083;)" TargetMode="External"/><Relationship Id="rId7" Type="http://schemas.openxmlformats.org/officeDocument/2006/relationships/hyperlink" Target="http://ru.wikipedia.org/wiki/&#1050;&#1086;&#1088;&#1096;,_&#1042;&#1072;&#1083;&#1077;&#1085;&#1090;&#1080;&#1085;_&#1060;&#1105;&#1076;&#1086;&#1088;&#1086;&#1074;&#1080;&#1095;" TargetMode="External"/><Relationship Id="rId8" Type="http://schemas.openxmlformats.org/officeDocument/2006/relationships/hyperlink" Target="http://ru.wikipedia.org/wiki/&#1050;&#1086;&#1088;&#1096;,_&#1042;&#1072;&#1083;&#1077;&#1085;&#1090;&#1080;&#1085;_&#1060;&#1105;&#1076;&#1086;&#1088;&#1086;&#1074;&#1080;&#1095;" TargetMode="External"/><Relationship Id="rId9" Type="http://schemas.openxmlformats.org/officeDocument/2006/relationships/hyperlink" Target="http://ru.wikipedia.org/wiki/&#1042;&#1088;&#1077;&#1084;&#1103;_(&#1078;&#1091;&#1088;&#1085;&#1072;&#1083;)" TargetMode="External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2;&#1086;&#1089;&#1082;&#1074;&#1072;" TargetMode="External"/><Relationship Id="rId3" Type="http://schemas.openxmlformats.org/officeDocument/2006/relationships/hyperlink" Target="http://ru.wikipedia.org/wiki/&#1055;&#1077;&#1090;&#1077;&#1088;&#1073;&#1091;&#1088;&#1075;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5;&#1077;&#1085;&#1079;&#1072;" TargetMode="External"/><Relationship Id="rId3" Type="http://schemas.openxmlformats.org/officeDocument/2006/relationships/hyperlink" Target="http://ru.wikipedia.org/wiki/&#1058;&#1091;&#1083;&#1072;" TargetMode="External"/><Relationship Id="rId4" Type="http://schemas.openxmlformats.org/officeDocument/2006/relationships/hyperlink" Target="http://ru.wikipedia.org/wiki/&#1056;&#1103;&#1079;&#1072;&#1085;&#1100;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88;&#1077;&#1087;&#1086;&#1089;&#1090;&#1085;&#1099;&#1077;" TargetMode="External"/><Relationship Id="rId3" Type="http://schemas.openxmlformats.org/officeDocument/2006/relationships/hyperlink" Target="http://ru.wikipedia.org/wiki/&#1043;&#1091;&#1074;&#1077;&#1088;&#1085;&#1072;&#1085;&#1090;&#1082;&#1072;" TargetMode="External"/><Relationship Id="rId4" Type="http://schemas.openxmlformats.org/officeDocument/2006/relationships/hyperlink" Target="http://ru.wikipedia.org/wiki/&#1052;&#1086;&#1089;&#1082;&#1086;&#1074;&#1089;&#1082;&#1072;&#1103;_&#1076;&#1091;&#1093;&#1086;&#1074;&#1085;&#1072;&#1103;_&#1072;&#1082;&#1072;&#1076;&#1077;&#1084;&#1080;&#1103;" TargetMode="External"/><Relationship Id="rId5" Type="http://schemas.openxmlformats.org/officeDocument/2006/relationships/hyperlink" Target="http://ru.wikipedia.org/wiki/&#1052;&#1086;&#1089;&#1082;&#1086;&#1074;&#1089;&#1082;&#1080;&#1081;_&#1076;&#1074;&#1086;&#1088;&#1103;&#1085;&#1089;&#1082;&#1080;&#1081;_&#1080;&#1085;&#1089;&#1090;&#1080;&#1090;&#1091;&#1090;" TargetMode="External"/><Relationship Id="rId6" Type="http://schemas.openxmlformats.org/officeDocument/2006/relationships/hyperlink" Target="http://ru.wikipedia.org/w/index.php?title=&#1050;&#1072;&#1079;&#1105;&#1085;&#1085;&#1086;&#1082;&#1086;&#1096;&#1090;&#1085;&#1099;&#1081;&amp;action=edit&amp;redlink=1" TargetMode="External"/><Relationship Id="rId7" Type="http://schemas.openxmlformats.org/officeDocument/2006/relationships/hyperlink" Target="http://ru.wikipedia.org/wiki/&#1062;&#1072;&#1088;&#1089;&#1082;&#1086;&#1089;&#1077;&#1083;&#1100;&#1089;&#1082;&#1080;&#1081;_&#1083;&#1080;&#1094;&#1077;&#1081;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83;&#1077;&#1082;&#1089;&#1072;&#1085;&#1076;&#1088;&#1086;&#1074;&#1089;&#1082;&#1080;&#1081;_&#1083;&#1080;&#1094;&#1077;&#1081;" TargetMode="External"/><Relationship Id="rId3" Type="http://schemas.openxmlformats.org/officeDocument/2006/relationships/hyperlink" Target="http://ru.wikipedia.org/wiki/&#1050;&#1086;&#1083;&#1083;&#1077;&#1078;&#1089;&#1082;&#1080;&#1081;_&#1089;&#1077;&#1082;&#1088;&#1077;&#1090;&#1072;&#1088;&#1100;" TargetMode="External"/><Relationship Id="rId4" Type="http://schemas.openxmlformats.org/officeDocument/2006/relationships/hyperlink" Target="http://ru.wikipedia.org/wiki/&#1041;&#1080;&#1073;&#1083;&#1080;&#1086;&#1090;&#1077;&#1082;&#1072;_&#1076;&#1083;&#1103;_&#1095;&#1090;&#1077;&#1085;&#1080;&#1103;_(&#1078;&#1091;&#1088;&#1085;&#1072;&#1083;)" TargetMode="External"/><Relationship Id="rId5" Type="http://schemas.openxmlformats.org/officeDocument/2006/relationships/hyperlink" Target="http://ru.wikipedia.org/wiki/1841" TargetMode="External"/><Relationship Id="rId6" Type="http://schemas.openxmlformats.org/officeDocument/2006/relationships/hyperlink" Target="http://ru.wikipedia.org/wiki/1842_&#1075;&#1086;&#1076;" TargetMode="External"/><Relationship Id="rId7" Type="http://schemas.openxmlformats.org/officeDocument/2006/relationships/hyperlink" Target="http://ru.wikipedia.org/wiki/&#1057;&#1086;&#1074;&#1088;&#1077;&#1084;&#1077;&#1085;&#1085;&#1080;&#1082;_(&#1078;&#1091;&#1088;&#1085;&#1072;&#1083;)" TargetMode="External"/><Relationship Id="rId8" Type="http://schemas.openxmlformats.org/officeDocument/2006/relationships/hyperlink" Target="http://ru.wikipedia.org/wiki/&#1055;&#1083;&#1077;&#1090;&#1085;&#1105;&#1074;,_&#1055;&#1105;&#1090;&#1088;_&#1040;&#1083;&#1077;&#1082;&#1089;&#1072;&#1085;&#1076;&#1088;&#1086;&#1074;&#1080;&#1095;" TargetMode="External"/><Relationship Id="rId9" Type="http://schemas.openxmlformats.org/officeDocument/2006/relationships/hyperlink" Target="http://ru.wikipedia.org/wiki/1844" TargetMode="External"/><Relationship Id="rId10" Type="http://schemas.openxmlformats.org/officeDocument/2006/relationships/hyperlink" Target="http://ru.wikipedia.org/wiki/1845_&#1075;&#1086;&#1076;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72;&#1084;&#1077;&#1085;&#1085;&#1086;&#1086;&#1089;&#1090;&#1088;&#1086;&#1074;&#1089;&#1082;&#1080;&#1081;_&#1087;&#1088;&#1086;&#1089;&#1087;&#1077;&#1082;&#1090;_(&#1057;&#1072;&#1085;&#1082;&#1090;-&#1055;&#1077;&#1090;&#1077;&#1088;&#1073;&#1091;&#1088;&#1075;)" TargetMode="External"/><Relationship Id="rId3" Type="http://schemas.openxmlformats.org/officeDocument/2006/relationships/hyperlink" Target="http://ru.wikipedia.org/wiki/&#1050;&#1072;&#1084;&#1077;&#1085;&#1085;&#1086;&#1086;&#1089;&#1090;&#1088;&#1086;&#1074;&#1089;&#1082;&#1080;&#1081;_&#1087;&#1088;&#1086;&#1089;&#1087;&#1077;&#1082;&#1090;_(&#1057;&#1072;&#1085;&#1082;&#1090;-&#1055;&#1077;&#1090;&#1077;&#1088;&#1073;&#1091;&#1088;&#1075;)" TargetMode="External"/><Relationship Id="rId4" Type="http://schemas.openxmlformats.org/officeDocument/2006/relationships/hyperlink" Target="http://ru.wikipedia.org/wiki/&#1041;&#1086;&#1083;&#1100;&#1096;&#1072;&#1103;_&#1052;&#1086;&#1085;&#1077;&#1090;&#1085;&#1072;&#1103;_&#1091;&#1083;&#1080;&#1094;&#1072;_(&#1057;&#1072;&#1085;&#1082;&#1090;-&#1055;&#1077;&#1090;&#1077;&#1088;&#1073;&#1091;&#1088;&#1075;)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72;&#1085;&#1094;&#1077;&#1083;&#1103;&#1088;&#1080;&#1103;" TargetMode="External"/><Relationship Id="rId3" Type="http://schemas.openxmlformats.org/officeDocument/2006/relationships/hyperlink" Target="http://ru.wikipedia.org/wiki/&#1046;&#1086;&#1088;&#1078;_&#1057;&#1072;&#1085;&#1076;" TargetMode="External"/><Relationship Id="rId4" Type="http://schemas.openxmlformats.org/officeDocument/2006/relationships/hyperlink" Target="http://ru.wikipedia.org/wiki/&#1057;&#1086;&#1094;&#1080;&#1072;&#1083;&#1080;&#1089;&#1090;" TargetMode="External"/><Relationship Id="rId5" Type="http://schemas.openxmlformats.org/officeDocument/2006/relationships/hyperlink" Target="http://ru.wikipedia.org/wiki/&#1041;&#1080;&#1073;&#1083;&#1080;&#1086;&#1075;&#1088;&#1072;&#1092;&#1080;&#1103;" TargetMode="External"/><Relationship Id="rId6" Type="http://schemas.openxmlformats.org/officeDocument/2006/relationships/hyperlink" Target="http://ru.wikipedia.org/wiki/&#1054;&#1090;&#1077;&#1095;&#1077;&#1089;&#1090;&#1074;&#1077;&#1085;&#1085;&#1099;&#1077;_&#1079;&#1072;&#1087;&#1080;&#1089;&#1082;&#1080;_(&#1078;&#1091;&#1088;&#1085;&#1072;&#1083;)" TargetMode="External"/><Relationship Id="rId7" Type="http://schemas.openxmlformats.org/officeDocument/2006/relationships/hyperlink" Target="http://ru.wikipedia.org/wiki/1847" TargetMode="External"/><Relationship Id="rId8" Type="http://schemas.openxmlformats.org/officeDocument/2006/relationships/hyperlink" Target="http://ru.wikipedia.org/wiki/1848" TargetMode="External"/><Relationship Id="rId9" Type="http://schemas.openxmlformats.org/officeDocument/2006/relationships/hyperlink" Target="http://ru.wikipedia.org/wiki/&#1050;&#1088;&#1077;&#1087;&#1086;&#1089;&#1090;&#1085;&#1086;&#1077;_&#1087;&#1088;&#1072;&#1074;&#1086;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2;&#1086;&#1083;&#1100;&#1085;&#1086;&#1076;&#1091;&#1084;&#1080;&#1077;" TargetMode="External"/><Relationship Id="rId3" Type="http://schemas.openxmlformats.org/officeDocument/2006/relationships/hyperlink" Target="http://ru.wikipedia.org/wiki/28_&#1072;&#1087;&#1088;&#1077;&#1083;&#1103;" TargetMode="External"/><Relationship Id="rId4" Type="http://schemas.openxmlformats.org/officeDocument/2006/relationships/hyperlink" Target="http://ru.wikipedia.org/wiki/1848_&#1075;&#1086;&#1076;" TargetMode="External"/><Relationship Id="rId5" Type="http://schemas.openxmlformats.org/officeDocument/2006/relationships/hyperlink" Target="http://ru.wikipedia.org/wiki/&#1057;&#1089;&#1099;&#1083;&#1082;&#1072;_(&#1085;&#1072;&#1082;&#1072;&#1079;&#1072;&#1085;&#1080;&#1077;)" TargetMode="External"/><Relationship Id="rId6" Type="http://schemas.openxmlformats.org/officeDocument/2006/relationships/hyperlink" Target="http://ru.wikipedia.org/wiki/&#1050;&#1080;&#1088;&#1086;&#1074;_(&#1050;&#1080;&#1088;&#1086;&#1074;&#1089;&#1082;&#1072;&#1103;_&#1086;&#1073;&#1083;&#1072;&#1089;&#1090;&#1100;)" TargetMode="External"/><Relationship Id="rId7" Type="http://schemas.openxmlformats.org/officeDocument/2006/relationships/hyperlink" Target="http://ru.wikipedia.org/w/index.php?title=&#1042;&#1103;&#1090;&#1089;&#1082;&#1086;&#1077;_&#1075;&#1091;&#1073;&#1077;&#1088;&#1085;&#1089;&#1082;&#1086;&#1077;_&#1087;&#1088;&#1072;&#1074;&#1083;&#1077;&#1085;&#1080;&#1077;&amp;action=edit&amp;redlink=1" TargetMode="External"/><Relationship Id="rId8" Type="http://schemas.openxmlformats.org/officeDocument/2006/relationships/hyperlink" Target="http://ru.wikipedia.org/wiki/&#1042;&#1103;&#1090;&#1089;&#1082;&#1072;&#1103;_&#1075;&#1091;&#1073;&#1077;&#1088;&#1085;&#1080;&#1103;" TargetMode="External"/><Relationship Id="rId9" Type="http://schemas.openxmlformats.org/officeDocument/2006/relationships/hyperlink" Target="http://ru.wikipedia.org/wiki/&#1055;&#1088;&#1072;&#1074;&#1080;&#1090;&#1077;&#1083;&#1100;" TargetMode="External"/><Relationship Id="rId10" Type="http://schemas.openxmlformats.org/officeDocument/2006/relationships/hyperlink" Target="http://ru.wikipedia.org/wiki/&#1055;&#1088;&#1072;&#1074;&#1083;&#1077;&#1085;&#1080;&#1077;" TargetMode="External"/><Relationship Id="rId11" Type="http://schemas.openxmlformats.org/officeDocument/2006/relationships/hyperlink" Target="http://ru.wikipedia.org/wiki/&#1057;&#1083;&#1086;&#1073;&#1086;&#1076;&#1089;&#1082;&#1086;&#1081;_&#1091;&#1077;&#1079;&#1076;" TargetMode="External"/><Relationship Id="rId12" Type="http://schemas.openxmlformats.org/officeDocument/2006/relationships/hyperlink" Target="http://ru.wikipedia.org/wiki/&#1053;&#1072;&#1088;&#1086;&#1076;_(&#1087;&#1088;&#1086;&#1089;&#1090;&#1086;&#1085;&#1072;&#1088;&#1086;&#1076;&#1100;&#1077;)" TargetMode="External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204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.Е. Салтыков-Щедр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360" y="3644640"/>
            <a:ext cx="4097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ученик 10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риахметов Рус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ноябре 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855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 ему разрешено было, наконец, покинуть Вятку (откуда он до тех пор только один раз выезжал к себе в тверскую деревню); в феврале 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56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 он был причислен к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инистерству внутренних дел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, в июне того же года назначен чиновником особых поручений при министре и в августе командирован в губернии Тверскую и 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ладимирскую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 для обозрения 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елопроизводства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 губернских комитетов 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ополчения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 (созванного, по случаю 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Восточной войны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, в 1855). В его бумагах нашлась черновая записка, составленная им при исполнении этого поручения. Она удостоверяет, что так называемые дворянские губернии предстали перед Салтыковым-Щедриным не в лучшем виде, чем недворянская, Вятская; злоупотреблений при снаряжении ополчения им было обнаружено множество. Несколько позже им была составлена записка об устройстве градских и земских полиций, проникнутая мало ещё распространенной тогда идеей 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децентрализации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 и весьма смело подчеркивавшая недостатки действовавших порядк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обновление литератур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лед за возвращением Салтыкова-Щедрина из ссылки возобновилась, с большим блеском, его литературная деятельность. Имя надворного советника Щедрина, которым были подписаны появлявшиеся в «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усском вестни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с 1856 «Губернские очерки», сразу стало одним из самых любимых и популяр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ранные в одно целое, «Губернские очерки» в 1857 выдержали два издания (впоследствии — ещё множество). Они положили начало целой литературе, получившей название «обличительной», но сами принадлежали к ней только отчасти. Внешняя сторона мира кляуз, взяток, всяческих злоупотреблений наполняет всецело лишь некоторые из очерков; на первый план выдвигается психология чиновничьего быта, выступают такие крупные фигуры, как Порфирий Петрович, как «озорник», первообраз «помпадуров», или «надорванный», первообраз «ташкентцев», как Перегоренский, с неукротимым ябедничеством которого должно считаться даже административное полновлас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260280"/>
            <a:ext cx="82296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рте 1858 Салтыков-Щедрин был назначен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язанск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ице-губернатором, в апреле 1860 переведён на ту же должность в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вер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ишет он в это время очень много, сначала в разных журналах (кроме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усского вестн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 — в «Атенее»,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овременни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Библиотеке для чт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, «Московском вестнике»), но с 1860 — почти исключительно в «Современник» (в 1861 Салтыков-Щедрин поместил несколько небольших статей в «Московских ведомостях» (ред.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В. Ф.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Корш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в 1862 — несколько сцен и рассказов в журнале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Врем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написанного им между 1858 и 1862 годами составились два сборника — «Невинные рассказы» и «Сатиры в прозе»; и тот, и другой изданы отдельно три раза (1863, 1881, 188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024000" cy="468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09564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92720" y="5157360"/>
            <a:ext cx="2806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емная редакции совреме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хотел поселиться в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оск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основать там двухнедельный журнал; когда ему это не удалось, он переехал в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етербур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с начала 1863 стал фактически одним из редакторов «Современника». В течение двух лет он помещает в нём беллетристические произведения, общественные и театральные хроники, московские письма, рецензии на книги, полемические заметки, публицистические статьи. (Обзор содержания статей, помещённых Салтыковым-Щедриным в «Современник» 1863 и 1864, см. в книге А. Н. Пыпина «M. Е. Салтыков» (СПб., 1899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643280" y="476280"/>
            <a:ext cx="40388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0384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оябре 1864 он был назначен управляющим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ензенско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 казённой палатой, два года спустя переведён на ту же должность в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ул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а в октябре 1867 — в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язань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Эти годы были временем его наименьшей литературной деятельности: в течение трёх лет (1865—1867) в печати появилась только одна его статья «Завещание моим детям» («Современник», 1866, № 1; перепечатанный в «Признаках времени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4284720" y="981000"/>
            <a:ext cx="44704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течественные записки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384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тяга к литературе оставалась, однако, прежняя: как только «Отечественные записки» перешли (с 1 января 1868) под редакцию Некрасова, Салтыков-Щедрин стал одним из их самых усердных сотрудников, а в июне 1868 окончательно покинул службу и занял должность одного из главных сотрудников и руководителей журнала, официальным редактором которого стал десять лет спустя, после смерти Некрас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 существовали «Отечественные записки», то есть до 1884, Салтыков-Щедрин работал исключительно для 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03640" y="1125360"/>
            <a:ext cx="345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рть матери в 1874 г. оборвала последние нити, связывающие М.Е.Салтыкова-Щедрина с краем его детства. Лишь изредка продолжал он посещать своего друга А.М.Унковского в его имении Дмитрюково Старицкого 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3600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годы жизни М.Е.Салтыков-Щедрин пытался приобрести небольшое поместье в Тверской губернии. Но его мечта  не осуществ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р М.Е.Салтыков-Щедрин 28 апреля (по старому стилю) 1889 г. в Петербур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0320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4330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; (псевд. Н. Щедрин) Родился 15 (27) января 1826, в селе Спас-Угол Калязинского уезда Тверской губернии .русский писатель-сатирик, публицист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59280" y="907920"/>
            <a:ext cx="3772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40384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ец писателя Евграф Васильевич Салтыков (1776-1851).Происходил из старинного дворянского 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16000" y="260280"/>
            <a:ext cx="40388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ь Ольга Михайловна Забелина (1801-1874) – из семьи богатого московского куп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280836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508720" y="2924280"/>
            <a:ext cx="2520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м учителем Салтыкова-Щедрина был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репостной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человек его родителей, живописец Павел Соколов; потом с ним занимались старшая его сестра, священник соседнего села,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гувернантк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и студент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осковской духовной академи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Десяти лет от роду он поступил в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осковский дворянский институт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а два года спустя был переведён, как один из лучших учеников,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азённокоштным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воспитанником в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Царскосельский лицей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Именно там он и начал свою деятельность пис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490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литератур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12536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844 году окончил, уже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лександровский лице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по второму разряду (то есть с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чином X класс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, семнадцатым из 22 учеников, потому что поведение его аттестовалось не более как «довольно хорошим»: к обычным школьным проступкам (грубость, курение, небрежность в одежде) у него присоединялось «писание стихов» «неодобрительного» содержания. В лицее под влиянием свежих ещё тогда Пушкинских преданий каждый курс имел своего поэта; на XIII курсе эту роль играл Салтыков-Щедрин. Несколько его стихотворений было помещено в «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Библиотеке для чтени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»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41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и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842 годов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когда он был ещё лицеистом; другие, напечатанные в «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Современник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» (ред.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Плетнёв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184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и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1845 годах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написаны им также ещё в лицее (все эти стихотворения перепечатаны в «Материалах для биографии М. Е. Салтыкова», приложенных к полному собранию его сочинени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5733720"/>
            <a:ext cx="81360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е Александровского лицея в Санкт-Петербурге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аменноостровский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проспе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21, у пересечения с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Большой Монетной улиц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50920" y="40464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36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вгусте 1844 Салтыков-Щедрин был зачислен на службу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анцелярию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военного министра и только через два года получил там первое штатное место — помощника секретаря. Литература уже тогда занимала его гораздо больше, чем служба: он не только много читал, увлекаясь в особенности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Жорж Санд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и французскими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оциалистам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(блестящая картина этого увлечения нарисована им тридцать лет спустя в четвёртой главе сборника «За рубежом»), но и писал — сначала небольшие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библиографическ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заметки (в «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Отечественных записка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»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847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, потом повести «Противоречия» (там же, ноябрь 1847) и «Запутанное дело» (март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1848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же в библиографических заметках, несмотря на маловажность книг, по поводу которых они написаны, проглядывает образ мыслей автора — его отвращение к рутине, к прописной морали, к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крепостному прав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; местами попадаются и блёстки насмешливого юм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4140360" y="4365720"/>
            <a:ext cx="467964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ят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691920"/>
            <a:ext cx="79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казание за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ольнодуми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 уже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8 апрел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48 год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 он был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ыслан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 в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Вятк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 и 3 июля определён канцелярским чиновником при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Вятском губернском правлени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В ноябре того же года он был назначен старшим чиновником особых поручений при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вятском губернатор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затем два раза занимал должность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правител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 губернаторской канцелярии, а с августа 1850 был советником губернского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правлени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О службе его в Вятке сохранилось мало сведений, но, судя по записке о земельных беспорядках в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Слободском уезд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найденной после смерти Салтыкова-Щедрина в его бумагах и подробно изложенной в «Материалах» для его биографии, он горячо принимал к сердцу свои обязанности, когда они приводили его в непосредственное соприкосновение с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народной массо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 и давали ему возможность быть ей полез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424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7:14:48Z</dcterms:created>
  <dc:creator>Надоел уже</dc:creator>
  <dc:description/>
  <dc:language>en-US</dc:language>
  <cp:lastModifiedBy>Надоел уже</cp:lastModifiedBy>
  <dcterms:modified xsi:type="dcterms:W3CDTF">2013-01-20T19:03:06Z</dcterms:modified>
  <cp:revision>3</cp:revision>
  <dc:subject/>
  <dc:title>М.Е. Салтыков-Щедрин.</dc:title>
</cp:coreProperties>
</file>