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5C6-2232-456E-86E1-6B20166E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E51-9535-46BF-97AC-7A47995E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B70-492C-462E-97A8-0ACB3D4D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DF9-4935-4B4F-9E4E-AB2AF124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589-66C7-4886-AC8A-276D93F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A1A-EC9F-4270-9C52-F23B7A6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C01-03ED-4577-A95D-1F4E193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05C-BCC0-4DAD-BC92-9CDE654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C08-8E1B-4CA9-A1BA-71668284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B8B-1E41-40F9-B232-5372F04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EA4-886F-4E48-B015-CB202DF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F82-2AFF-4AF6-AF19-D8532D3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A9F-BAA0-40E0-8FE6-6603F9F72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8а"/>
          <p:cNvPicPr/>
          <p:nvPr/>
        </p:nvPicPr>
        <p:blipFill>
          <a:blip r:embed="rId1"/>
          <a:stretch/>
        </p:blipFill>
        <p:spPr>
          <a:xfrm>
            <a:off x="-304920" y="-209520"/>
            <a:ext cx="9753840" cy="727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ст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68360" y="2421000"/>
            <a:ext cx="8424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ологии мультимеди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7" descr="1349950285_x_2ffd9bd5"/>
          <p:cNvPicPr/>
          <p:nvPr/>
        </p:nvPicPr>
        <p:blipFill>
          <a:blip r:embed="rId2"/>
          <a:stretch/>
        </p:blipFill>
        <p:spPr>
          <a:xfrm>
            <a:off x="2916360" y="3500280"/>
            <a:ext cx="3311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из перечисленных видов информации не используются в мультимедийных проек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видео,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двоич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звук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258920" y="5877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те один отв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устройства не относятся к аппаратным средствам мультимеди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Коло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Прин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устройства не относятся к аппаратным средствам мультимеди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клавиатура,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микроф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видеока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ложения не относятся к программным средствам мультимеди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) медиаплее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) текстовый редакто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) программа для создания презентаци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ложения не относятся к программным средствам мультимеди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алькулят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омпьютерные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81а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мя автора первого коммерческого мультимедийного продукт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National Art Gallery. London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Чарльз Беббидж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тив Джоб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Билл Гейт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60-3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958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развитая форма мультимедийных технологий, которая позволяет пользователю погрузиться в модельный мир и непосредственно действовать в нём 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59500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ьте пропущенное слов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60-3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958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 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, обеспечивающий полнофункциональную работу мультимедийных программ, то есть имеющий возможность воспроизводить различные звуки, музыку и видеоданные, просматривать графические изображения,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59500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ьте пропущенное слов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60-3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958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равильные от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50752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 б       9)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 а     10)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 а     11)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 а     12)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 б     13)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 а     14)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  а     15) виртуаль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  б     16) мультимедий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43040" y="492732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терии оцен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 – 9 правильных ответов – 3 бал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 – 14  правильных ответов – 4 бал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 – 16 правильных ответов – 5 баллов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 первым типом данных, для работы с которыми компьютеры изобрели, была граф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овременных компьютерах говорят как 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льтимедийных устройств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одновременное использование различных форм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пособность пользователя активно взаимодействовать с программой, управлять 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 не является одним из важных свойств мультимедиа-прод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92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один правильный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презентации являются одним из видов мультимедийных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ойства компьютера, предназначенные для работы со звуковой и видеоинформацией, называют устройствами мультимед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332000" y="5589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те один вариант отв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8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опрос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программы, позволяющие создавать, редактировать и воспроизводить мультимедийные данные, называют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кстовыми редакт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Да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258920" y="5877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ерите один вариант отв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6:47:38Z</dcterms:created>
  <dc:creator>пользователь</dc:creator>
  <dc:description/>
  <dc:language>en-US</dc:language>
  <cp:lastModifiedBy>Admin</cp:lastModifiedBy>
  <dcterms:modified xsi:type="dcterms:W3CDTF">2013-02-10T18:23:34Z</dcterms:modified>
  <cp:revision>22</cp:revision>
  <dc:subject/>
  <dc:title>Тест по теме «Технологии мультимедиа»</dc:title>
</cp:coreProperties>
</file>