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E14-0099-4884-9DD5-AFFB67F6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C9A-E6EA-4975-B28F-071CF0D9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E277-524E-4C52-933E-F384DF32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ED3-4989-4C32-A0AD-E8FB98E5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5C3E-D190-40F9-BDD3-81E3E163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EF99-BBDD-4671-B61A-3C8A2413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3073-045A-4B86-AAE4-943BE5B2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335C-3DF6-4DC6-A6C4-177B99C6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F97D-297B-4D9C-A938-E84F711E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A754-6AF1-4E65-8886-9E25F890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469D-0ACA-46C4-868C-F0573DC2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1D3-B2AB-4966-A493-F459691E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934A-681F-438A-968C-27DB39BC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820A-E3E1-4609-A9C6-59F23C6B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7827-7AEF-4AA2-900C-86DAC4C2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37C5-250D-41F9-95BA-F549AE69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F67D-33F7-4240-BD37-34F9F4E9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037-0376-4BFB-8E94-F3BD60B3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273-BDF4-4430-923E-07CCB318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E783-4681-4767-BC21-65D2C520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33C-CF89-4ADF-AAEB-38E477B0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98A-1B33-4F2F-9BA7-6B13AF05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C73-0D8F-42E1-A121-105F8BF5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52C-12A3-4E86-B7F3-7A833ED2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B788-3170-49D1-8BAB-4FA25E91FD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72BA-8632-4013-9BCB-4F4844EF1B47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4005000"/>
            <a:ext cx="69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Участники проекта: дети средней группы. 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Возраст – 5 лет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8920" y="5084640"/>
            <a:ext cx="770580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уратор работы: воспитатель группы О.Н.Вельди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МДОУ «Ельниковский детский сад № 1» с. Ельники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, Еьниковский район, Республика Мордов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250920" y="270828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ект "Веселые поварят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5" descr="P1020779"/>
          <p:cNvPicPr/>
          <p:nvPr/>
        </p:nvPicPr>
        <p:blipFill>
          <a:blip r:embed="rId1"/>
          <a:stretch/>
        </p:blipFill>
        <p:spPr>
          <a:xfrm>
            <a:off x="2411280" y="404640"/>
            <a:ext cx="2819520" cy="2114640"/>
          </a:xfrm>
          <a:prstGeom prst="rect">
            <a:avLst/>
          </a:prstGeom>
          <a:ln w="76320">
            <a:solidFill>
              <a:srgbClr val="1202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2028c"/>
                </a:solidFill>
                <a:latin typeface="Arial"/>
              </a:rPr>
              <a:t>Такие разные сала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4" descr="P1020785"/>
          <p:cNvPicPr/>
          <p:nvPr/>
        </p:nvPicPr>
        <p:blipFill>
          <a:blip r:embed="rId1"/>
          <a:stretch/>
        </p:blipFill>
        <p:spPr>
          <a:xfrm>
            <a:off x="539640" y="1052640"/>
            <a:ext cx="7201080" cy="5400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P1020788"/>
          <p:cNvPicPr/>
          <p:nvPr/>
        </p:nvPicPr>
        <p:blipFill>
          <a:blip r:embed="rId2"/>
          <a:stretch/>
        </p:blipFill>
        <p:spPr>
          <a:xfrm>
            <a:off x="539640" y="1052640"/>
            <a:ext cx="7272360" cy="54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Результативность проекта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ети получили знания о здоровой и полезной пище, простейшие навыки самостоятельного приготовления салатов (несложных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знакомились с правилами пользования кухонными приборам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    Развили творческое воображения, фантазию и эстетический вкус при оформлении салат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93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Цель: заинтересовать детей различными способами приготовления салатов через освоение простейших способов творческого экспериментирования с продукта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Задачи: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- обогащение знаний детей о здоровой и полезной пище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- развитие способностей планирования этапов исследовательской и продуктивной деятельности и умений последовательной работы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- формирование простейших навыков самостоятельного приготовления салатов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- совершенствование умений детей пользоваться кухонным оборудованием и столовыми приборами в процессе приготовления салатов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- развитие творческого воображения, фантазии и эстетического вкуса при оформлении салатов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89000"/>
            <a:ext cx="73864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010e"/>
                </a:solidFill>
                <a:latin typeface="Arial"/>
              </a:rPr>
              <a:t>Тема: Приготовление салат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едварительна работа.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Беседа с детьми на тему: «Что мы знаем о салатах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4" descr="P1020754"/>
          <p:cNvPicPr/>
          <p:nvPr/>
        </p:nvPicPr>
        <p:blipFill>
          <a:blip r:embed="rId1"/>
          <a:stretch/>
        </p:blipFill>
        <p:spPr>
          <a:xfrm>
            <a:off x="684360" y="1700280"/>
            <a:ext cx="63370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5373720"/>
            <a:ext cx="738648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Черпаем знания из книги «О вкусной и здоровой пище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4" descr="P1020756"/>
          <p:cNvPicPr/>
          <p:nvPr/>
        </p:nvPicPr>
        <p:blipFill>
          <a:blip r:embed="rId2"/>
          <a:stretch/>
        </p:blipFill>
        <p:spPr>
          <a:xfrm>
            <a:off x="755640" y="404640"/>
            <a:ext cx="65530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54144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4" descr="001 (3)"/>
          <p:cNvPicPr/>
          <p:nvPr/>
        </p:nvPicPr>
        <p:blipFill>
          <a:blip r:embed="rId1"/>
          <a:stretch/>
        </p:blipFill>
        <p:spPr>
          <a:xfrm>
            <a:off x="0" y="765000"/>
            <a:ext cx="7872480" cy="5729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001 (4)"/>
          <p:cNvPicPr/>
          <p:nvPr/>
        </p:nvPicPr>
        <p:blipFill>
          <a:blip r:embed="rId2"/>
          <a:stretch/>
        </p:blipFill>
        <p:spPr>
          <a:xfrm>
            <a:off x="0" y="765000"/>
            <a:ext cx="7885080" cy="57391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303120" y="189000"/>
            <a:ext cx="79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Игра «Подбери продукты для салата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30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Экскурсия на кухню детского сада.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5661000"/>
            <a:ext cx="738648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ети получают первое знакомство и обсуждение правил использования кухонного оборудования и столовых приборов при приготовлении салат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4" descr="P1020768"/>
          <p:cNvPicPr/>
          <p:nvPr/>
        </p:nvPicPr>
        <p:blipFill>
          <a:blip r:embed="rId2"/>
          <a:stretch/>
        </p:blipFill>
        <p:spPr>
          <a:xfrm>
            <a:off x="395280" y="1268280"/>
            <a:ext cx="7345440" cy="4378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P1020771"/>
          <p:cNvPicPr/>
          <p:nvPr/>
        </p:nvPicPr>
        <p:blipFill>
          <a:blip r:embed="rId3"/>
          <a:stretch/>
        </p:blipFill>
        <p:spPr>
          <a:xfrm>
            <a:off x="324000" y="1268280"/>
            <a:ext cx="7345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6453360"/>
            <a:ext cx="73864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могаю маме – я уже большой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404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Продолжение развития творческой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деятельности в семь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Picture 6" descr="SAM_0627"/>
          <p:cNvPicPr/>
          <p:nvPr/>
        </p:nvPicPr>
        <p:blipFill>
          <a:blip r:embed="rId2"/>
          <a:stretch/>
        </p:blipFill>
        <p:spPr>
          <a:xfrm>
            <a:off x="684360" y="1341360"/>
            <a:ext cx="6632280" cy="4975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Фото0112"/>
          <p:cNvPicPr/>
          <p:nvPr/>
        </p:nvPicPr>
        <p:blipFill>
          <a:blip r:embed="rId3"/>
          <a:stretch/>
        </p:blipFill>
        <p:spPr>
          <a:xfrm>
            <a:off x="1979640" y="1268280"/>
            <a:ext cx="4033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Проведение семейного конкурса «Мой любимый салат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4" descr="Фото0100"/>
          <p:cNvPicPr/>
          <p:nvPr/>
        </p:nvPicPr>
        <p:blipFill>
          <a:blip r:embed="rId1"/>
          <a:stretch/>
        </p:blipFill>
        <p:spPr>
          <a:xfrm>
            <a:off x="2050920" y="1484280"/>
            <a:ext cx="3691080" cy="4921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DSCN4463"/>
          <p:cNvPicPr/>
          <p:nvPr/>
        </p:nvPicPr>
        <p:blipFill>
          <a:blip r:embed="rId2"/>
          <a:stretch/>
        </p:blipFill>
        <p:spPr>
          <a:xfrm>
            <a:off x="1547640" y="1268280"/>
            <a:ext cx="4629240" cy="6170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SAM_0648"/>
          <p:cNvPicPr/>
          <p:nvPr/>
        </p:nvPicPr>
        <p:blipFill>
          <a:blip r:embed="rId3"/>
          <a:stretch/>
        </p:blipFill>
        <p:spPr>
          <a:xfrm>
            <a:off x="395280" y="1484280"/>
            <a:ext cx="6848640" cy="51372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4" descr="2"/>
          <p:cNvPicPr/>
          <p:nvPr/>
        </p:nvPicPr>
        <p:blipFill>
          <a:blip r:embed="rId4"/>
          <a:stretch/>
        </p:blipFill>
        <p:spPr>
          <a:xfrm>
            <a:off x="1979640" y="1197000"/>
            <a:ext cx="4092480" cy="54608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" descr="DSC00419.JPG"/>
          <p:cNvPicPr/>
          <p:nvPr/>
        </p:nvPicPr>
        <p:blipFill>
          <a:blip r:embed="rId5"/>
          <a:stretch/>
        </p:blipFill>
        <p:spPr>
          <a:xfrm>
            <a:off x="1476360" y="1197000"/>
            <a:ext cx="516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Творческое экспериментирование с продуктами совместно с педагогом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541800" y="6381360"/>
            <a:ext cx="73868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овместный практикум «Как получается салат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4" descr="P1020774"/>
          <p:cNvPicPr/>
          <p:nvPr/>
        </p:nvPicPr>
        <p:blipFill>
          <a:blip r:embed="rId1"/>
          <a:stretch/>
        </p:blipFill>
        <p:spPr>
          <a:xfrm>
            <a:off x="468360" y="1413000"/>
            <a:ext cx="6522840" cy="4890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P1020776"/>
          <p:cNvPicPr/>
          <p:nvPr/>
        </p:nvPicPr>
        <p:blipFill>
          <a:blip r:embed="rId2"/>
          <a:stretch/>
        </p:blipFill>
        <p:spPr>
          <a:xfrm>
            <a:off x="395280" y="1197000"/>
            <a:ext cx="6767640" cy="5076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P1020779"/>
          <p:cNvPicPr/>
          <p:nvPr/>
        </p:nvPicPr>
        <p:blipFill>
          <a:blip r:embed="rId3"/>
          <a:stretch/>
        </p:blipFill>
        <p:spPr>
          <a:xfrm>
            <a:off x="468360" y="1197000"/>
            <a:ext cx="66960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07:36:52Z</dcterms:created>
  <dc:creator>Blood</dc:creator>
  <dc:description/>
  <dc:language>en-US</dc:language>
  <cp:lastModifiedBy>1</cp:lastModifiedBy>
  <dcterms:modified xsi:type="dcterms:W3CDTF">2013-01-29T05:41:40Z</dcterms:modified>
  <cp:revision>4</cp:revision>
  <dc:subject/>
  <dc:title>Участники проекта: дети средней группы.  Возраст – 5 лет.</dc:title>
</cp:coreProperties>
</file>