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gif" ContentType="image/gif"/>
  <Override PartName="/ppt/media/image6.jpeg" ContentType="image/jpeg"/>
  <Override PartName="/ppt/media/image7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AC7F6-144D-49ED-B6CA-6121572DC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B96EB-114C-41D9-BBC9-C27F2E6D6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A1815-7A9F-474C-BC5E-6CEA50938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7EAAA-0C12-4384-B400-2E7B150BE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148B0-4A98-4C8F-9CBB-F768982E4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5D9A1-385C-479B-BADD-70927868B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E8239-1F16-4F85-9ECF-775BB52E8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6A82C-D2D2-4DBB-840F-264F26D5E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D2C01-F794-40F0-B295-ACB9FBFBE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A4DFD-759B-4AB8-9D49-531779AD0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A7F77-7AE9-4F5E-8B9E-06DB9B4C9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30BC1-55E0-42B4-B504-42D93FC0F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6B4FB-5FEA-423C-BC0F-04BD3F06C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56A93-3659-451B-A483-021D1835F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C62B2-DA52-4727-98E1-69B59AA9B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D121B-AEEF-4DC0-B36E-4C919D0CF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71008-34B7-48F2-BBBA-AA3F3D4AF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5906C-FAC7-4D1F-8712-442166C9B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91A30-90E1-4D84-B29D-3BC75E817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DC77B-731C-43DA-8DC8-3BB53E800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16DE5-2700-4B16-B27E-56855FA5E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6F223-A840-4A89-87E8-F32909811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0C3B2-AFC4-4ED5-8839-BB0B5C174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9D6B4-7CA6-4B2E-930D-3ED8410FD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56328-2497-4BAE-BB56-1976B2954104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F0E5A-5AF9-42ED-9BA3-39EA412A0FF3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3428640"/>
            <a:ext cx="9144000" cy="14698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omic Sans MS"/>
              </a:rPr>
              <a:t>Урок русского языка в 4 классе по теме:</a:t>
            </a:r>
            <a:br>
              <a:rPr sz="4800"/>
            </a:br>
            <a:r>
              <a:rPr b="1" lang="en-US" sz="4800" spc="-1" strike="noStrike">
                <a:solidFill>
                  <a:srgbClr val="ff0000"/>
                </a:solidFill>
                <a:latin typeface="Comic Sans MS"/>
              </a:rPr>
              <a:t> «Деление текста на части.</a:t>
            </a:r>
            <a:br>
              <a:rPr sz="4800"/>
            </a:br>
            <a:r>
              <a:rPr b="1" lang="en-US" sz="4800" spc="-1" strike="noStrike">
                <a:solidFill>
                  <a:srgbClr val="ff0000"/>
                </a:solidFill>
                <a:latin typeface="Comic Sans MS"/>
              </a:rPr>
              <a:t> План текста».</a:t>
            </a:r>
            <a:endParaRPr b="0" lang="en-US" sz="4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7280" y="566064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резентацию подготовила: учитель начальных классов Шабашова Елена Александровна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63128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Примерный план текста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94920" y="1052640"/>
            <a:ext cx="828036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. Работа не удалась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2. Ножик не виноват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. Отец учит Митю работать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. Митя работает не спеша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5. Ножик сопротивляется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6. Научился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Физминутк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42560" y="980640"/>
            <a:ext cx="76964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Вы наверное устали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Ну тогда все дружно встали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Ножками потопали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Ручками похлопали,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Покрутились, повертелись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И за парты все уселись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Глазки крепко закрываем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Дружно до пяти считаем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Открываем, поморгаем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И работать продолжаем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6156360" y="3357720"/>
            <a:ext cx="2808360" cy="30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Орфографическая подготовка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611280" y="1700280"/>
            <a:ext cx="7696080" cy="36576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-360" y="1557360"/>
            <a:ext cx="84978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Найдите в тексте слова на изученные орфограммы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2771640" y="2997360"/>
            <a:ext cx="453708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83170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Контрольное списывание текста с выделением абзацев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2629080" y="1881360"/>
            <a:ext cx="3809880" cy="35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Итог урока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69608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научились делить  текст на части; составлять план текста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познакомились с понятием «абзац» как средством членения письменной связной речи, при помощи которого отделяются предложения, выражающие новую мысль, важную для читателя; 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развивали умение безошибочно списывать текст.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Домашнее задание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79280" y="1828800"/>
            <a:ext cx="8964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Составить план к тексту упр. 107 (устно)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3276720" y="2637000"/>
            <a:ext cx="324000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Comic Sans MS"/>
              </a:rPr>
              <a:t>Спасибо за урок!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85800" y="1828800"/>
            <a:ext cx="7696080" cy="365760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3708360" y="1628640"/>
            <a:ext cx="2879640" cy="482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7556400" cy="9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Использованные ресурсы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125360"/>
            <a:ext cx="7696080" cy="43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Русский язык. В 2 ч. Ч.1: учебник для 4 кл./ Т.Г.Рамзаева.-М.: Дрофа, 2009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оурочные разработки по русскому языку к учебному комплекту Т.Г.Рамзаевой: 4 класс.-М.: ВАКО, 2006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Интернет – ресурсы: http://images.yandex.r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Что такое текст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………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.   называется связное высказывание, состоящее из двух или нескольких …………….., объединённых одной …………., тесно связанных между собой грамматически и …………….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Что такое текст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Текстом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называется связное высказывание, состоящее из двух или нескольких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предложений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, объединённых одной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темой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, тесно связанных между собой грамматически и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по смыслу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Что такое тема текста? Основная мысль текста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Что значит озаглавить текст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Как составить план текста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Цели и задачи урока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0" y="836640"/>
            <a:ext cx="9144000" cy="60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учиться делить  текст на части; составлять план текста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познакомиться с понятием «абзац» как средством членения письменной связной речи, при помощи которого отделяются предложения, выражающие новую мысль, важную для читателя; 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развивать умение безошибочно списывать текст.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Из толкового словаря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24000" y="836640"/>
            <a:ext cx="84247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План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–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чертёж, изображающий на плоскости какую-нибудь местность, сооружение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заранее намеченная система деятельности, предусматривающая порядок, последовательность и сроки выполнения работ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- взаимное расположение частей, краткая программа какого-нибудь изложения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10920" y="620640"/>
            <a:ext cx="763092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Памятка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«Как составить план текста»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стр.58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11280" y="1196640"/>
            <a:ext cx="813744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Чтобы составить план текста, нужно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. Разделить текст на законченные по смыслу части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2. Определить основную мысль каждой части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. Озаглавить каждую часть текста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404640"/>
            <a:ext cx="7696080" cy="508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К какому тексту легче составить план – разделённому на части или нет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Как на письме выделяются смысловые части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Для чего используют абзац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Работа с текстом «Торопливый ножик»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Упр.108, стр. 60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685800" y="1828800"/>
            <a:ext cx="7696080" cy="365760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2771640" y="1773360"/>
            <a:ext cx="3961080" cy="47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7T16:51:47Z</dcterms:created>
  <dc:creator>Admin</dc:creator>
  <dc:description/>
  <dc:language>en-US</dc:language>
  <cp:lastModifiedBy>Admin</cp:lastModifiedBy>
  <dcterms:modified xsi:type="dcterms:W3CDTF">2013-10-18T18:33:02Z</dcterms:modified>
  <cp:revision>10</cp:revision>
  <dc:subject/>
  <dc:title>Деление текста на части. План текста.</dc:title>
</cp:coreProperties>
</file>