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17.png" ContentType="image/png"/>
  <Override PartName="/ppt/media/image29.wmf" ContentType="image/x-wmf"/>
  <Override PartName="/ppt/media/image11.png" ContentType="image/png"/>
  <Override PartName="/ppt/media/image6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2.png" ContentType="image/png"/>
  <Override PartName="/ppt/media/image7.wmf" ContentType="image/x-wmf"/>
  <Override PartName="/ppt/media/image9.png" ContentType="image/png"/>
  <Override PartName="/ppt/media/image8.wmf" ContentType="image/x-wmf"/>
  <Override PartName="/ppt/media/image10.gif" ContentType="image/gif"/>
  <Override PartName="/ppt/media/image33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9.wmf" ContentType="image/x-wmf"/>
  <Override PartName="/ppt/media/image21.wmf" ContentType="image/x-wmf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7B02-5CD5-4290-B00E-516A4091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CC66-7059-4BB1-919B-01566AD9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AE63-2880-49AE-9860-722A1F84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29D0-3CD8-4702-BC20-344BDA4F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B105-C88E-47E3-8EE1-E1D53ECA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F165-B73A-43BF-B5CA-550476CA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DC31-B282-4CD3-B452-0EE6EE77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A45F-872A-4DCE-A457-513D741E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1282-6063-4B3F-AA53-A5832589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FCAD-902C-470F-A728-214E2E39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385C-1A13-4435-91BA-B2CDDEBC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9C3A-6269-482A-A4E1-427D2C22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CDC1-B999-47E7-B89E-60BD4DE5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8F90-6ACD-447B-9C86-F58CA5F6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56A1-8824-4FB6-ADBB-980DDC6B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4B4A-99E2-400E-8EC2-4F0DD3EE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465D-AFA0-47F5-A53C-77DA29B5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DE97-4731-427B-B583-7DBEA266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FE58-F8ED-4879-84AC-2DC4B447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D23E-A5EB-45F6-8955-5EADAE43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8667-5DC8-4C60-9793-5A7121D9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3D11-4328-482B-8583-A674AB80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72A5-B901-402C-951A-9D306BD7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06F8-62C9-4B10-8AB3-A785DFA4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9964-69D8-46B9-878A-1544BC3B7D0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011A-2229-4849-9F59-BCEFC3655FD6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gif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wmf"/><Relationship Id="rId21" Type="http://schemas.openxmlformats.org/officeDocument/2006/relationships/image" Target="../media/image19.wmf"/><Relationship Id="rId22" Type="http://schemas.openxmlformats.org/officeDocument/2006/relationships/image" Target="../media/image20.wmf"/><Relationship Id="rId23" Type="http://schemas.openxmlformats.org/officeDocument/2006/relationships/image" Target="../media/image10.gif"/><Relationship Id="rId24" Type="http://schemas.openxmlformats.org/officeDocument/2006/relationships/image" Target="../media/image10.gif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2.wm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image" Target="../media/image26.wmf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1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685800" y="914400"/>
            <a:ext cx="7696080" cy="4724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1302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latin typeface="Comic Sans MS"/>
              </a:rPr>
              <a:t>В  М И Р Е   М Н О Г О</a:t>
            </a:r>
            <a:endParaRPr b="1" lang="en-US" sz="2400" spc="1" strike="noStrike">
              <a:ln w="381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381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latin typeface="Comic Sans MS"/>
              </a:rPr>
              <a:t>С К А З О К . . .</a:t>
            </a:r>
            <a:endParaRPr b="1" lang="en-US" sz="2400" spc="1" strike="noStrike">
              <a:ln w="381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pic>
        <p:nvPicPr>
          <p:cNvPr id="100" name="Picture 4" descr="BS00554_"/>
          <p:cNvPicPr/>
          <p:nvPr/>
        </p:nvPicPr>
        <p:blipFill>
          <a:blip r:embed="rId1"/>
          <a:stretch/>
        </p:blipFill>
        <p:spPr>
          <a:xfrm>
            <a:off x="324000" y="5300640"/>
            <a:ext cx="1450800" cy="1265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BS00554_"/>
          <p:cNvPicPr/>
          <p:nvPr/>
        </p:nvPicPr>
        <p:blipFill>
          <a:blip r:embed="rId2"/>
          <a:stretch/>
        </p:blipFill>
        <p:spPr>
          <a:xfrm>
            <a:off x="179280" y="189000"/>
            <a:ext cx="1403280" cy="1224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BS00554_"/>
          <p:cNvPicPr/>
          <p:nvPr/>
        </p:nvPicPr>
        <p:blipFill>
          <a:blip r:embed="rId3"/>
          <a:stretch/>
        </p:blipFill>
        <p:spPr>
          <a:xfrm>
            <a:off x="7380360" y="5297400"/>
            <a:ext cx="1458720" cy="1271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BS00554_"/>
          <p:cNvPicPr/>
          <p:nvPr/>
        </p:nvPicPr>
        <p:blipFill>
          <a:blip r:embed="rId4"/>
          <a:stretch/>
        </p:blipFill>
        <p:spPr>
          <a:xfrm>
            <a:off x="7524720" y="260280"/>
            <a:ext cx="1387440" cy="1209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MP00640_"/>
          <p:cNvPicPr/>
          <p:nvPr/>
        </p:nvPicPr>
        <p:blipFill>
          <a:blip r:embed="rId5">
            <a:lum bright="70000" contrast="-70000"/>
          </a:blip>
          <a:srcRect l="11763" t="3936" r="0" b="17316"/>
          <a:stretch/>
        </p:blipFill>
        <p:spPr>
          <a:xfrm>
            <a:off x="2895480" y="1600200"/>
            <a:ext cx="3429000" cy="3048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BD06662_"/>
          <p:cNvPicPr/>
          <p:nvPr/>
        </p:nvPicPr>
        <p:blipFill>
          <a:blip r:embed="rId6"/>
          <a:stretch/>
        </p:blipFill>
        <p:spPr>
          <a:xfrm>
            <a:off x="3352680" y="2133720"/>
            <a:ext cx="2403720" cy="21272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42" repeatCount="3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16667E-006 -1.79191E-006 L 0.00209 0.73942 E">
                                      <p:cBhvr>
                                        <p:cTn id="38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63" repeatCount="3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1632 -0.00809 L 0.75486 -0.01619 E">
                                      <p:cBhvr>
                                        <p:cTn id="4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64" repeatCount="3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1718 -0.01618 L -0.01805 -0.76878 E">
                                      <p:cBhvr>
                                        <p:cTn id="4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2205 -0.02612 L -0.81441 -0.02566 E">
                                      <p:cBhvr>
                                        <p:cTn id="4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SO02016_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371600" y="914400"/>
            <a:ext cx="6324480" cy="4800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 rot="600">
            <a:off x="3122640" y="1979640"/>
            <a:ext cx="44956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Monotype Corsiva"/>
              </a:rPr>
              <a:t>	</a:t>
            </a:r>
            <a:r>
              <a:rPr b="1" lang="ru-RU" sz="2800" spc="-1" strike="noStrike">
                <a:solidFill>
                  <a:srgbClr val="009900"/>
                </a:solidFill>
                <a:latin typeface="Monotype Corsiva"/>
              </a:rPr>
              <a:t>Конечно, с</a:t>
            </a:r>
            <a:r>
              <a:rPr b="1" lang="ru-RU" sz="2800" spc="-1" strike="noStrike">
                <a:solidFill>
                  <a:srgbClr val="9900cc"/>
                </a:solidFill>
                <a:latin typeface="Monotype Corsiva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Monotype Corsiva"/>
              </a:rPr>
              <a:t>волшебной сказки,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9900"/>
                </a:solidFill>
                <a:latin typeface="Monotype Corsiva"/>
              </a:rPr>
              <a:t>причем наиболее традици-онной по форме (сказка-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...</a:t>
            </a:r>
            <a:r>
              <a:rPr b="1" lang="ru-RU" sz="2800" spc="-1" strike="noStrike">
                <a:solidFill>
                  <a:srgbClr val="009900"/>
                </a:solidFill>
                <a:latin typeface="Monotype Corsiva"/>
              </a:rPr>
              <a:t> путешествие)  с  элементами  героического эпос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1447920" y="990720"/>
            <a:ext cx="6095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cf01"/>
                </a:solidFill>
                <a:latin typeface="Georgia"/>
              </a:rPr>
              <a:t>С чего уместнее всего </a:t>
            </a:r>
            <a:endParaRPr b="1" i="1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ffcf01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cf01"/>
                </a:solidFill>
                <a:latin typeface="Georgia"/>
              </a:rPr>
              <a:t>начать наш разговор о сказке?</a:t>
            </a:r>
            <a:endParaRPr b="1" i="1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ffcf01"/>
              </a:solidFill>
              <a:latin typeface="Georgia"/>
              <a:ea typeface="Georgia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1600200" y="4114800"/>
            <a:ext cx="579132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bat-Bold"/>
              </a:rPr>
              <a:t>"Два Ивана солдатских сына",</a:t>
            </a:r>
            <a:r>
              <a:rPr b="1" i="1" lang="ru-RU" sz="1800" spc="-1" strike="noStrike">
                <a:solidFill>
                  <a:srgbClr val="009900"/>
                </a:solidFill>
                <a:latin typeface="Arbat-Bold"/>
              </a:rPr>
              <a:t> </a:t>
            </a:r>
            <a:r>
              <a:rPr b="1" i="1" lang="ru-RU" sz="1800" spc="-1" strike="noStrike">
                <a:solidFill>
                  <a:srgbClr val="3333cc"/>
                </a:solidFill>
                <a:latin typeface="Arbat-Bold"/>
              </a:rPr>
              <a:t>"Иван-царевич и Серый волк", "Марья Моревна", "Сивка-бурка", "Иван крестьянский сын и Чудо-юдо", "Булат-молодец", "Финист – Ясный сокол", "Царевна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bat-Bold"/>
              </a:rPr>
              <a:t>  </a:t>
            </a:r>
            <a:r>
              <a:rPr b="1" i="1" lang="ru-RU" sz="1800" spc="-1" strike="noStrike">
                <a:solidFill>
                  <a:srgbClr val="3333cc"/>
                </a:solidFill>
                <a:latin typeface="Arbat-Bold"/>
              </a:rPr>
              <a:t>лягушка", "Волшебное кольцо"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10" descr="BS00554_"/>
          <p:cNvPicPr/>
          <p:nvPr/>
        </p:nvPicPr>
        <p:blipFill>
          <a:blip r:embed="rId3"/>
          <a:stretch/>
        </p:blipFill>
        <p:spPr>
          <a:xfrm>
            <a:off x="1547640" y="2133720"/>
            <a:ext cx="1828800" cy="1593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Bar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1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48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e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826920" y="404640"/>
            <a:ext cx="74901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38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Композиция волшебной сказки</a:t>
            </a:r>
            <a:endParaRPr b="1" lang="en-US" sz="2400" spc="1" strike="noStrike">
              <a:ln w="2844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9640" y="198900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Script MT Bold"/>
              </a:rPr>
              <a:t>Условие (запрет), которое наруша-ет герой, или встреча с волшебным помощником – </a:t>
            </a:r>
            <a:r>
              <a:rPr b="1" i="1" lang="ru-RU" sz="2400" spc="-1" strike="noStrike" u="sng">
                <a:solidFill>
                  <a:srgbClr val="cc3399"/>
                </a:solidFill>
                <a:uFillTx/>
                <a:latin typeface="Script MT Bold"/>
              </a:rPr>
              <a:t>завязка</a:t>
            </a:r>
            <a:r>
              <a:rPr b="1" i="1" lang="ru-RU" sz="2400" spc="-1" strike="noStrike">
                <a:solidFill>
                  <a:srgbClr val="cc3399"/>
                </a:solidFill>
                <a:latin typeface="Script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132000" y="4437000"/>
            <a:ext cx="54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Script MT Bold"/>
              </a:rPr>
              <a:t>Путешествие и битва героя со злы-ми силами,</a:t>
            </a:r>
            <a:r>
              <a:rPr b="1" i="1" lang="ru-RU" sz="2400" spc="-1" strike="noStrike">
                <a:solidFill>
                  <a:srgbClr val="ccffcc"/>
                </a:solidFill>
                <a:latin typeface="Script MT Bold"/>
              </a:rPr>
              <a:t>.</a:t>
            </a:r>
            <a:r>
              <a:rPr b="1" i="1" lang="ru-RU" sz="2400" spc="-1" strike="noStrike">
                <a:solidFill>
                  <a:srgbClr val="0066ff"/>
                </a:solidFill>
                <a:latin typeface="Script MT Bold"/>
              </a:rPr>
              <a:t>  преодоление различных препятствий, возможно, смерть ге-роя, освобождение невесты, принцес-сы, царевны и т. д. – </a:t>
            </a:r>
            <a:r>
              <a:rPr b="1" i="1" lang="ru-RU" sz="2400" spc="-1" strike="noStrike" u="sng">
                <a:solidFill>
                  <a:srgbClr val="cc3399"/>
                </a:solidFill>
                <a:uFillTx/>
                <a:latin typeface="Script MT Bold"/>
              </a:rPr>
              <a:t>развяз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8" descr="ED00172_"/>
          <p:cNvPicPr/>
          <p:nvPr/>
        </p:nvPicPr>
        <p:blipFill>
          <a:blip r:embed="rId1"/>
          <a:stretch/>
        </p:blipFill>
        <p:spPr>
          <a:xfrm>
            <a:off x="4067280" y="3213000"/>
            <a:ext cx="1512720" cy="1084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J0230553"/>
          <p:cNvPicPr/>
          <p:nvPr/>
        </p:nvPicPr>
        <p:blipFill>
          <a:blip r:embed="rId2"/>
          <a:stretch/>
        </p:blipFill>
        <p:spPr>
          <a:xfrm flipH="1">
            <a:off x="539280" y="3213000"/>
            <a:ext cx="2521080" cy="3322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PE04050_"/>
          <p:cNvPicPr/>
          <p:nvPr/>
        </p:nvPicPr>
        <p:blipFill>
          <a:blip r:embed="rId3"/>
          <a:stretch/>
        </p:blipFill>
        <p:spPr>
          <a:xfrm flipH="1">
            <a:off x="6372360" y="1773360"/>
            <a:ext cx="2087280" cy="1549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amond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250"/>
                            </p:stCondLst>
                            <p:childTnLst>
                              <p:par>
                                <p:cTn id="1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1250"/>
                            </p:stCondLst>
                            <p:childTnLst>
                              <p:par>
                                <p:cTn id="121" nodeType="after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2750"/>
                            </p:stCondLst>
                            <p:childTnLst>
                              <p:par>
                                <p:cTn id="1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8590"/>
                            </p:stCondLst>
                            <p:childTnLst>
                              <p:par>
                                <p:cTn id="138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1590"/>
                            </p:stCondLst>
                            <p:childTnLst>
                              <p:par>
                                <p:cTn id="155" nodeType="after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785 -0.0111 L -0.12882 0.03676 L -0.12032 -0.0111 L -0.11129 0.03676 L -0.10226 -0.0111 L -0.09375 0.03676 L -0.08473 -0.0111 L -0.07605 0.03676 L -0.06702 -0.0111 L -0.05799 0.03676 L -0.04931 -0.0111 L -0.04028 0.03676 L -0.03178 -0.0111 L -0.02292 0.03676 L -0.01388 -0.0111 L -0.00538 0.03676 L 0.004 -0.0111 E">
                                      <p:cBhvr>
                                        <p:cTn id="156" dur="3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6.53179E-006 C -0.00312 -0.01272 0.00087 -0.00093 -0.00642 -0.01064 C -0.00781 -0.01249 -0.00816 -0.01527 -0.00955 -0.01712 C -0.01094 -0.01896 -0.01285 -0.01966 -0.01423 -0.02128 C -0.02292 -0.03145 -0.02535 -0.03538 -0.03646 -0.04024 C -0.04566 -0.0518 -0.0625 -0.05896 -0.07465 -0.06151 C -0.08559 -0.07099 -0.08055 -0.06821 -0.08889 -0.07191 C -0.09722 -0.0837 -0.10816 -0.08671 -0.1191 -0.09318 C -0.12639 -0.09758 -0.1342 -0.10105 -0.14132 -0.1059 C -0.14809 -0.11053 -0.1441 -0.11053 -0.15243 -0.11422 C -0.1566 -0.11607 -0.16094 -0.11631 -0.1651 -0.11839 C -0.16667 -0.11908 -0.16823 -0.12001 -0.16979 -0.1207 C -0.17691 -0.12972 -0.19878 -0.13503 -0.20955 -0.13966 C -0.2243 -0.15284 -0.25451 -0.15538 -0.27135 -0.15862 C -0.2809 -0.16278 -0.2908 -0.16625 -0.3 -0.17133 C -0.30573 -0.17457 -0.30989 -0.1822 -0.3158 -0.18405 C -0.32222 -0.18613 -0.32587 -0.18891 -0.33177 -0.19238 C -0.34861 -0.20232 -0.36944 -0.20394 -0.38733 -0.20717 C -0.3993 -0.20948 -0.41007 -0.21388 -0.42222 -0.21573 C -0.43785 -0.22266 -0.45347 -0.22659 -0.46979 -0.22844 C -0.50312 -0.23931 -0.53906 -0.24093 -0.57309 -0.24532 C -0.59288 -0.24787 -0.58507 -0.24625 -0.60469 -0.25157 C -0.60729 -0.25226 -0.61267 -0.25388 -0.61267 -0.25388 C -0.67031 -0.25249 -0.6901 -0.26243 -0.73021 -0.24532 C -0.73403 -0.23792 -0.7441 -0.22914 -0.75087 -0.22636 C -0.75469 -0.21087 -0.7493 -0.2296 -0.75712 -0.21365 C -0.75798 -0.2118 -0.75781 -0.20925 -0.75868 -0.20717 C -0.76059 -0.20278 -0.7651 -0.19469 -0.7651 -0.19469 C -0.77048 -0.17272 -0.76684 -0.14914 -0.77309 -0.12694 C -0.77673 -0.0918 -0.77483 -0.05642 -0.77778 -0.02128 C -0.77691 0.02566 -0.77656 0.06057 -0.77135 0.10358 C -0.76979 0.11699 -0.76389 0.12601 -0.75868 0.13734 C -0.75712 0.1408 -0.75399 0.14797 -0.75399 0.14797 C -0.74965 0.17132 -0.75573 0.14265 -0.74913 0.16277 C -0.74601 0.17225 -0.7467 0.17572 -0.73976 0.18173 C -0.73802 0.1882 -0.73489 0.20069 -0.73021 0.20277 C -0.71996 0.20716 -0.70903 0.20994 -0.69844 0.21341 C -0.68489 0.22497 -0.66701 0.2282 -0.65399 0.24092 C -0.64253 0.25202 -0.63628 0.26127 -0.62222 0.26635 C -0.61667 0.27121 -0.6125 0.27167 -0.60642 0.27468 C -0.60104 0.27722 -0.59583 0.28069 -0.59045 0.28323 C -0.58785 0.28462 -0.58507 0.28601 -0.58246 0.28739 C -0.57934 0.28878 -0.57309 0.29156 -0.57309 0.29156 C -0.56493 0.29895 -0.55868 0.30728 -0.54913 0.31075 C -0.53871 0.32462 -0.52639 0.33294 -0.51267 0.34034 C -0.51024 0.34173 -0.50868 0.34497 -0.50642 0.34658 C -0.50156 0.35005 -0.49722 0.35121 -0.49201 0.35283 C -0.48073 0.36069 -0.46944 0.36716 -0.45712 0.37202 C -0.44757 0.37572 -0.44201 0.38173 -0.43177 0.38473 C -0.41163 0.39768 -0.39097 0.40554 -0.36979 0.41433 C -0.33177 0.43028 -0.37847 0.41156 -0.34757 0.42682 C -0.32535 0.43791 -0.30295 0.44578 -0.27934 0.44809 C -0.26528 0.45895 -0.24757 0.46057 -0.23177 0.46497 C -0.1993 0.47398 -0.16649 0.47606 -0.13333 0.47768 C -0.10555 0.4867 -0.06858 0.48069 -0.04288 0.47976 C -0.0408 0.47907 -0.03871 0.47791 -0.03646 0.47768 C -0.02899 0.47653 -0.02153 0.47699 -0.01423 0.4756 C -0.00885 0.47445 -0.00382 0.47098 0.00156 0.46913 C 0.00764 0.46335 0.01285 0.4615 0.0191 0.45641 C 0.02882 0.44832 0.03247 0.43653 0.04445 0.43121 C 0.0507 0.42543 0.05556 0.4178 0.06198 0.41202 C 0.06823 0.3993 0.07136 0.38473 0.07778 0.37202 C 0.08403 0.34705 0.09202 0.32161 0.09688 0.29595 C 0.09809 0.22265 0.10052 0.14913 0.09531 0.07606 C 0.09323 0.04786 0.09375 0.02589 0.08733 -6.53179E-006 C 0.0849 -0.01966 0.08195 -0.04185 0.07136 -0.05712 C 0.0559 -0.07954 0.06267 -0.06636 0.05243 -0.08463 C 0.04149 -0.10428 0.02431 -0.13388 0.00642 -0.14174 C -0.00226 -0.15284 -0.01094 -0.16001 -0.02222 -0.16509 C -0.03038 -0.17943 -0.02257 -0.16948 -0.03489 -0.1755 C -0.04514 -0.18058 -0.05434 -0.18683 -0.0651 -0.19029 C -0.07483 -0.2007 -0.08368 -0.20324 -0.09531 -0.20948 C -0.10712 -0.21596 -0.11614 -0.22359 -0.12864 -0.22636 C -0.15104 -0.24625 -0.18351 -0.24879 -0.20955 -0.25157 C -0.24114 -0.25966 -0.27274 -0.26405 -0.30469 -0.26868 C -0.3283 -0.27631 -0.31562 -0.27284 -0.36667 -0.27284 C -0.41858 -0.27284 -0.47031 -0.27145 -0.52222 -0.27076 C -0.53212 -0.26868 -0.54219 -0.26451 -0.55087 -0.25804 C -0.56094 -0.25041 -0.56823 -0.237 -0.57778 -0.22844 C -0.58108 -0.22151 -0.58108 -0.21388 -0.5842 -0.20717 C -0.58594 -0.20347 -0.58837 -0.20024 -0.59045 -0.19677 C -0.59219 -0.18914 -0.59427 -0.18336 -0.59844 -0.17758 C -0.6 -0.16671 -0.60208 -0.15631 -0.60469 -0.1459 C -0.60712 -0.11908 -0.60937 -0.08856 -0.6 -0.06359 C -0.59774 -0.05758 -0.59548 -0.05133 -0.59201 -0.04671 C -0.58785 -0.04093 -0.58229 -0.03654 -0.57934 -0.0296 C -0.57222 -0.01295 -0.56337 -0.00185 -0.55399 0.01248 C -0.54774 0.02219 -0.54097 0.03398 -0.53489 0.04439 C -0.53108 0.05086 -0.52812 0.05965 -0.52378 0.06543 C -0.51128 0.08208 -0.49323 0.09341 -0.47621 0.09919 C -0.45087 0.11861 -0.48108 0.09687 -0.43333 0.12046 C -0.42917 0.12254 -0.425 0.12554 -0.42066 0.1267 C -0.41233 0.12901 -0.39531 0.13086 -0.39531 0.13086 C -0.39097 0.13225 -0.3868 0.13433 -0.38246 0.13525 C -0.37413 0.1371 -0.35712 0.13942 -0.35712 0.13942 C -0.33125 0.15398 -0.29861 0.15676 -0.27135 0.15838 C -0.25278 0.15768 -0.23437 0.15745 -0.2158 0.1563 C -0.21042 0.15583 -0.20955 0.15329 -0.20469 0.15213 C -0.18802 0.1482 -0.17066 0.14473 -0.15399 0.1415 C -0.13351 0.13757 -0.11267 0.1371 -0.09201 0.13525 C -0.06354 0.12762 -0.03246 0.13017 -0.00312 0.1267 C 0.00486 0.12138 0.00868 0.11398 0.01424 0.10566 C 0.01962 0.09757 0.02552 0.09086 0.03021 0.08231 C 0.0382 0.06751 0.0309 0.07514 0.03976 0.06751 C 0.04167 0.05988 0.04514 0.05618 0.04757 0.04855 C 0.05087 0.03838 0.05347 0.02774 0.05556 0.01687 C 0.05434 -0.000470000000000002 0.05799 -0.02012 0.05087 -0.03399 C 0.0309 -0.07353 -0.01719 -0.12232 -0.05087 -0.13318 C -0.06632 -0.14613 -0.07726 -0.15284 -0.09531 -0.15862 C -0.1434 -0.19122 -0.22812 -0.20648 -0.28246 -0.20948 C -0.31528 -0.2074 -0.34809 -0.20579 -0.3809 -0.20301 C -0.38941 -0.20232 -0.40642 -0.19885 -0.40642 -0.19885 C -0.41823 -0.19492 -0.42934 -0.19238 -0.44132 -0.19029 C -0.45052 -0.18729 -0.45521 -0.18197 -0.4651 -0.17989 C -0.47847 -0.17203 -0.48941 -0.15977 -0.50312 -0.15238 C -0.51771 -0.14451 -0.53298 -0.13873 -0.54757 -0.1311 C -0.55816 -0.12555 -0.56684 -0.117 -0.57778 -0.11214 C -0.58437 -0.10336 -0.58871 -0.09342 -0.59531 -0.08463 C -0.60278 -0.05943 -0.59305 -0.08925 -0.60469 -0.06359 C -0.60955 -0.05295 -0.61371 -0.04232 -0.6191 -0.03191 C -0.62239 -0.02567 -0.62187 -0.01665 -0.62535 -0.01064 C -0.63212 0.00115 -0.64288 0.02728 -0.64288 0.02728 C -0.64496 0.03861 -0.64705 0.04994 -0.64913 0.06127 C -0.65104 0.07167 -0.65243 0.09294 -0.65243 0.09294 C -0.65173 0.13179 -0.65625 0.17156 -0.64913 0.20924 C -0.6441 0.23583 -0.62934 0.27953 -0.61267 0.29595 C -0.60833 0.30034 -0.60278 0.30219 -0.59844 0.30635 C -0.58802 0.3163 -0.5783 0.32739 -0.56823 0.33803 C -0.56233 0.34427 -0.55903 0.35398 -0.55399 0.36138 C -0.54132 0.38034 -0.52812 0.39352 -0.51111 0.40369 C -0.50191 0.42196 -0.48524 0.43445 -0.47135 0.44601 C -0.45903 0.45618 -0.45851 0.45826 -0.44444 0.46288 C -0.42673 0.48578 -0.40833 0.49132 -0.38733 0.5052 C -0.37986 0.51005 -0.37413 0.51722 -0.36667 0.52208 C -0.35746 0.54034 -0.36996 0.51838 -0.35868 0.5304 C -0.35712 0.53202 -0.35694 0.53502 -0.35555 0.53687 C -0.35312 0.54011 -0.35 0.54219 -0.34757 0.5452 C -0.33194 0.56393 -0.34253 0.55653 -0.32864 0.56439 C -0.31858 0.5771 -0.30382 0.57757 -0.29201 0.58543 C -0.28489 0.59028 -0.27691 0.59514 -0.26979 0.60023 C -0.25868 0.60809 -0.25503 0.61387 -0.24288 0.6171 C -0.2408 0.61849 -0.23871 0.62057 -0.23646 0.6215 C -0.23403 0.62265 -0.23108 0.62219 -0.22864 0.62358 C -0.22726 0.62427 -0.22673 0.62682 -0.22535 0.62774 C -0.21892 0.6319 -0.21024 0.63375 -0.20312 0.6363 C -0.19271 0.64554 -0.20538 0.63537 -0.19045 0.64254 C -0.17587 0.64947 -0.16285 0.65942 -0.14757 0.66358 C -0.11354 0.67283 -0.07899 0.67167 -0.04444 0.67421 C 0.06597 0.67283 0.07431 0.67375 0.14601 0.66797 C 0.16163 0.6645 0.18142 0.66682 0.19531 0.65525 C 0.20538 0.64693 0.21667 0.64161 0.22691 0.63398 C 0.23472 0.6282 0.24219 0.6208 0.25087 0.6171 C 0.25799 0.6104 0.27136 0.60023 0.27622 0.58959 C 0.27778 0.58612 0.27899 0.58219 0.2809 0.57919 C 0.28472 0.57317 0.29167 0.57109 0.29531 0.56439 C 0.30278 0.55052 0.30452 0.53341 0.30955 0.51791 C 0.31771 0.46242 0.31754 0.39491 0.29202 0.34658 C 0.28542 0.32023 0.29653 0.363 0.28733 0.33387 C 0.28368 0.32231 0.28229 0.31421 0.27778 0.30219 C 0.27639 0.29849 0.27118 0.28994 0.26979 0.28739 C 0.26875 0.28531 0.26754 0.28323 0.26667 0.28115 C 0.26545 0.27838 0.26493 0.27514 0.26354 0.2726 C 0.26181 0.26936 0.25903 0.26728 0.25712 0.26404 C 0.25382 0.25849 0.25139 0.25225 0.24757 0.24716 C 0.24549 0.24439 0.24323 0.24184 0.24132 0.23884 C 0.23698 0.23236 0.23403 0.22288 0.22865 0.21757 C 0.22413 0.21341 0.21875 0.21132 0.21424 0.20716 C 0.20642 0.19976 0.19861 0.19075 0.19045 0.18381 C 0.18698 0.17687 0.18455 0.17364 0.17934 0.16901 C 0.17066 0.15167 0.18229 0.17202 0.17136 0.16046 C 0.16997 0.15884 0.16962 0.15606 0.16823 0.15421 C 0.16632 0.15167 0.16389 0.15052 0.16198 0.14797 C 0.15469 0.13826 0.16372 0.14312 0.15243 0.13942 C 0.14757 0.13341 0.14792 0.12971 0.14132 0.1267 C 0.13524 0.11907 0.12813 0.11283 0.12066 0.10774 C 0.1132 0.09248 0.09167 0.08184 0.07934 0.07398 C 0.06702 0.05664 0.08663 0.08277 0.07136 0.06751 C 0.06649 0.06265 0.06059 0.05086 0.05556 0.04647 C 0.05243 0.04369 0.04913 0.04069 0.04601 0.03791 C 0.04445 0.03653 0.04132 0.03375 0.04132 0.03375 C 0.0375 0.02612 0.03125 0.01965 0.02535 0.01479 C 0.01771 0.00855 0.0217 0.0178 0.01111 0.00832 C 0.00972 0.00716 -0.00573 -0.00856 -3.61111E-006 -6.53179E-006 Z">
                                      <p:cBhvr>
                                        <p:cTn id="15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 rot="5400000">
            <a:off x="-1873080" y="2025360"/>
            <a:ext cx="6048360" cy="266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27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844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latin typeface="Mistral"/>
              </a:rPr>
              <a:t>ПРИЗНАКИ </a:t>
            </a:r>
            <a:endParaRPr b="1" lang="en-US" sz="4800" spc="1" strike="noStrike">
              <a:ln w="28440">
                <a:solidFill>
                  <a:srgbClr val="0066ff"/>
                </a:solidFill>
                <a:miter/>
              </a:ln>
              <a:solidFill>
                <a:srgbClr val="ffffff"/>
              </a:solidFill>
              <a:latin typeface="Mistral"/>
              <a:ea typeface="Mistr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844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latin typeface="Mistral"/>
              </a:rPr>
              <a:t>ВОЛШЕБНОЙ СКАЗКИ</a:t>
            </a:r>
            <a:endParaRPr b="1" lang="en-US" sz="4800" spc="1" strike="noStrike">
              <a:ln w="28440">
                <a:solidFill>
                  <a:srgbClr val="0066ff"/>
                </a:solidFill>
                <a:miter/>
              </a:ln>
              <a:solidFill>
                <a:srgbClr val="ffffff"/>
              </a:solidFill>
              <a:latin typeface="Mistral"/>
              <a:ea typeface="Mistr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627280" y="1052640"/>
            <a:ext cx="5688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Forte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Forte"/>
              </a:rPr>
              <a:t>Чуде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Forte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Forte"/>
              </a:rPr>
              <a:t>Дорога из одного мира в друг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Forte"/>
              </a:rPr>
              <a:t>  </a:t>
            </a:r>
            <a:r>
              <a:rPr b="1" i="1" lang="ru-RU" sz="2800" spc="-1" strike="noStrike">
                <a:solidFill>
                  <a:srgbClr val="ffff00"/>
                </a:solidFill>
                <a:latin typeface="Forte"/>
              </a:rPr>
              <a:t>Чудесные помощни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Forte"/>
              </a:rPr>
              <a:t>  </a:t>
            </a:r>
            <a:r>
              <a:rPr b="1" i="1" lang="ru-RU" sz="2800" spc="-1" strike="noStrike">
                <a:solidFill>
                  <a:srgbClr val="ffff00"/>
                </a:solidFill>
                <a:latin typeface="Forte"/>
              </a:rPr>
              <a:t>Злые сил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Forte"/>
              </a:rPr>
              <a:t>  </a:t>
            </a:r>
            <a:r>
              <a:rPr b="1" i="1" lang="ru-RU" sz="2800" spc="-1" strike="noStrike">
                <a:solidFill>
                  <a:srgbClr val="6600cc"/>
                </a:solidFill>
                <a:latin typeface="Forte"/>
              </a:rPr>
              <a:t>Подвиги и награ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Forte"/>
              </a:rPr>
              <a:t>  </a:t>
            </a:r>
            <a:r>
              <a:rPr b="1" i="1" lang="ru-RU" sz="2800" spc="-1" strike="noStrike">
                <a:solidFill>
                  <a:srgbClr val="6600cc"/>
                </a:solidFill>
                <a:latin typeface="Forte"/>
              </a:rPr>
              <a:t>Счастливый конец (свадьб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7" descr="AG00130_"/>
          <p:cNvPicPr/>
          <p:nvPr/>
        </p:nvPicPr>
        <p:blipFill>
          <a:blip r:embed="rId7"/>
          <a:stretch/>
        </p:blipFill>
        <p:spPr>
          <a:xfrm rot="3460200">
            <a:off x="123480" y="1036080"/>
            <a:ext cx="790560" cy="679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WB01745_"/>
          <p:cNvPicPr/>
          <p:nvPr/>
        </p:nvPicPr>
        <p:blipFill>
          <a:blip r:embed="rId8"/>
          <a:stretch/>
        </p:blipFill>
        <p:spPr>
          <a:xfrm>
            <a:off x="3348000" y="5756400"/>
            <a:ext cx="2752920" cy="1101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WB01219_"/>
          <p:cNvPicPr/>
          <p:nvPr/>
        </p:nvPicPr>
        <p:blipFill>
          <a:blip r:embed="rId9"/>
          <a:stretch/>
        </p:blipFill>
        <p:spPr>
          <a:xfrm>
            <a:off x="8029440" y="260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SO02045_"/>
          <p:cNvPicPr/>
          <p:nvPr/>
        </p:nvPicPr>
        <p:blipFill>
          <a:blip r:embed="rId10"/>
          <a:stretch/>
        </p:blipFill>
        <p:spPr>
          <a:xfrm>
            <a:off x="3780000" y="3141720"/>
            <a:ext cx="1471320" cy="753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SO02094_"/>
          <p:cNvPicPr/>
          <p:nvPr/>
        </p:nvPicPr>
        <p:blipFill>
          <a:blip r:embed="rId11"/>
          <a:stretch/>
        </p:blipFill>
        <p:spPr>
          <a:xfrm>
            <a:off x="7740720" y="4653000"/>
            <a:ext cx="1224000" cy="1092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WB01745_"/>
          <p:cNvPicPr/>
          <p:nvPr/>
        </p:nvPicPr>
        <p:blipFill>
          <a:blip r:embed="rId12"/>
          <a:stretch/>
        </p:blipFill>
        <p:spPr>
          <a:xfrm>
            <a:off x="4140360" y="5756400"/>
            <a:ext cx="2752560" cy="1101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WB01745_"/>
          <p:cNvPicPr/>
          <p:nvPr/>
        </p:nvPicPr>
        <p:blipFill>
          <a:blip r:embed="rId13"/>
          <a:stretch/>
        </p:blipFill>
        <p:spPr>
          <a:xfrm>
            <a:off x="4859280" y="5756400"/>
            <a:ext cx="2752920" cy="1101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J0107182"/>
          <p:cNvPicPr/>
          <p:nvPr/>
        </p:nvPicPr>
        <p:blipFill>
          <a:blip r:embed="rId14"/>
          <a:stretch/>
        </p:blipFill>
        <p:spPr>
          <a:xfrm>
            <a:off x="6227640" y="4076640"/>
            <a:ext cx="1357560" cy="711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SO00212_"/>
          <p:cNvPicPr/>
          <p:nvPr/>
        </p:nvPicPr>
        <p:blipFill>
          <a:blip r:embed="rId15"/>
          <a:stretch/>
        </p:blipFill>
        <p:spPr>
          <a:xfrm>
            <a:off x="7093080" y="2349360"/>
            <a:ext cx="1487520" cy="1551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7" descr="WB01219_"/>
          <p:cNvPicPr/>
          <p:nvPr/>
        </p:nvPicPr>
        <p:blipFill>
          <a:blip r:embed="rId16"/>
          <a:stretch/>
        </p:blipFill>
        <p:spPr>
          <a:xfrm>
            <a:off x="7021440" y="18720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WB01219_"/>
          <p:cNvPicPr/>
          <p:nvPr/>
        </p:nvPicPr>
        <p:blipFill>
          <a:blip r:embed="rId17"/>
          <a:stretch/>
        </p:blipFill>
        <p:spPr>
          <a:xfrm>
            <a:off x="7524720" y="1052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WB01294_"/>
          <p:cNvPicPr/>
          <p:nvPr/>
        </p:nvPicPr>
        <p:blipFill>
          <a:blip r:embed="rId18"/>
          <a:stretch/>
        </p:blipFill>
        <p:spPr>
          <a:xfrm>
            <a:off x="3635280" y="549360"/>
            <a:ext cx="903240" cy="903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0" descr="WB01292_"/>
          <p:cNvPicPr/>
          <p:nvPr/>
        </p:nvPicPr>
        <p:blipFill>
          <a:blip r:embed="rId19"/>
          <a:stretch/>
        </p:blipFill>
        <p:spPr>
          <a:xfrm rot="1972800">
            <a:off x="2555640" y="17002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TR00482_"/>
          <p:cNvPicPr/>
          <p:nvPr/>
        </p:nvPicPr>
        <p:blipFill>
          <a:blip r:embed="rId20"/>
          <a:stretch/>
        </p:blipFill>
        <p:spPr>
          <a:xfrm>
            <a:off x="4859280" y="1413000"/>
            <a:ext cx="649440" cy="533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TR00482_"/>
          <p:cNvPicPr/>
          <p:nvPr/>
        </p:nvPicPr>
        <p:blipFill>
          <a:blip r:embed="rId21"/>
          <a:stretch/>
        </p:blipFill>
        <p:spPr>
          <a:xfrm>
            <a:off x="6372360" y="1628640"/>
            <a:ext cx="576000" cy="47304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3"/>
          <p:cNvGrpSpPr/>
          <p:nvPr/>
        </p:nvGrpSpPr>
        <p:grpSpPr>
          <a:xfrm>
            <a:off x="5432760" y="1692360"/>
            <a:ext cx="945000" cy="304920"/>
            <a:chOff x="5432760" y="1692360"/>
            <a:chExt cx="945000" cy="304920"/>
          </a:xfrm>
        </p:grpSpPr>
        <p:pic>
          <p:nvPicPr>
            <p:cNvPr id="135" name="Picture 31" descr="NA02127_"/>
            <p:cNvPicPr/>
            <p:nvPr/>
          </p:nvPicPr>
          <p:blipFill>
            <a:blip r:embed="rId22"/>
            <a:stretch/>
          </p:blipFill>
          <p:spPr>
            <a:xfrm flipH="1" rot="604800">
              <a:off x="5437080" y="1766880"/>
              <a:ext cx="86508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AutoShape 32"/>
            <p:cNvSpPr/>
            <p:nvPr/>
          </p:nvSpPr>
          <p:spPr>
            <a:xfrm rot="604800">
              <a:off x="6079680" y="1829880"/>
              <a:ext cx="287640" cy="142920"/>
            </a:xfrm>
            <a:prstGeom prst="rightArrow">
              <a:avLst>
                <a:gd name="adj1" fmla="val 50000"/>
                <a:gd name="adj2" fmla="val 5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37" name="Picture 34" descr="AG00130_"/>
          <p:cNvPicPr/>
          <p:nvPr/>
        </p:nvPicPr>
        <p:blipFill>
          <a:blip r:embed="rId23"/>
          <a:stretch/>
        </p:blipFill>
        <p:spPr>
          <a:xfrm rot="3460200">
            <a:off x="5163840" y="5789160"/>
            <a:ext cx="790560" cy="679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5" descr="AG00130_"/>
          <p:cNvPicPr/>
          <p:nvPr/>
        </p:nvPicPr>
        <p:blipFill>
          <a:blip r:embed="rId24"/>
          <a:stretch/>
        </p:blipFill>
        <p:spPr>
          <a:xfrm rot="3460200">
            <a:off x="412200" y="5356080"/>
            <a:ext cx="790560" cy="6793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mb dir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500"/>
                            </p:stCondLst>
                            <p:childTnLst>
                              <p:par>
                                <p:cTn id="2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8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1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9500"/>
                            </p:stCondLst>
                            <p:childTnLst>
                              <p:par>
                                <p:cTn id="2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2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46821E-007 C -0.00174 -0.01896 -0.00295 -0.02497 -0.00955 -0.04231 C -0.01059 -0.04509 -0.01111 -0.04856 -0.01267 -0.05064 C -0.01528 -0.0541 -0.02066 -0.06127 -0.02066 -0.06127 C -0.02656 -0.08116 -0.03281 -0.09665 -0.04444 -0.11191 C -0.04826 -0.1274 -0.05955 -0.12809 -0.06823 -0.13734 C -0.08906 -0.15954 -0.11667 -0.17896 -0.14288 -0.1859 C -0.18524 -0.2215 -0.12361 -0.17249 -0.17135 -0.20069 C -0.17986 -0.20578 -0.18715 -0.21341 -0.19514 -0.21989 C -0.19792 -0.2222 -0.20156 -0.22243 -0.20469 -0.22405 C -0.21719 -0.23029 -0.22795 -0.23746 -0.24115 -0.24093 C -0.25208 -0.25041 -0.26823 -0.25179 -0.2809 -0.25364 C -0.30451 -0.25688 -0.32656 -0.26058 -0.35069 -0.2622 C -0.36354 -0.26428 -0.37604 -0.27029 -0.38889 -0.27052 C -0.42205 -0.27121 -0.4809 -0.26821 -0.51892 -0.26636 C -0.52483 -0.26405 -0.53038 -0.26382 -0.5349 -0.2578 C -0.5368 -0.25526 -0.53733 -0.25133 -0.53958 -0.24948 C -0.55781 -0.23491 -0.54427 -0.25318 -0.55712 -0.24093 C -0.57483 -0.22405 -0.59184 -0.20509 -0.60781 -0.1859 C -0.61597 -0.17619 -0.62517 -0.16832 -0.63333 -0.15861 C -0.64375 -0.14613 -0.65174 -0.12879 -0.66024 -0.11422 C -0.66267 -0.11029 -0.66458 -0.10567 -0.66667 -0.1015 C -0.66771 -0.09942 -0.66979 -0.09503 -0.66979 -0.09503 C -0.67274 -0.07538 -0.67309 -0.05549 -0.67621 -0.03584 C -0.67569 0.01919 -0.67552 0.07399 -0.67448 0.12902 C -0.6743 0.13896 -0.66632 0.14867 -0.66337 0.15653 C -0.65104 0.19006 -0.62934 0.21179 -0.60781 0.23468 C -0.58021 0.26405 -0.61371 0.24046 -0.59358 0.25364 C -0.58333 0.26774 -0.56927 0.26798 -0.55399 0.27052 C -0.52865 0.27468 -0.50312 0.27884 -0.47778 0.28324 C -0.40799 0.28162 -0.33715 0.29202 -0.26823 0.27699 C -0.24392 0.27168 -0.22049 0.25988 -0.1967 0.25364 C -0.17483 0.23422 -0.20781 0.26266 -0.18733 0.2474 C -0.17934 0.24139 -0.17292 0.2326 -0.1651 0.22613 C -0.16094 0.22266 -0.15573 0.22058 -0.15226 0.21572 C -0.15069 0.21364 -0.14948 0.21087 -0.14757 0.20925 C -0.14236 0.20439 -0.1368 0.20277 -0.13177 0.19653 C -0.12552 0.1889 -0.11927 0.18058 -0.11424 0.17133 C -0.10764 0.15931 -0.10208 0.1452 -0.09358 0.13526 C -0.08108 0.12069 -0.06233 0.10798 -0.04757 0.09942 C -0.04062 0.09017 -0.03194 0.08532 -0.02535 0.07607 C -0.02292 0.06659 -0.01858 0.06289 -0.01267 0.05711 C -0.01024 0.04763 -0.00087 0.0326 0.00486 0.02543 C 0.00799 0.01295 0.01129 0.00069 0.0033 -0.01064 C -0.00365 -0.0074 -0.00191 -0.01064 3.88889E-006 -3.46821E-007 Z">
                                      <p:cBhvr>
                                        <p:cTn id="287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3500"/>
                            </p:stCondLst>
                            <p:childTnLst>
                              <p:par>
                                <p:cTn id="2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0" dur="1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4500"/>
                            </p:stCondLst>
                            <p:childTnLst>
                              <p:par>
                                <p:cTn id="292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8500"/>
                            </p:stCondLst>
                            <p:childTnLst>
                              <p:par>
                                <p:cTn id="30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500"/>
                            </p:stCondLst>
                            <p:childTnLst>
                              <p:par>
                                <p:cTn id="3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2500"/>
                            </p:stCondLst>
                            <p:childTnLst>
                              <p:par>
                                <p:cTn id="32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3500"/>
                            </p:stCondLst>
                            <p:childTnLst>
                              <p:par>
                                <p:cTn id="3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4500"/>
                            </p:stCondLst>
                            <p:childTnLst>
                              <p:par>
                                <p:cTn id="35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99"/>
            </a:gs>
            <a:gs pos="100000">
              <a:srgbClr val="00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 rot="21286200">
            <a:off x="316080" y="549000"/>
            <a:ext cx="7127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ffcf01"/>
                  </a:solidFill>
                  <a:miter/>
                </a:ln>
                <a:solidFill>
                  <a:srgbClr val="ffff00"/>
                </a:solidFill>
                <a:latin typeface="Monotype Corsiva"/>
              </a:rPr>
              <a:t>СКАЗКИ О ЖИВОТНЫХ</a:t>
            </a:r>
            <a:endParaRPr b="1" i="1" lang="en-US" sz="4400" spc="1" strike="noStrike">
              <a:ln w="9360">
                <a:solidFill>
                  <a:srgbClr val="ffcf01"/>
                </a:solidFill>
                <a:miter/>
              </a:ln>
              <a:solidFill>
                <a:srgbClr val="ffff00"/>
              </a:solidFill>
              <a:latin typeface="Monotype Corsiva"/>
              <a:ea typeface="Monotype Corsiv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556000" y="1844640"/>
            <a:ext cx="626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Palatino Linotype"/>
              </a:rPr>
              <a:t>Основной признак – </a:t>
            </a:r>
            <a:r>
              <a:rPr b="1" i="1" lang="ru-RU" sz="2800" spc="-1" strike="noStrike">
                <a:solidFill>
                  <a:srgbClr val="333399"/>
                </a:solidFill>
                <a:latin typeface="Palatino Linotype"/>
              </a:rPr>
              <a:t>животные. выступают в этих сказках на помощниками, а главными героя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684360" y="378936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Palatino Linotype"/>
              </a:rPr>
              <a:t>"Лиса и журавль"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Palatino Linotype"/>
              </a:rPr>
              <a:t>"Волк и Лиса"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7" descr="J0195320"/>
          <p:cNvPicPr/>
          <p:nvPr/>
        </p:nvPicPr>
        <p:blipFill>
          <a:blip r:embed="rId1"/>
          <a:stretch/>
        </p:blipFill>
        <p:spPr>
          <a:xfrm>
            <a:off x="468360" y="2205000"/>
            <a:ext cx="1944720" cy="1398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AN04108_"/>
          <p:cNvPicPr/>
          <p:nvPr/>
        </p:nvPicPr>
        <p:blipFill>
          <a:blip r:embed="rId2"/>
          <a:stretch/>
        </p:blipFill>
        <p:spPr>
          <a:xfrm>
            <a:off x="2195640" y="4797360"/>
            <a:ext cx="1226880" cy="1803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SO02886_"/>
          <p:cNvPicPr/>
          <p:nvPr/>
        </p:nvPicPr>
        <p:blipFill>
          <a:blip r:embed="rId3"/>
          <a:stretch/>
        </p:blipFill>
        <p:spPr>
          <a:xfrm>
            <a:off x="3924360" y="3213000"/>
            <a:ext cx="4824360" cy="3543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AN04108_"/>
          <p:cNvPicPr/>
          <p:nvPr/>
        </p:nvPicPr>
        <p:blipFill>
          <a:blip r:embed="rId4"/>
          <a:stretch/>
        </p:blipFill>
        <p:spPr>
          <a:xfrm flipH="1">
            <a:off x="610920" y="4797360"/>
            <a:ext cx="1220760" cy="1803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AG00130_"/>
          <p:cNvPicPr/>
          <p:nvPr/>
        </p:nvPicPr>
        <p:blipFill>
          <a:blip r:embed="rId5"/>
          <a:stretch/>
        </p:blipFill>
        <p:spPr>
          <a:xfrm rot="3460200">
            <a:off x="1636200" y="388800"/>
            <a:ext cx="790560" cy="679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AG00130_"/>
          <p:cNvPicPr/>
          <p:nvPr/>
        </p:nvPicPr>
        <p:blipFill>
          <a:blip r:embed="rId6"/>
          <a:stretch/>
        </p:blipFill>
        <p:spPr>
          <a:xfrm rot="19048200">
            <a:off x="7812000" y="1125360"/>
            <a:ext cx="790560" cy="679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AG00130_"/>
          <p:cNvPicPr/>
          <p:nvPr/>
        </p:nvPicPr>
        <p:blipFill>
          <a:blip r:embed="rId7"/>
          <a:stretch/>
        </p:blipFill>
        <p:spPr>
          <a:xfrm rot="19048200">
            <a:off x="6732720" y="981000"/>
            <a:ext cx="790560" cy="679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AG00130_"/>
          <p:cNvPicPr/>
          <p:nvPr/>
        </p:nvPicPr>
        <p:blipFill>
          <a:blip r:embed="rId8"/>
          <a:stretch/>
        </p:blipFill>
        <p:spPr>
          <a:xfrm rot="19048200">
            <a:off x="7740720" y="260280"/>
            <a:ext cx="790560" cy="679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7" descr="AG00130_"/>
          <p:cNvPicPr/>
          <p:nvPr/>
        </p:nvPicPr>
        <p:blipFill>
          <a:blip r:embed="rId9"/>
          <a:stretch/>
        </p:blipFill>
        <p:spPr>
          <a:xfrm rot="19048200">
            <a:off x="5651280" y="1052280"/>
            <a:ext cx="790560" cy="6793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l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7300"/>
                            </p:stCondLst>
                            <p:childTnLst>
                              <p:par>
                                <p:cTn id="38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2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2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2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2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2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2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3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2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2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3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2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2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300"/>
                            </p:stCondLst>
                            <p:childTnLst>
                              <p:par>
                                <p:cTn id="4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1300"/>
                            </p:stCondLst>
                            <p:childTnLst>
                              <p:par>
                                <p:cTn id="423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5" dur="250" autoRev="1" fill="hold"/>
                                        <p:tgtEl>
                                          <p:spTgt spid="1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3800"/>
                            </p:stCondLst>
                            <p:childTnLst>
                              <p:par>
                                <p:cTn id="427" nodeType="after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4550"/>
                            </p:stCondLst>
                            <p:childTnLst>
                              <p:par>
                                <p:cTn id="438" nodeType="after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99"/>
            </a:gs>
            <a:gs pos="100000">
              <a:srgbClr val="cc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7"/>
          <p:cNvGrpSpPr/>
          <p:nvPr/>
        </p:nvGrpSpPr>
        <p:grpSpPr>
          <a:xfrm>
            <a:off x="48240" y="174240"/>
            <a:ext cx="4325760" cy="1811520"/>
            <a:chOff x="48240" y="174240"/>
            <a:chExt cx="4325760" cy="1811520"/>
          </a:xfrm>
        </p:grpSpPr>
        <p:sp>
          <p:nvSpPr>
            <p:cNvPr id="152" name="WordArt 4"/>
            <p:cNvSpPr txBox="1"/>
            <p:nvPr/>
          </p:nvSpPr>
          <p:spPr>
            <a:xfrm rot="20815200">
              <a:off x="1355040" y="498960"/>
              <a:ext cx="2965320" cy="812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Top">
                <a:avLst>
                  <a:gd name="adj" fmla="val 319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00"/>
                  </a:solidFill>
                  <a:latin typeface="Script MT Bold"/>
                </a:rPr>
                <a:t>ucmopuu...</a:t>
              </a:r>
              <a:endParaRPr b="0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Script MT Bold"/>
                <a:ea typeface="Script MT Bold"/>
              </a:endParaRPr>
            </a:p>
          </p:txBody>
        </p:sp>
        <p:sp>
          <p:nvSpPr>
            <p:cNvPr id="153" name="WordArt 5"/>
            <p:cNvSpPr txBox="1"/>
            <p:nvPr/>
          </p:nvSpPr>
          <p:spPr>
            <a:xfrm rot="20815200">
              <a:off x="173160" y="401400"/>
              <a:ext cx="606960" cy="1175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Top">
                <a:avLst>
                  <a:gd name="adj" fmla="val 319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00"/>
                  </a:solidFill>
                  <a:latin typeface="Script MT Bold"/>
                </a:rPr>
                <a:t>u</a:t>
              </a:r>
              <a:endParaRPr b="1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Script MT Bold"/>
                <a:ea typeface="Script MT Bold"/>
              </a:endParaRPr>
            </a:p>
          </p:txBody>
        </p:sp>
        <p:sp>
          <p:nvSpPr>
            <p:cNvPr id="154" name="WordArt 6"/>
            <p:cNvSpPr txBox="1"/>
            <p:nvPr/>
          </p:nvSpPr>
          <p:spPr>
            <a:xfrm rot="20815200">
              <a:off x="666000" y="944280"/>
              <a:ext cx="531360" cy="99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Top">
                <a:avLst>
                  <a:gd name="adj" fmla="val 319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00"/>
                  </a:solidFill>
                  <a:latin typeface="Monotype Corsiva"/>
                </a:rPr>
                <a:t>з</a:t>
              </a:r>
              <a:endParaRPr b="1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155" name="Text Box 8"/>
          <p:cNvSpPr/>
          <p:nvPr/>
        </p:nvSpPr>
        <p:spPr>
          <a:xfrm>
            <a:off x="179280" y="907920"/>
            <a:ext cx="89647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                               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История "животной" сказки как художествен-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                  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ного явления началась с момента, когда прежни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рассказы стали терять связи с мифическим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представлениями. Мир животных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в сказке стал восприниматьс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как </a:t>
            </a:r>
            <a:r>
              <a:rPr b="1" i="1" lang="ru-RU" sz="2000" spc="-1" strike="noStrike">
                <a:solidFill>
                  <a:srgbClr val="000099"/>
                </a:solidFill>
                <a:latin typeface="Georgia"/>
              </a:rPr>
              <a:t>иносказательное</a:t>
            </a:r>
            <a:r>
              <a:rPr b="0" lang="ru-RU" sz="20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изображение человеческог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179280" y="4508640"/>
            <a:ext cx="878544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6666"/>
                </a:solidFill>
                <a:latin typeface="Book Antiqua"/>
              </a:rPr>
              <a:t>Сказки и животных восприняли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6666"/>
                </a:solidFill>
                <a:latin typeface="Book Antiqua"/>
              </a:rPr>
              <a:t>форму вымысла из представлений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6666"/>
                </a:solidFill>
                <a:latin typeface="Book Antiqua"/>
              </a:rPr>
              <a:t> </a:t>
            </a:r>
            <a:r>
              <a:rPr b="1" i="1" lang="ru-RU" sz="2100" spc="-1" strike="noStrike">
                <a:solidFill>
                  <a:srgbClr val="006666"/>
                </a:solidFill>
                <a:latin typeface="Book Antiqua"/>
              </a:rPr>
              <a:t>и понятий людей, приписывающих животным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6666"/>
                </a:solidFill>
                <a:latin typeface="Book Antiqua"/>
              </a:rPr>
              <a:t> </a:t>
            </a:r>
            <a:r>
              <a:rPr b="1" i="1" lang="ru-RU" sz="2100" spc="-1" strike="noStrike">
                <a:solidFill>
                  <a:srgbClr val="006666"/>
                </a:solidFill>
                <a:latin typeface="Book Antiqua"/>
              </a:rPr>
              <a:t>способность думать, говорить и разумно действовать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10" descr="j0304933"/>
          <p:cNvPicPr/>
          <p:nvPr/>
        </p:nvPicPr>
        <p:blipFill>
          <a:blip r:embed="rId1"/>
          <a:stretch/>
        </p:blipFill>
        <p:spPr>
          <a:xfrm flipH="1">
            <a:off x="7524720" y="5632560"/>
            <a:ext cx="1295280" cy="1035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SO01236_"/>
          <p:cNvPicPr/>
          <p:nvPr/>
        </p:nvPicPr>
        <p:blipFill>
          <a:blip r:embed="rId2"/>
          <a:stretch/>
        </p:blipFill>
        <p:spPr>
          <a:xfrm>
            <a:off x="5364000" y="2060640"/>
            <a:ext cx="3608640" cy="3879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HH00681_"/>
          <p:cNvPicPr/>
          <p:nvPr/>
        </p:nvPicPr>
        <p:blipFill>
          <a:blip r:embed="rId3"/>
          <a:stretch/>
        </p:blipFill>
        <p:spPr>
          <a:xfrm>
            <a:off x="6516720" y="189000"/>
            <a:ext cx="895320" cy="1036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7" descr="HH00681_"/>
          <p:cNvPicPr/>
          <p:nvPr/>
        </p:nvPicPr>
        <p:blipFill>
          <a:blip r:embed="rId4"/>
          <a:stretch/>
        </p:blipFill>
        <p:spPr>
          <a:xfrm flipH="1">
            <a:off x="5724360" y="189000"/>
            <a:ext cx="905040" cy="1036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9" descr="HH00681_"/>
          <p:cNvPicPr/>
          <p:nvPr/>
        </p:nvPicPr>
        <p:blipFill>
          <a:blip r:embed="rId5"/>
          <a:stretch/>
        </p:blipFill>
        <p:spPr>
          <a:xfrm>
            <a:off x="7308720" y="189000"/>
            <a:ext cx="895320" cy="1036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0" descr="HH00681_"/>
          <p:cNvPicPr/>
          <p:nvPr/>
        </p:nvPicPr>
        <p:blipFill>
          <a:blip r:embed="rId6"/>
          <a:stretch/>
        </p:blipFill>
        <p:spPr>
          <a:xfrm flipH="1">
            <a:off x="4932360" y="189000"/>
            <a:ext cx="905040" cy="1036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9" presetSubtype="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9800"/>
                            </p:stCondLst>
                            <p:childTnLst>
                              <p:par>
                                <p:cTn id="4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300"/>
                            </p:stCondLst>
                            <p:childTnLst>
                              <p:par>
                                <p:cTn id="4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36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620"/>
                            </p:stCondLst>
                            <p:childTnLst>
                              <p:par>
                                <p:cTn id="48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6620"/>
                            </p:stCondLst>
                            <p:childTnLst>
                              <p:par>
                                <p:cTn id="49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762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9620"/>
                            </p:stCondLst>
                            <p:childTnLst>
                              <p:par>
                                <p:cTn id="505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1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J0295069"/>
          <p:cNvPicPr/>
          <p:nvPr/>
        </p:nvPicPr>
        <p:blipFill>
          <a:blip r:embed="rId1"/>
          <a:stretch/>
        </p:blipFill>
        <p:spPr>
          <a:xfrm>
            <a:off x="179280" y="5229360"/>
            <a:ext cx="1830600" cy="1315800"/>
          </a:xfrm>
          <a:prstGeom prst="rect">
            <a:avLst/>
          </a:prstGeom>
          <a:ln w="0">
            <a:noFill/>
          </a:ln>
        </p:spPr>
      </p:pic>
      <p:sp>
        <p:nvSpPr>
          <p:cNvPr id="164" name="WordArt 11"/>
          <p:cNvSpPr txBox="1"/>
          <p:nvPr/>
        </p:nvSpPr>
        <p:spPr>
          <a:xfrm rot="2133000">
            <a:off x="-181080" y="2852640"/>
            <a:ext cx="975672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33cc33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СОЦИАЛЬНО-БЫТОВЫЕ СКАЗКИ</a:t>
            </a:r>
            <a:endParaRPr b="1" i="1" lang="en-US" sz="2400" spc="1" strike="noStrike">
              <a:ln w="19080">
                <a:solidFill>
                  <a:srgbClr val="33cc33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1547640" y="3716280"/>
            <a:ext cx="59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ff"/>
                </a:solidFill>
                <a:latin typeface="Georgia"/>
              </a:rPr>
              <a:t>«Три калача и баранка»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ff"/>
                </a:solidFill>
                <a:latin typeface="Georgia"/>
              </a:rPr>
              <a:t>«Жена-спорщица», «Заяц»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ff"/>
                </a:solidFill>
                <a:latin typeface="Georgia"/>
              </a:rPr>
              <a:t>«Как Иван-дурак дверь стерег»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ff"/>
                </a:solidFill>
                <a:latin typeface="Georgia"/>
              </a:rPr>
              <a:t>«Глупый жених», «Барин и мужик» 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ff"/>
                </a:solidFill>
                <a:latin typeface="Georgia"/>
              </a:rPr>
              <a:t>«Горшок», «Беспамятный зять»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14" descr="ED00172_"/>
          <p:cNvPicPr/>
          <p:nvPr/>
        </p:nvPicPr>
        <p:blipFill>
          <a:blip r:embed="rId2"/>
          <a:stretch/>
        </p:blipFill>
        <p:spPr>
          <a:xfrm>
            <a:off x="179280" y="177336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ED00172_"/>
          <p:cNvPicPr/>
          <p:nvPr/>
        </p:nvPicPr>
        <p:blipFill>
          <a:blip r:embed="rId3"/>
          <a:stretch/>
        </p:blipFill>
        <p:spPr>
          <a:xfrm>
            <a:off x="336600" y="1884240"/>
            <a:ext cx="2097000" cy="1570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6" descr="ED00172_"/>
          <p:cNvPicPr/>
          <p:nvPr/>
        </p:nvPicPr>
        <p:blipFill>
          <a:blip r:embed="rId4"/>
          <a:stretch/>
        </p:blipFill>
        <p:spPr>
          <a:xfrm>
            <a:off x="493560" y="1992240"/>
            <a:ext cx="1886040" cy="1414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1" descr="J0292270"/>
          <p:cNvPicPr/>
          <p:nvPr/>
        </p:nvPicPr>
        <p:blipFill>
          <a:blip r:embed="rId5"/>
          <a:stretch/>
        </p:blipFill>
        <p:spPr>
          <a:xfrm>
            <a:off x="6012000" y="1700280"/>
            <a:ext cx="2987640" cy="2592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4" descr="AN03500_"/>
          <p:cNvPicPr/>
          <p:nvPr/>
        </p:nvPicPr>
        <p:blipFill>
          <a:blip r:embed="rId6"/>
          <a:stretch/>
        </p:blipFill>
        <p:spPr>
          <a:xfrm>
            <a:off x="6443640" y="5300640"/>
            <a:ext cx="1295280" cy="1285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6" descr="J0102762"/>
          <p:cNvPicPr/>
          <p:nvPr/>
        </p:nvPicPr>
        <p:blipFill>
          <a:blip r:embed="rId7"/>
          <a:stretch/>
        </p:blipFill>
        <p:spPr>
          <a:xfrm>
            <a:off x="250920" y="3645000"/>
            <a:ext cx="790560" cy="13683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7"/>
          <p:cNvSpPr/>
          <p:nvPr/>
        </p:nvSpPr>
        <p:spPr>
          <a:xfrm>
            <a:off x="3419640" y="189000"/>
            <a:ext cx="540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Script MT Bold"/>
              </a:rPr>
              <a:t>Отражен быт, повседневная жизн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f01"/>
                </a:solidFill>
                <a:latin typeface="Script MT Bold"/>
              </a:rPr>
              <a:t>Герои:</a:t>
            </a:r>
            <a:r>
              <a:rPr b="1" i="1" lang="ru-RU" sz="2400" spc="-1" strike="noStrike">
                <a:solidFill>
                  <a:srgbClr val="00ffff"/>
                </a:solidFill>
                <a:latin typeface="Script MT Bold"/>
              </a:rPr>
              <a:t>  </a:t>
            </a:r>
            <a:r>
              <a:rPr b="1" i="1" lang="ru-RU" sz="2400" spc="-1" strike="noStrike">
                <a:solidFill>
                  <a:srgbClr val="0099ff"/>
                </a:solidFill>
                <a:latin typeface="Script MT Bold"/>
              </a:rPr>
              <a:t>Мужик и его жена, зять, поп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ff"/>
                </a:solidFill>
                <a:latin typeface="Script MT Bold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i="1" lang="ru-RU" sz="2400" spc="-1" strike="noStrike">
                <a:solidFill>
                  <a:srgbClr val="0099ff"/>
                </a:solidFill>
                <a:latin typeface="Script MT Bold"/>
              </a:rPr>
              <a:t>Иванушка-дурачок, солдат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ff"/>
                </a:solidFill>
                <a:latin typeface="Script MT Bold"/>
              </a:rPr>
              <a:t>             </a:t>
            </a:r>
            <a:r>
              <a:rPr b="1" i="1" lang="ru-RU" sz="2400" spc="-1" strike="noStrike">
                <a:solidFill>
                  <a:srgbClr val="0099ff"/>
                </a:solidFill>
                <a:latin typeface="Script MT Bold"/>
              </a:rPr>
              <a:t>барин и его работник, купец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4000">
    <p:newsflash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800"/>
                            </p:stCondLst>
                            <p:childTnLst>
                              <p:par>
                                <p:cTn id="5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78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2" dur="2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18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3" dur="20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5800"/>
                            </p:stCondLst>
                            <p:childTnLst>
                              <p:par>
                                <p:cTn id="569" nodeType="after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6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9800"/>
                            </p:stCondLst>
                            <p:childTnLst>
                              <p:par>
                                <p:cTn id="578" nodeType="after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1800"/>
                            </p:stCondLst>
                            <p:childTnLst>
                              <p:par>
                                <p:cTn id="601" nodeType="after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autoRev="1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2151 L -0.03299 -0.02034 L -0.06424 0.02151 L -0.09739 -0.02034 L -0.13073 0.02151 L -0.16163 -0.02034 L -0.19496 0.02151 L -0.22639 -0.02034 L -0.25955 0.02151 L -0.29271 -0.02034 L -0.32413 0.02151 L -0.35746 -0.02034 L -0.38837 0.02151 L -0.4217 -0.02034 L -0.45486 0.02151 L -0.48611 -0.02034 L -0.51962 0.02151 E">
                                      <p:cBhvr>
                                        <p:cTn id="60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5800"/>
                            </p:stCondLst>
                            <p:childTnLst>
                              <p:par>
                                <p:cTn id="610" nodeType="after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7800"/>
                            </p:stCondLst>
                            <p:childTnLst>
                              <p:par>
                                <p:cTn id="617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31214E-007 L 0.26389 -0.17295 E">
                                      <p:cBhvr>
                                        <p:cTn id="622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32800"/>
                            </p:stCondLst>
                            <p:childTnLst>
                              <p:par>
                                <p:cTn id="62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31214E-007 L 0.26389 -0.17295 E">
                                      <p:cBhvr>
                                        <p:cTn id="625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539640" y="476280"/>
            <a:ext cx="799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cc"/>
                </a:solidFill>
                <a:latin typeface="Monotype Corsiva"/>
              </a:rPr>
              <a:t>«В сказке очень сознательно рассказчик нарушает все  пределы времени и пространства, говорит о тридесятом царстве, о небывалых странах и всяких диковинках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cc"/>
                </a:solidFill>
                <a:latin typeface="Monotype Corsiva"/>
              </a:rPr>
              <a:t>	</a:t>
            </a:r>
            <a:r>
              <a:rPr b="0" i="1" lang="ru-RU" sz="2800" spc="-1" strike="noStrike">
                <a:solidFill>
                  <a:srgbClr val="6600cc"/>
                </a:solidFill>
                <a:latin typeface="Monotype Corsiva"/>
              </a:rPr>
              <a:t>	</a:t>
            </a:r>
            <a:r>
              <a:rPr b="0" i="1" lang="ru-RU" sz="2800" spc="-1" strike="noStrike">
                <a:solidFill>
                  <a:srgbClr val="6600cc"/>
                </a:solidFill>
                <a:latin typeface="Monotype Corsiva"/>
              </a:rPr>
              <a:t>	</a:t>
            </a:r>
            <a:r>
              <a:rPr b="0" i="1" lang="ru-RU" sz="2800" spc="-1" strike="noStrike">
                <a:solidFill>
                  <a:srgbClr val="6600cc"/>
                </a:solidFill>
                <a:latin typeface="Monotype Corsiva"/>
              </a:rPr>
              <a:t>	</a:t>
            </a:r>
            <a:r>
              <a:rPr b="0" i="1" lang="ru-RU" sz="2800" spc="-1" strike="noStrike">
                <a:solidFill>
                  <a:srgbClr val="6600cc"/>
                </a:solidFill>
                <a:latin typeface="Monotype Corsiva"/>
              </a:rPr>
              <a:t>	</a:t>
            </a:r>
            <a:r>
              <a:rPr b="0" i="1" lang="ru-RU" sz="2800" spc="-1" strike="noStrike">
                <a:solidFill>
                  <a:srgbClr val="6600cc"/>
                </a:solidFill>
                <a:latin typeface="Monotype Corsiva"/>
              </a:rPr>
              <a:t>	</a:t>
            </a:r>
            <a:r>
              <a:rPr b="0" i="1" lang="ru-RU" sz="2800" spc="-1" strike="noStrike">
                <a:solidFill>
                  <a:srgbClr val="6600cc"/>
                </a:solidFill>
                <a:latin typeface="Monotype Corsiva"/>
              </a:rPr>
              <a:t>   </a:t>
            </a:r>
            <a:r>
              <a:rPr b="0" i="1" lang="ru-RU" sz="2800" spc="-1" strike="noStrike">
                <a:solidFill>
                  <a:srgbClr val="6600cc"/>
                </a:solidFill>
                <a:latin typeface="Monotype Corsiva"/>
              </a:rPr>
              <a:t>(К.С. Аксако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539640" y="2060640"/>
            <a:ext cx="25196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cc"/>
                </a:solidFill>
                <a:latin typeface="Script MT Bold"/>
              </a:rPr>
              <a:t>Такое понимание главной особеннос-ти сказки как жан-ра иногда повторя-ют и в наше время: «Подчеркнутая, соз-нательная установ-ка на вымысел – ос-новная черта сказки как жанра»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Picture 6" descr="BS00554_"/>
          <p:cNvPicPr/>
          <p:nvPr/>
        </p:nvPicPr>
        <p:blipFill>
          <a:blip r:embed="rId2"/>
          <a:stretch/>
        </p:blipFill>
        <p:spPr>
          <a:xfrm>
            <a:off x="3780000" y="2637000"/>
            <a:ext cx="1828800" cy="15937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7"/>
          <p:cNvSpPr/>
          <p:nvPr/>
        </p:nvSpPr>
        <p:spPr>
          <a:xfrm>
            <a:off x="3132000" y="4653000"/>
            <a:ext cx="5369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cc"/>
                </a:solidFill>
                <a:latin typeface="Bookman Old Style"/>
              </a:rPr>
              <a:t>Через сказку перед нами раскрываетс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cc"/>
                </a:solidFill>
                <a:latin typeface="Bookman Old Style"/>
              </a:rPr>
              <a:t>самобытная история народа. Вне связ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cc"/>
                </a:solidFill>
                <a:latin typeface="Bookman Old Style"/>
              </a:rPr>
              <a:t>с предшествующим традиционным творчеством сказку как художест-венный феномен понять нельз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8" descr="AN01251_"/>
          <p:cNvPicPr/>
          <p:nvPr/>
        </p:nvPicPr>
        <p:blipFill>
          <a:blip r:embed="rId3"/>
          <a:stretch/>
        </p:blipFill>
        <p:spPr>
          <a:xfrm>
            <a:off x="6227640" y="3357720"/>
            <a:ext cx="1420920" cy="1204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1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27">
                                  <p:stCondLst>
                                    <p:cond delay="10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3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5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46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8100"/>
                            </p:stCondLst>
                            <p:childTnLst>
                              <p:par>
                                <p:cTn id="6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4" dur="25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600"/>
                            </p:stCondLst>
                            <p:childTnLst>
                              <p:par>
                                <p:cTn id="6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8650"/>
                            </p:stCondLst>
                            <p:childTnLst>
                              <p:par>
                                <p:cTn id="668" nodeType="afterEffect" fill="hold" presetClass="entr" presetID="34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1950"/>
                            </p:stCondLst>
                            <p:childTnLst>
                              <p:par>
                                <p:cTn id="6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6.5896E-006 C -0.00139 -0.02266 -0.0033 -0.04949 -0.01268 -0.0696 C -0.01406 -0.07261 -0.01597 -0.07515 -0.01736 -0.07816 C -0.01823 -0.08001 -0.01823 -0.08255 -0.0191 -0.0844 C -0.02153 -0.09018 -0.02691 -0.10151 -0.02691 -0.10151 C -0.02847 -0.11145 -0.02969 -0.12209 -0.03334 -0.1311 C -0.03733 -0.14058 -0.04202 -0.14544 -0.04445 -0.15631 C -0.05018 -0.18151 -0.05382 -0.2081 -0.06181 -0.23238 C -0.06563 -0.24394 -0.07587 -0.25781 -0.08403 -0.26428 C -0.08646 -0.26636 -0.08959 -0.2666 -0.09202 -0.26845 C -0.09497 -0.27076 -0.09705 -0.27446 -0.1 -0.27677 C -0.12084 -0.29272 -0.14445 -0.31099 -0.16823 -0.31492 C -0.19358 -0.32463 -0.18281 -0.32186 -0.2 -0.32556 C -0.20156 -0.32625 -0.2033 -0.32648 -0.20469 -0.32764 C -0.20695 -0.32925 -0.20868 -0.33249 -0.21111 -0.33388 C -0.21459 -0.33596 -0.21858 -0.33688 -0.22222 -0.33827 C -0.23073 -0.34706 -0.23715 -0.35006 -0.24757 -0.35307 C -0.27257 -0.36925 -0.29965 -0.36856 -0.32691 -0.36995 C -0.35868 -0.36856 -0.38403 -0.36717 -0.41424 -0.35723 C -0.41736 -0.35515 -0.42049 -0.35261 -0.42379 -0.35076 C -0.42795 -0.34845 -0.43229 -0.34706 -0.43646 -0.34451 C -0.44584 -0.33873 -0.45087 -0.33064 -0.46024 -0.32556 C -0.46528 -0.31885 -0.47136 -0.31353 -0.47622 -0.30636 C -0.4783 -0.30313 -0.48542 -0.28764 -0.48733 -0.28324 C -0.48872 -0.28024 -0.49167 -0.27931 -0.49358 -0.27677 C -0.49948 -0.26891 -0.50365 -0.2592 -0.50955 -0.25157 C -0.51302 -0.23723 -0.51459 -0.22174 -0.51736 -0.20717 C -0.51893 -0.18243 -0.52049 -0.15769 -0.52222 -0.13319 C -0.52257 -0.12902 -0.52309 -0.12463 -0.52379 -0.12047 C -0.52465 -0.11608 -0.52691 -0.10775 -0.52691 -0.10775 C -0.53056 -0.05897 -0.53368 -0.00093 -0.5158 0.04439 C -0.51233 0.07283 -0.49774 0.10057 -0.48733 0.12485 C -0.48403 0.13248 -0.48247 0.1415 -0.47778 0.14797 C -0.4724 0.15514 -0.46632 0.16115 -0.46181 0.16924 C -0.45504 0.18127 -0.44809 0.19306 -0.44132 0.20485 C -0.43663 0.21317 -0.4349 0.22473 -0.42847 0.23051 C -0.4007 0.25525 -0.4349 0.22589 -0.41111 0.24323 C -0.4059 0.24716 -0.40243 0.25479 -0.39688 0.25803 C -0.38993 0.26219 -0.38177 0.2608 -0.37465 0.26427 C -0.32726 0.28647 -0.3599 0.27791 -0.31736 0.28554 C -0.30955 0.28693 -0.30886 0.2904 -0.3 0.29387 C -0.29184 0.2971 -0.28125 0.29826 -0.27292 0.30034 C -0.25643 0.31121 -0.18299 0.31051 -0.17465 0.31075 C -0.15452 0.31005 -0.13438 0.31051 -0.11424 0.30866 C -0.10816 0.30797 -0.10278 0.29826 -0.09688 0.29595 C -0.08768 0.28693 -0.07847 0.28115 -0.06823 0.27468 C -0.04097 0.25757 -0.05504 0.26173 -0.03646 0.25803 C -0.01719 0.24739 0.00295 0.22612 0.01423 0.20277 C 0.01736 0.18774 0.01996 0.17155 0.02378 0.15653 C 0.02656 0.09387 0.03021 0.09525 0.02535 0.00855 C 0.02482 -0.000699999999999999 0.01684 -0.0081 0.01111 -0.01041 C -0.00018 -0.0074 0.00191 -0.00972 -0.00313 0.00207 C -0.00504 0.00647 -0.00955 0.01479 -0.00955 0.01479 C -0.0066 0.01872 -0.00399 0.0245 0.00156 0.01687 C 0.00278 0.01525 0.00052 0.01271 2.5E-006 0.01063 C -0.00521 0.01294 -0.00313 0.01271 -0.00625 0.01271 L 2.5E-006 -6.5896E-006 Z">
                                      <p:cBhvr>
                                        <p:cTn id="676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Master</cp:lastModifiedBy>
  <dcterms:modified xsi:type="dcterms:W3CDTF">2013-02-28T16:37:41Z</dcterms:modified>
  <cp:revision>60</cp:revision>
  <dc:subject/>
  <dc:title>PowerPoint Presentation</dc:title>
</cp:coreProperties>
</file>