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21.png" ContentType="image/png"/>
  <Override PartName="/ppt/media/image20.gif" ContentType="image/gif"/>
  <Override PartName="/ppt/media/image18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1CC-AAE0-4BD8-AE79-464BB3C7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AFD-A82F-4A37-B268-8123CAF2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1A0-5335-4805-9B88-BB0E3EC0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F81-00F6-4E76-881A-68227C83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27E4-EC97-4566-B980-A40319AA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108B-3D0F-464B-A681-5A33C20B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A653-B5C9-47A4-9DEF-C00BA174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67E2-31E6-414C-B517-99496629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CFB5-56CB-481D-A845-28C1BD71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4920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4F68-AE35-45C7-8B07-B90E3FC0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0C2C-58D5-4440-8C04-BFE69102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2AF-E73B-4EF2-B208-EEE72F6E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C88C-7FC2-472A-8BF6-86E4DDE5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8D7D-8341-4191-8222-DCD095B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5D6C-BF0C-4614-B621-8A098F25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D7F3-A934-4050-A879-E1F0204A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08C9-AC7D-4D20-B75E-26C7A1E9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3CF-93F0-474C-88B8-5D8AEDD2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841-43CB-43C1-9BF5-891807C7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5F5-256E-4183-9525-21D1168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4920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449-B260-428B-B8C3-F09FC2E0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BA3-6A92-47E4-8099-092BAD6F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1FA-9F91-4891-8D32-5E0704C8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8A0-E970-45AB-9FF4-4D573B0C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EA41-8566-4E96-9075-A5E67A6C96E7}" type="slidenum">
              <a: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D41291-ED74-4CCE-82C7-3FEE2DD122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0360" y="4095720"/>
            <a:ext cx="856944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de-DE" sz="4000" spc="-1" strike="noStrike">
                <a:solidFill>
                  <a:srgbClr val="0000ff"/>
                </a:solidFill>
                <a:latin typeface="Tahoma"/>
              </a:rPr>
              <a:t>«Weihnachten in Deutschland</a:t>
            </a: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                   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16360" y="476280"/>
            <a:ext cx="54720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cc0000"/>
                </a:solidFill>
                <a:latin typeface="Tahoma"/>
              </a:rPr>
              <a:t>Adventskale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3095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663640" cy="3573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484360" y="3789360"/>
            <a:ext cx="262728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5113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e1237"/>
                </a:solidFill>
                <a:latin typeface="Tahoma"/>
              </a:rPr>
              <a:t>Advent! Advent!</a:t>
            </a:r>
            <a:br>
              <a:rPr sz="2400"/>
            </a:br>
            <a:r>
              <a:rPr b="1" i="1" lang="en-US" sz="2400" spc="-1" strike="noStrike">
                <a:solidFill>
                  <a:srgbClr val="ee1237"/>
                </a:solidFill>
                <a:latin typeface="Tahoma"/>
              </a:rPr>
              <a:t>Das Lichtlein brennt.</a:t>
            </a:r>
            <a:br>
              <a:rPr sz="2400"/>
            </a:br>
            <a:r>
              <a:rPr b="1" i="1" lang="en-US" sz="2400" spc="-1" strike="noStrike">
                <a:solidFill>
                  <a:srgbClr val="ee1237"/>
                </a:solidFill>
                <a:latin typeface="Tahoma"/>
              </a:rPr>
              <a:t>Erst eins, dann zwei,</a:t>
            </a:r>
            <a:br>
              <a:rPr sz="2400"/>
            </a:br>
            <a:r>
              <a:rPr b="1" i="1" lang="en-US" sz="2400" spc="-1" strike="noStrike">
                <a:solidFill>
                  <a:srgbClr val="ee1237"/>
                </a:solidFill>
                <a:latin typeface="Tahoma"/>
              </a:rPr>
              <a:t>Dann drei, dann vier.</a:t>
            </a:r>
            <a:br>
              <a:rPr sz="2400"/>
            </a:br>
            <a:r>
              <a:rPr b="1" i="1" lang="en-US" sz="2400" spc="-1" strike="noStrike">
                <a:solidFill>
                  <a:srgbClr val="ee1237"/>
                </a:solidFill>
                <a:latin typeface="Tahoma"/>
              </a:rPr>
              <a:t>Dann steht </a:t>
            </a:r>
            <a:br>
              <a:rPr sz="2400"/>
            </a:br>
            <a:r>
              <a:rPr b="1" i="1" lang="en-US" sz="2400" spc="-1" strike="noStrike">
                <a:solidFill>
                  <a:srgbClr val="ee1237"/>
                </a:solidFill>
                <a:latin typeface="Tahoma"/>
              </a:rPr>
              <a:t>das Christkind vor der Tü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rcRect l="0" t="5001" r="0" b="12499"/>
          <a:stretch/>
        </p:blipFill>
        <p:spPr>
          <a:xfrm>
            <a:off x="395280" y="3645000"/>
            <a:ext cx="5105520" cy="234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3429000" cy="2814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88000" y="602136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95280" y="626904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4788000" y="105264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8534520" y="270828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2771640" y="5589720"/>
            <a:ext cx="60984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068280"/>
            <a:ext cx="4032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 u="sng">
                <a:solidFill>
                  <a:srgbClr val="1e30d8"/>
                </a:solidFill>
                <a:uFillTx/>
                <a:latin typeface="Tahoma"/>
              </a:rPr>
              <a:t>Weihnachtsmärkte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1e30d8"/>
                </a:solidFill>
                <a:latin typeface="Tahoma"/>
              </a:rPr>
              <a:t>Der älteste und populärste Weihnachtsmarkt in Nürnberg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200400" cy="2519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219640" y="4149720"/>
            <a:ext cx="331488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492360" y="242100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635280" y="47628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5076720" y="285264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8244000" y="342900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4067280" y="515772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826920" y="5734080"/>
            <a:ext cx="60984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0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396360"/>
            <a:ext cx="5400360" cy="57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 u="sng">
                <a:solidFill>
                  <a:srgbClr val="1e30d8"/>
                </a:solidFill>
                <a:uFillTx/>
                <a:latin typeface="Tahoma"/>
              </a:rPr>
              <a:t>Der Nikolausta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1e30d8"/>
                </a:solidFill>
                <a:latin typeface="Tahoma"/>
              </a:rPr>
              <a:t>Am 6. Dezember feiern die Deutsche</a:t>
            </a:r>
            <a:r>
              <a:rPr b="0" lang="en-US" sz="2000" spc="-1" strike="noStrike">
                <a:solidFill>
                  <a:srgbClr val="1e30d8"/>
                </a:solidFill>
                <a:latin typeface="Tahoma"/>
              </a:rPr>
              <a:t>n</a:t>
            </a:r>
            <a:r>
              <a:rPr b="0" lang="de-DE" sz="2000" spc="-1" strike="noStrike">
                <a:solidFill>
                  <a:srgbClr val="1e30d8"/>
                </a:solidFill>
                <a:latin typeface="Tahoma"/>
              </a:rPr>
              <a:t> Nikolaustag. </a:t>
            </a:r>
            <a:br>
              <a:rPr sz="2000"/>
            </a:br>
            <a:r>
              <a:rPr b="0" lang="de-DE" sz="2000" spc="-1" strike="noStrike">
                <a:solidFill>
                  <a:srgbClr val="1e30d8"/>
                </a:solidFill>
                <a:latin typeface="Tahoma"/>
              </a:rPr>
              <a:t>Die Kinder stellen ihre Schuhe vor die Tür oder hängen Strümpfe an den Kamin. </a:t>
            </a:r>
            <a:br>
              <a:rPr sz="2000"/>
            </a:br>
            <a:r>
              <a:rPr b="0" lang="de-DE" sz="2000" spc="-1" strike="noStrike">
                <a:solidFill>
                  <a:srgbClr val="1e30d8"/>
                </a:solidFill>
                <a:latin typeface="Tahoma"/>
              </a:rPr>
              <a:t>In den nächsten Tag finden sie Süßigkeiten, Nüsse, Äpfel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Tahoma"/>
              </a:rPr>
              <a:t>Lieber, lieber Nikolaus,</a:t>
            </a: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Tahoma"/>
              </a:rPr>
              <a:t>Meine Stiefel stell‘ ich raus.</a:t>
            </a: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Tahoma"/>
              </a:rPr>
              <a:t>Gehst du in der Nacht durch‘ Haus</a:t>
            </a: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Tahoma"/>
              </a:rPr>
              <a:t>Bitte lasse sie nicht aus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830556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500720" y="299736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227640" y="364500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667640" y="422100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3708360" y="40464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8244000" y="580536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250920" y="5950080"/>
            <a:ext cx="60948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0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5113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 u="sng">
                <a:solidFill>
                  <a:srgbClr val="1e30d8"/>
                </a:solidFill>
                <a:uFillTx/>
                <a:latin typeface="Tahoma"/>
              </a:rPr>
              <a:t>Weihnachtsfe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1e30d8"/>
                </a:solidFill>
                <a:latin typeface="Tahoma"/>
              </a:rPr>
              <a:t>In Deutschland feiert man Weihnachten zwei Tage -  </a:t>
            </a:r>
            <a:br>
              <a:rPr sz="2000"/>
            </a:br>
            <a:r>
              <a:rPr b="0" lang="de-DE" sz="2000" spc="-1" strike="noStrike">
                <a:solidFill>
                  <a:srgbClr val="1e30d8"/>
                </a:solidFill>
                <a:latin typeface="Tahoma"/>
              </a:rPr>
              <a:t>am 25. und 26. Dezember. 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1e30d8"/>
                </a:solidFill>
                <a:latin typeface="Tahoma"/>
              </a:rPr>
              <a:t>Am 24. Dezember ist der Heilige Abend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756240" cy="4076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334120" y="342900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843280" y="90792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427640" y="537372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2627280" y="551664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468360" y="595008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4284720" y="40464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8244000" y="314172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3780000" y="306864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826920" y="549360"/>
            <a:ext cx="60984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0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87280" y="-1809720"/>
            <a:ext cx="3745080" cy="13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de-DE" sz="4000" spc="-1" strike="noStrike">
                <a:solidFill>
                  <a:srgbClr val="ee1237"/>
                </a:solidFill>
                <a:latin typeface="Monotype Corsiva"/>
              </a:rPr>
              <a:t>Weihnachtsessen</a:t>
            </a:r>
            <a:br>
              <a:rPr sz="4000"/>
            </a:br>
            <a:r>
              <a:rPr b="1" i="1" lang="de-DE" sz="2400" spc="-1" strike="noStrike">
                <a:solidFill>
                  <a:srgbClr val="cc0000"/>
                </a:solidFill>
                <a:latin typeface="Tahoma"/>
              </a:rPr>
              <a:t>die Stollen, die Gans, das Weihnachtskarpfen,</a:t>
            </a:r>
            <a:br>
              <a:rPr sz="2400"/>
            </a:br>
            <a:r>
              <a:rPr b="1" i="1" lang="de-DE" sz="2400" spc="-1" strike="noStrike">
                <a:solidFill>
                  <a:srgbClr val="cc0000"/>
                </a:solidFill>
                <a:latin typeface="Tahoma"/>
              </a:rPr>
              <a:t>die Pl</a:t>
            </a:r>
            <a:r>
              <a:rPr b="1" i="1" lang="en-US" sz="2400" spc="-1" strike="noStrike">
                <a:solidFill>
                  <a:srgbClr val="cc0000"/>
                </a:solidFill>
                <a:latin typeface="Tahoma"/>
                <a:ea typeface="Tahoma"/>
              </a:rPr>
              <a:t>ätzche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651640" y="4221000"/>
            <a:ext cx="2700360" cy="2008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719280" cy="6443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08720" y="33336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042920" y="4365720"/>
            <a:ext cx="2729160" cy="181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042920" y="333360"/>
            <a:ext cx="26654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0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619760" cy="5181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5800" y="152280"/>
            <a:ext cx="7772400" cy="281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50920" y="5950080"/>
            <a:ext cx="8642160" cy="75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24:13Z</dcterms:created>
  <dc:creator>PCXP</dc:creator>
  <dc:description/>
  <dc:language>en-US</dc:language>
  <cp:lastModifiedBy>Бухгалтерия</cp:lastModifiedBy>
  <dcterms:modified xsi:type="dcterms:W3CDTF">2013-10-18T11:36:21Z</dcterms:modified>
  <cp:revision>19</cp:revision>
  <dc:subject/>
  <dc:title>МОУ  Волипельгинская  СОШ Вавожского района  УР     Исследовательская работа  «Как празднуют Рождество в Германии?»                         Авторы: учащиеся 7 класса                           МОУ  Волипельгинская  СОШ                   Кузьмина  Анастасия                Куликова  Ксения                                                Руководитель: учитель немецкого языка                        МОУ Волипельгинская  СОШ                                Бушмакина Юлия Васильевна</dc:title>
</cp:coreProperties>
</file>