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wmf" ContentType="image/x-wmf"/>
  <Override PartName="/ppt/media/image7.wmf" ContentType="image/x-wmf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B99ED-4199-4BCC-B92E-8FBDAFD81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F6F35-13A5-4CA0-A386-7BF15CE39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BAB0F-DE05-4BE0-A872-6BF9A6834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C948A-BECF-4E00-8748-1706F1B02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E7C46-5F61-47E3-96CE-3D548500E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B3F85-97C4-47D1-B94A-D6C4DAEE4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BEA67-0F18-4AD1-853A-AE3B60993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E6087-2C76-42C0-9900-9FBB9C40E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49545-9990-4A01-AC94-BFDFF5C88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40FE5-1861-4181-8063-490E6BFD4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03C36-4AD7-48F4-84F9-F63934A12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BB325-EB1F-4BDD-822C-1621B7A46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F4941-1013-4A79-B8E4-927DC61E9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D6E7A-0D8E-4CE4-B14D-0848AD783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3F5DF-9CE6-4E33-A3F8-E2B02F521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95AE0-89C4-4426-A643-62E39320A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5894E-5620-4E3B-A876-92782092B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06A75-0E7A-44AB-8E9C-63CFECF98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B6444-7D8D-4534-A1DC-BC3EDB591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5DC0E-1AFD-45DB-92CC-0CF3948D9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B9A19-B72B-4072-B5E5-4D7F80652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E1397-AC6D-4086-A976-6051ADAE3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D3828-8F8A-47C7-9818-381BA6BA7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47EBF-383D-4DC0-860D-F0EBE4761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06D76-58CA-421C-BF3A-44F1193F985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64313-9A42-412A-800D-4D668DA1067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Рисунок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5"/>
          <p:cNvSpPr/>
          <p:nvPr/>
        </p:nvSpPr>
        <p:spPr>
          <a:xfrm>
            <a:off x="228600" y="1676520"/>
            <a:ext cx="8686800" cy="25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000" spc="-1" strike="noStrike">
                <a:solidFill>
                  <a:srgbClr val="000000"/>
                </a:solidFill>
                <a:latin typeface="Times New Roman"/>
              </a:rPr>
              <a:t>Методические рекомендации</a:t>
            </a:r>
            <a:endParaRPr b="0" lang="en-US" sz="5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000" spc="-1" strike="noStrike">
                <a:solidFill>
                  <a:srgbClr val="000000"/>
                </a:solidFill>
                <a:latin typeface="Times New Roman"/>
              </a:rPr>
              <a:t>по вопросу  защиты детей</a:t>
            </a:r>
            <a:endParaRPr b="0" lang="en-US" sz="5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000" spc="-1" strike="noStrike">
                <a:solidFill>
                  <a:srgbClr val="000000"/>
                </a:solidFill>
                <a:latin typeface="Times New Roman"/>
              </a:rPr>
              <a:t>от жестокого обращения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heel spokes="3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381880" cy="109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00"/>
                </a:solidFill>
                <a:latin typeface="Arial"/>
              </a:rPr>
              <a:t>Виды ответственности лиц, допускающие жестокое обращение с детьми, в соответствии с российским законодательств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4" descr="Безымянный10"/>
          <p:cNvPicPr/>
          <p:nvPr/>
        </p:nvPicPr>
        <p:blipFill>
          <a:blip r:embed="rId2"/>
          <a:srcRect l="37799" t="57959" r="34488" b="0"/>
          <a:stretch/>
        </p:blipFill>
        <p:spPr>
          <a:xfrm>
            <a:off x="5410080" y="2286000"/>
            <a:ext cx="3551400" cy="350532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5"/>
          <p:cNvSpPr/>
          <p:nvPr/>
        </p:nvSpPr>
        <p:spPr>
          <a:xfrm>
            <a:off x="533520" y="2590920"/>
            <a:ext cx="4495680" cy="317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Административная ответственность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Уголовная ответственность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Гражданско-правовая ответственность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Дисциплинарная ответственность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heel spokes="3"/>
  </p:transition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0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1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2500"/>
                            </p:stCondLst>
                            <p:childTnLst>
                              <p:par>
                                <p:cTn id="34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4650"/>
                            </p:stCondLst>
                            <p:childTnLst>
                              <p:par>
                                <p:cTn id="34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10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7300"/>
                            </p:stCondLst>
                            <p:childTnLst>
                              <p:par>
                                <p:cTn id="35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10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61048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9900"/>
                </a:solidFill>
                <a:latin typeface="Times New Roman"/>
              </a:rPr>
              <a:t>Направления работы школы по профилактике жестокого обращения с деть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аво на жизнь - главное право челове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силие в семь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силие среди сверстник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силие на улиц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ексуальное насил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сихологическое насил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изическое насил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моциональное насил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3"/>
  </p:transition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2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7" dur="2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2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2000"/>
                            </p:stCondLst>
                            <p:childTnLst>
                              <p:par>
                                <p:cTn id="37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20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3" dur="2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2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4000"/>
                            </p:stCondLst>
                            <p:childTnLst>
                              <p:par>
                                <p:cTn id="37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2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2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2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6000"/>
                            </p:stCondLst>
                            <p:childTnLst>
                              <p:par>
                                <p:cTn id="38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20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5" dur="20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20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8000"/>
                            </p:stCondLst>
                            <p:childTnLst>
                              <p:par>
                                <p:cTn id="38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20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1" dur="20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20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10000"/>
                            </p:stCondLst>
                            <p:childTnLst>
                              <p:par>
                                <p:cTn id="39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2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7" dur="2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2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12000"/>
                            </p:stCondLst>
                            <p:childTnLst>
                              <p:par>
                                <p:cTn id="40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2000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3" dur="20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20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14000"/>
                            </p:stCondLst>
                            <p:childTnLst>
                              <p:par>
                                <p:cTn id="40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9" dur="2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2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457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imes New Roman"/>
              </a:rPr>
              <a:t>«Дети, которые с детства испытывали жестокость и пренебрежение со стороны взрослых, через всю свою жизнь пронесут целый набор комплексов и обид и никогда по-настоящему не смогут реализовать свои способности»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590920" y="5715000"/>
            <a:ext cx="64008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авел Астахов,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уполномоченный при Президенте РФ по правам ребенк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heel spokes="3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3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3000"/>
                            </p:stCondLst>
                            <p:childTnLst>
                              <p:par>
                                <p:cTn id="1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3" descr="WB01741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6"/>
          <p:cNvSpPr/>
          <p:nvPr/>
        </p:nvSpPr>
        <p:spPr>
          <a:xfrm>
            <a:off x="228600" y="1905120"/>
            <a:ext cx="868680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imes New Roman"/>
              </a:rPr>
              <a:t>– </a:t>
            </a:r>
            <a:r>
              <a:rPr b="1" lang="ru-RU" sz="2200" spc="-1" strike="noStrike">
                <a:solidFill>
                  <a:srgbClr val="ffffff"/>
                </a:solidFill>
                <a:latin typeface="Times New Roman"/>
              </a:rPr>
              <a:t>ФЗ №120 « Об основах системы профилактики безнадзорности и правонарушений  несовершеннолетних» принят 21.05.1999г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imes New Roman"/>
              </a:rPr>
              <a:t>- ФЗ № 124 « ОБ основных гарантиях прав ребенка в  Российской Федерации» принят 24.07.1998г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imes New Roman"/>
              </a:rPr>
              <a:t>- Концепция модернизации профилактики безнадзорности и правонарушений несовершеннолетних в Курганской области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imes New Roman"/>
              </a:rPr>
              <a:t>- Инструкция о порядке работы классного руководителя, социального педагога и инспектора ОПДН (в учебных заведениях) МОБ УВД по г. Кургану по проведению профилактической работы с обучающимися общеобразовательных учебных заведений города Кургана и их законными представителями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Нормативно – правовые документы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3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20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4240"/>
                            </p:stCondLst>
                            <p:childTnLst>
                              <p:par>
                                <p:cTn id="2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6240"/>
                            </p:stCondLst>
                            <p:childTnLst>
                              <p:par>
                                <p:cTn id="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8240"/>
                            </p:stCondLst>
                            <p:childTnLst>
                              <p:par>
                                <p:cTn id="3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0240"/>
                            </p:stCondLst>
                            <p:childTnLst>
                              <p:par>
                                <p:cTn id="4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500" spc="-1" strike="noStrike">
                <a:solidFill>
                  <a:srgbClr val="0000ff"/>
                </a:solidFill>
                <a:latin typeface="Times New Roman"/>
              </a:rPr>
              <a:t>Основные понятия: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960" y="1371240"/>
            <a:ext cx="88390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00"/>
                </a:solidFill>
                <a:latin typeface="Times New Roman"/>
              </a:rPr>
              <a:t>Дети, находящиеся в трудной жизненной ситуаци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дети, оставшиеся без попечения родителей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дети-инвалиды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дети с ограниченными возможностями здоровья, то есть имеющие недостатки в физическом и (или) психическом развитии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ети - жертвы вооруженных и межнациональных конфликтов, экологических и техногенных катастроф, стихийных бедствий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ети из семей беженцев и вынужденных переселенцев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ети, оказавшиеся в экстремальных условиях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ети - жертвы насилия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ети, отбывающие наказание в виде лишения свободы в воспитательных колониях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ети, находящиеся в специальных учебно-воспитательных учреждениях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дети, проживающие в малоимущих семьях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дети с отклонениями в поведении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ети, жизнедеятельность которых объективно нарушена в результате сложившихся обстоятельств и которые не могут преодолеть данные обстоятельства самостоятельно или с помощью семь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3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2000"/>
                            </p:stCondLst>
                            <p:childTnLst>
                              <p:par>
                                <p:cTn id="5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3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3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0"/>
                            </p:stCondLst>
                            <p:childTnLst>
                              <p:par>
                                <p:cTn id="6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30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30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8000"/>
                            </p:stCondLst>
                            <p:childTnLst>
                              <p:par>
                                <p:cTn id="6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30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30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1000"/>
                            </p:stCondLst>
                            <p:childTnLst>
                              <p:par>
                                <p:cTn id="7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30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30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4000"/>
                            </p:stCondLst>
                            <p:childTnLst>
                              <p:par>
                                <p:cTn id="7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30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30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7000"/>
                            </p:stCondLst>
                            <p:childTnLst>
                              <p:par>
                                <p:cTn id="8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3000" fill="hold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3000" fill="hold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0000"/>
                            </p:stCondLst>
                            <p:childTnLst>
                              <p:par>
                                <p:cTn id="8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3000" fill="hold"/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3000" fill="hold"/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23000"/>
                            </p:stCondLst>
                            <p:childTnLst>
                              <p:par>
                                <p:cTn id="9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3000" fill="hold"/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3000" fill="hold"/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6000"/>
                            </p:stCondLst>
                            <p:childTnLst>
                              <p:par>
                                <p:cTn id="9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3000" fill="hold"/>
                                        <p:tgtEl>
                                          <p:spTgt spid="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3000" fill="hold"/>
                                        <p:tgtEl>
                                          <p:spTgt spid="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29000"/>
                            </p:stCondLst>
                            <p:childTnLst>
                              <p:par>
                                <p:cTn id="10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3000" fill="hold"/>
                                        <p:tgtEl>
                                          <p:spTgt spid="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3000" fill="hold"/>
                                        <p:tgtEl>
                                          <p:spTgt spid="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32000"/>
                            </p:stCondLst>
                            <p:childTnLst>
                              <p:par>
                                <p:cTn id="10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3000" fill="hold"/>
                                        <p:tgtEl>
                                          <p:spTgt spid="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3000" fill="hold"/>
                                        <p:tgtEl>
                                          <p:spTgt spid="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35000"/>
                            </p:stCondLst>
                            <p:childTnLst>
                              <p:par>
                                <p:cTn id="11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3000" fill="hold"/>
                                        <p:tgtEl>
                                          <p:spTgt spid="9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3000" fill="hold"/>
                                        <p:tgtEl>
                                          <p:spTgt spid="9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0" y="75960"/>
            <a:ext cx="914400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Девиантное поведение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оведение, характеризующееся устойчивым, повторяющимся нарушением социальных норм и правил; поступки, действия несовершеннолетнего не соответствующие официально установленным или фактически сложившимся в данном обществе нормам и правила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Дезадаптация социальная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ледствие деформации процесса социализации ребенка, проявляющееся в его рассогласованности с традициями, нормами, правилами, законами, принятыми в обществе; в отклоняющемся поведении, искажении личностных структур (идеалов, установок, ценностей); в разрыве социальных связей и отношений со значимыми для ребенка людьми; в ограничении способности выполнять социальные функции; в сужении круга или ослаблении интенсивности ведущих видов деятельности, необходимых для социализации детей, - игры,  труда, обще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Социальная реабилитация ребенка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- мероприятия по восстановлению утраченных ребенком социальных связей и функций, восполнению среды жизнеобеспечения, усилению заботы о нем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Индивидуальная программа социальной реабилитации несовершеннолетнего и семьи, находящейся в социально опасном положении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форма ведения документации, содержащая  сведения о семье, ребенке; перечень социальных, педагогических, медицинских, психологических и других мероприятий по реабилитации семьи, ребенка, определяющих общую для всех субъектов профилактики стратегию и тактику работы с конкретной семьей и несовершеннолетними, находящимися в социально опасном положен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Насилие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умышленное применение индивидом или социальной группой различных форм принуждения в отношении, например, ребенка, ущемляющее его конституционные права и свободы как гражданина, наносящее ущерб или содержащее угрозу его физическому, психическому состоянию и развитию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Социальное сиротство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оциальное явление, обусловленное наличием в обществе детей, оставшихся без попечения родителей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Несовершеннолетний, находящийся в социально опасном положении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лицо, которое вследствие безнадзорности или беспризорности находится в обстановке, представляющей опасность для его жизни или здоровья либо не отвечающей требованиям к его воспитанию или содержанию, либо совершает правонарушение или антиобщественные действ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Семья, находящаяся в социально опасном положении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- семья, имеющая детей, находящихся в социально опасном положении, а также семья, где родители или иные законные представители несовершеннолетних не исполняют своих обязанностей по их воспитанию, обучению и (или) содержанию и (или) отрицательно влияют на их поведение либо жестоко обращаются с ни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3"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3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3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3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3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3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30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6000"/>
                            </p:stCondLst>
                            <p:childTnLst>
                              <p:par>
                                <p:cTn id="1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30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30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30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9000"/>
                            </p:stCondLst>
                            <p:childTnLst>
                              <p:par>
                                <p:cTn id="1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30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30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30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12000"/>
                            </p:stCondLst>
                            <p:childTnLst>
                              <p:par>
                                <p:cTn id="14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30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30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30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15000"/>
                            </p:stCondLst>
                            <p:childTnLst>
                              <p:par>
                                <p:cTn id="1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30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30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3000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18000"/>
                            </p:stCondLst>
                            <p:childTnLst>
                              <p:par>
                                <p:cTn id="15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30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30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3000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21000"/>
                            </p:stCondLst>
                            <p:childTnLst>
                              <p:par>
                                <p:cTn id="16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3000" fill="hold"/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3000" fill="hold"/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3000"/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8" descr="WB01741L"/>
          <p:cNvPicPr/>
          <p:nvPr/>
        </p:nvPicPr>
        <p:blipFill>
          <a:blip r:embed="rId1"/>
          <a:stretch/>
        </p:blipFill>
        <p:spPr>
          <a:xfrm>
            <a:off x="76320" y="0"/>
            <a:ext cx="906768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Text Box 9"/>
          <p:cNvSpPr/>
          <p:nvPr/>
        </p:nvSpPr>
        <p:spPr>
          <a:xfrm>
            <a:off x="76320" y="76320"/>
            <a:ext cx="891540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Жестокое обращение с детьми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анесение физического, психологического, эмоционального ущерба несовершеннолетнему путем умышленного действия, а также пренебрежение родителями (законными представителями), воспитателями, др. лицами обязанностями по отношению к несовершеннолетнему, наносящее вред его физическому и психическому развитию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685800" y="1752480"/>
            <a:ext cx="7924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Формы жестокого обращения с детьм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AutoShape 14"/>
          <p:cNvSpPr/>
          <p:nvPr/>
        </p:nvSpPr>
        <p:spPr>
          <a:xfrm>
            <a:off x="1143000" y="2362320"/>
            <a:ext cx="228600" cy="838080"/>
          </a:xfrm>
          <a:prstGeom prst="downArrow">
            <a:avLst>
              <a:gd name="adj1" fmla="val 50000"/>
              <a:gd name="adj2" fmla="val 91654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AutoShape 15"/>
          <p:cNvSpPr/>
          <p:nvPr/>
        </p:nvSpPr>
        <p:spPr>
          <a:xfrm>
            <a:off x="3048120" y="2438280"/>
            <a:ext cx="304560" cy="1981440"/>
          </a:xfrm>
          <a:prstGeom prst="downArrow">
            <a:avLst>
              <a:gd name="adj1" fmla="val 50000"/>
              <a:gd name="adj2" fmla="val 16264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AutoShape 16"/>
          <p:cNvSpPr/>
          <p:nvPr/>
        </p:nvSpPr>
        <p:spPr>
          <a:xfrm>
            <a:off x="5791320" y="2438280"/>
            <a:ext cx="304560" cy="1981440"/>
          </a:xfrm>
          <a:prstGeom prst="downArrow">
            <a:avLst>
              <a:gd name="adj1" fmla="val 50000"/>
              <a:gd name="adj2" fmla="val 162648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AutoShape 17"/>
          <p:cNvSpPr/>
          <p:nvPr/>
        </p:nvSpPr>
        <p:spPr>
          <a:xfrm>
            <a:off x="7848720" y="2362320"/>
            <a:ext cx="228600" cy="838080"/>
          </a:xfrm>
          <a:prstGeom prst="downArrow">
            <a:avLst>
              <a:gd name="adj1" fmla="val 50000"/>
              <a:gd name="adj2" fmla="val 9165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Text Box 18"/>
          <p:cNvSpPr/>
          <p:nvPr/>
        </p:nvSpPr>
        <p:spPr>
          <a:xfrm>
            <a:off x="4724280" y="4648320"/>
            <a:ext cx="3200400" cy="2104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ffff"/>
                </a:solidFill>
                <a:latin typeface="Monotype Corsiva"/>
              </a:rPr>
              <a:t>Отсутствие заботы (пренебрежение основными потребностями ребенка)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Text Box 23"/>
          <p:cNvSpPr/>
          <p:nvPr/>
        </p:nvSpPr>
        <p:spPr>
          <a:xfrm>
            <a:off x="304920" y="3429000"/>
            <a:ext cx="1752480" cy="1800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Monotype Corsiva"/>
              </a:rPr>
              <a:t>Физическое насили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Text Box 24"/>
          <p:cNvSpPr/>
          <p:nvPr/>
        </p:nvSpPr>
        <p:spPr>
          <a:xfrm>
            <a:off x="7086600" y="3429000"/>
            <a:ext cx="1752480" cy="128196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Monotype Corsiva"/>
              </a:rPr>
              <a:t>Сексуальное насилие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Text Box 26"/>
          <p:cNvSpPr/>
          <p:nvPr/>
        </p:nvSpPr>
        <p:spPr>
          <a:xfrm>
            <a:off x="2057400" y="4648320"/>
            <a:ext cx="2362320" cy="192276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Monotype Corsiva"/>
              </a:rPr>
              <a:t>Психическое (эмоционально дурное обращение) насили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heel spokes="3"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8" dur="1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1000"/>
                            </p:stCondLst>
                            <p:childTnLst>
                              <p:par>
                                <p:cTn id="18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2000"/>
                            </p:stCondLst>
                            <p:childTnLst>
                              <p:par>
                                <p:cTn id="18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3800"/>
                            </p:stCondLst>
                            <p:childTnLst>
                              <p:par>
                                <p:cTn id="1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4800"/>
                            </p:stCondLst>
                            <p:childTnLst>
                              <p:par>
                                <p:cTn id="19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" name="Organization Chart 3"/>
          <p:cNvGrpSpPr/>
          <p:nvPr/>
        </p:nvGrpSpPr>
        <p:grpSpPr>
          <a:xfrm>
            <a:off x="431640" y="549360"/>
            <a:ext cx="8208360" cy="5418360"/>
            <a:chOff x="431640" y="549360"/>
            <a:chExt cx="8208360" cy="5418360"/>
          </a:xfrm>
        </p:grpSpPr>
        <p:cxnSp>
          <p:nvCxnSpPr>
            <p:cNvPr id="104" name="_s1028"/>
            <p:cNvCxnSpPr>
              <a:stCxn id="105" idx="0"/>
              <a:endCxn id="106" idx="2"/>
            </p:cNvCxnSpPr>
            <p:nvPr/>
          </p:nvCxnSpPr>
          <p:spPr>
            <a:xfrm flipV="1" rot="16200000">
              <a:off x="5433120" y="1821240"/>
              <a:ext cx="1078560" cy="2873520"/>
            </a:xfrm>
            <a:prstGeom prst="bentConnector3">
              <a:avLst>
                <a:gd name="adj1" fmla="val 1058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7" name="_s1029"/>
            <p:cNvCxnSpPr>
              <a:stCxn id="108" idx="0"/>
              <a:endCxn id="106" idx="2"/>
            </p:cNvCxnSpPr>
            <p:nvPr/>
          </p:nvCxnSpPr>
          <p:spPr>
            <a:xfrm flipV="1">
              <a:off x="4536000" y="2719080"/>
              <a:ext cx="3600" cy="10785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9" name="_s1030"/>
            <p:cNvCxnSpPr>
              <a:stCxn id="110" idx="0"/>
              <a:endCxn id="106" idx="2"/>
            </p:cNvCxnSpPr>
            <p:nvPr/>
          </p:nvCxnSpPr>
          <p:spPr>
            <a:xfrm flipH="1" flipV="1" rot="5400000">
              <a:off x="2559960" y="1821600"/>
              <a:ext cx="1078560" cy="2873520"/>
            </a:xfrm>
            <a:prstGeom prst="bentConnector3">
              <a:avLst>
                <a:gd name="adj1" fmla="val 10584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06" name="_s1031"/>
            <p:cNvSpPr/>
            <p:nvPr/>
          </p:nvSpPr>
          <p:spPr>
            <a:xfrm>
              <a:off x="3304440" y="549360"/>
              <a:ext cx="2462400" cy="21700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Tahoma"/>
                </a:rPr>
                <a:t>Проявление</a:t>
              </a:r>
              <a:endParaRPr b="0" lang="en-US" sz="21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Tahoma"/>
                </a:rPr>
                <a:t>жестокости</a:t>
              </a:r>
              <a:endParaRPr b="0" lang="en-US" sz="2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_s1032"/>
            <p:cNvSpPr/>
            <p:nvPr/>
          </p:nvSpPr>
          <p:spPr>
            <a:xfrm>
              <a:off x="431640" y="3797640"/>
              <a:ext cx="2462400" cy="21700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100" spc="-1" strike="noStrike">
                  <a:solidFill>
                    <a:srgbClr val="ffffff"/>
                  </a:solidFill>
                  <a:latin typeface="Tahoma"/>
                </a:rPr>
                <a:t>Родители</a:t>
              </a:r>
              <a:endParaRPr b="0" lang="en-US" sz="21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100" spc="-1" strike="noStrike">
                  <a:solidFill>
                    <a:srgbClr val="ffffff"/>
                  </a:solidFill>
                  <a:latin typeface="Tahoma"/>
                </a:rPr>
                <a:t>дети</a:t>
              </a:r>
              <a:endParaRPr b="0" lang="en-US" sz="2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_s1033"/>
            <p:cNvSpPr/>
            <p:nvPr/>
          </p:nvSpPr>
          <p:spPr>
            <a:xfrm>
              <a:off x="3304440" y="3797640"/>
              <a:ext cx="2462400" cy="21700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Tahoma"/>
                </a:rPr>
                <a:t>Учитель </a:t>
              </a:r>
              <a:endParaRPr b="0" lang="en-US" sz="21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endParaRPr b="0" lang="en-US" sz="21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Tahoma"/>
                </a:rPr>
                <a:t>ученики</a:t>
              </a:r>
              <a:endParaRPr b="0" lang="en-US" sz="2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_s1034"/>
            <p:cNvSpPr/>
            <p:nvPr/>
          </p:nvSpPr>
          <p:spPr>
            <a:xfrm>
              <a:off x="6177600" y="3797640"/>
              <a:ext cx="2462400" cy="21700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Tahoma"/>
                </a:rPr>
                <a:t>Ученик </a:t>
              </a:r>
              <a:endParaRPr b="0" lang="en-US" sz="21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0" lang="en-US" sz="2100" spc="-1" strike="noStrike">
                  <a:solidFill>
                    <a:srgbClr val="ffffff"/>
                  </a:solidFill>
                  <a:latin typeface="Tahoma"/>
                </a:rPr>
                <a:t>Ученик</a:t>
              </a:r>
              <a:endParaRPr b="0" lang="en-US" sz="21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1" name="Line 12"/>
          <p:cNvSpPr/>
          <p:nvPr/>
        </p:nvSpPr>
        <p:spPr>
          <a:xfrm>
            <a:off x="2484360" y="4869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Line 13"/>
          <p:cNvSpPr/>
          <p:nvPr/>
        </p:nvSpPr>
        <p:spPr>
          <a:xfrm>
            <a:off x="2484360" y="4724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Line 14"/>
          <p:cNvSpPr/>
          <p:nvPr/>
        </p:nvSpPr>
        <p:spPr>
          <a:xfrm>
            <a:off x="4427640" y="4724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Line 15"/>
          <p:cNvSpPr/>
          <p:nvPr/>
        </p:nvSpPr>
        <p:spPr>
          <a:xfrm>
            <a:off x="1692360" y="4724280"/>
            <a:ext cx="0" cy="433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Line 16"/>
          <p:cNvSpPr/>
          <p:nvPr/>
        </p:nvSpPr>
        <p:spPr>
          <a:xfrm>
            <a:off x="7380360" y="4724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heel spokes="3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304920" y="228600"/>
            <a:ext cx="853416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500" spc="-1" strike="noStrike">
                <a:solidFill>
                  <a:srgbClr val="ffffff"/>
                </a:solidFill>
                <a:latin typeface="Monotype Corsiva"/>
              </a:rPr>
              <a:t>Влияние форм жестокого обращения на ребенка</a:t>
            </a:r>
            <a:r>
              <a:rPr b="0" lang="ru-RU" sz="3000" spc="-1" strike="noStrike">
                <a:solidFill>
                  <a:srgbClr val="ffffff"/>
                </a:solidFill>
                <a:latin typeface="Monotype Corsiva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7" name="Picture 5" descr="BASEBAL2"/>
          <p:cNvPicPr/>
          <p:nvPr/>
        </p:nvPicPr>
        <p:blipFill>
          <a:blip r:embed="rId1"/>
          <a:stretch/>
        </p:blipFill>
        <p:spPr>
          <a:xfrm>
            <a:off x="6477120" y="3962520"/>
            <a:ext cx="2047680" cy="2895480"/>
          </a:xfrm>
          <a:prstGeom prst="rect">
            <a:avLst/>
          </a:prstGeom>
          <a:ln w="0">
            <a:noFill/>
          </a:ln>
        </p:spPr>
      </p:pic>
      <p:sp>
        <p:nvSpPr>
          <p:cNvPr id="118" name="Line 8"/>
          <p:cNvSpPr/>
          <p:nvPr/>
        </p:nvSpPr>
        <p:spPr>
          <a:xfrm>
            <a:off x="6095880" y="4343400"/>
            <a:ext cx="2210040" cy="25146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Line 9"/>
          <p:cNvSpPr/>
          <p:nvPr/>
        </p:nvSpPr>
        <p:spPr>
          <a:xfrm flipH="1">
            <a:off x="5943600" y="4191120"/>
            <a:ext cx="2209680" cy="2666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Rectangle 10"/>
          <p:cNvSpPr/>
          <p:nvPr/>
        </p:nvSpPr>
        <p:spPr>
          <a:xfrm>
            <a:off x="4495680" y="1066680"/>
            <a:ext cx="441972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Физическое насилие:</a:t>
            </a:r>
            <a:r>
              <a:rPr b="0" lang="ru-RU" sz="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анесение ребенку физических травм, телесных повреждений, использование в семье наказани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овлечение ребенка в употребление наркотиков, алкогол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Rectangle 11"/>
          <p:cNvSpPr/>
          <p:nvPr/>
        </p:nvSpPr>
        <p:spPr>
          <a:xfrm>
            <a:off x="0" y="990720"/>
            <a:ext cx="41148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сихическое насилие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словесные оскорбления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унижение человеческого достоинства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демонстрация нелюбви, неприязни со стороны взрослых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предъявление к ребенку требований не соответствующих возрастным особенностям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принуждение к одиночеству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совершение в присутствии ребенка насилия по отношению к супругу или другим детям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причинение боли домашним животным с целью запугать ребенка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heel spokes="3"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0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2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2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2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20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2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2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4000"/>
                            </p:stCondLst>
                            <p:childTnLst>
                              <p:par>
                                <p:cTn id="24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2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2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6000"/>
                            </p:stCondLst>
                            <p:childTnLst>
                              <p:par>
                                <p:cTn id="25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20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2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2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8000"/>
                            </p:stCondLst>
                            <p:childTnLst>
                              <p:par>
                                <p:cTn id="26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20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2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2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10000"/>
                            </p:stCondLst>
                            <p:childTnLst>
                              <p:par>
                                <p:cTn id="26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2000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20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20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12000"/>
                            </p:stCondLst>
                            <p:childTnLst>
                              <p:par>
                                <p:cTn id="27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2000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14000"/>
                            </p:stCondLst>
                            <p:childTnLst>
                              <p:par>
                                <p:cTn id="27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20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20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16000"/>
                            </p:stCondLst>
                            <p:childTnLst>
                              <p:par>
                                <p:cTn id="28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2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2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2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8000"/>
                            </p:stCondLst>
                            <p:childTnLst>
                              <p:par>
                                <p:cTn id="29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2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2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2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20000"/>
                            </p:stCondLst>
                            <p:childTnLst>
                              <p:par>
                                <p:cTn id="29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20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2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2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151920" y="609120"/>
            <a:ext cx="449604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ексуальное насилие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вовлечение ребенка с его согласия или без такового в прямые или непрямые акты сексуального характера со взрослым с целью получения последним сексуального удовлетворения или выгоды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028840" y="1447560"/>
            <a:ext cx="3886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енебрежение основными нуждами ребен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отсутствие со стороны родителей или лиц их заменяющих элементарной заботы о ребенке, в результате чего последний испытывает острую или хроническую нужду в питании, одежде, жилище, гигиене, безопасности, любви и заботе, медицинской помощи, образовании и т. д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4" name="Picture 7" descr="DRUNKARD"/>
          <p:cNvPicPr/>
          <p:nvPr/>
        </p:nvPicPr>
        <p:blipFill>
          <a:blip r:embed="rId1"/>
          <a:stretch/>
        </p:blipFill>
        <p:spPr>
          <a:xfrm>
            <a:off x="1143000" y="4343400"/>
            <a:ext cx="2133720" cy="2400480"/>
          </a:xfrm>
          <a:prstGeom prst="rect">
            <a:avLst/>
          </a:prstGeom>
          <a:ln w="0">
            <a:noFill/>
          </a:ln>
        </p:spPr>
      </p:pic>
      <p:sp>
        <p:nvSpPr>
          <p:cNvPr id="125" name="Line 8"/>
          <p:cNvSpPr/>
          <p:nvPr/>
        </p:nvSpPr>
        <p:spPr>
          <a:xfrm>
            <a:off x="1219320" y="4495680"/>
            <a:ext cx="2666880" cy="22860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Line 9"/>
          <p:cNvSpPr/>
          <p:nvPr/>
        </p:nvSpPr>
        <p:spPr>
          <a:xfrm flipH="1">
            <a:off x="990360" y="4495680"/>
            <a:ext cx="2819160" cy="23623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heel spokes="3"/>
  </p:transition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0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2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2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2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2000"/>
                            </p:stCondLst>
                            <p:childTnLst>
                              <p:par>
                                <p:cTn id="31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20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2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2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4000"/>
                            </p:stCondLst>
                            <p:childTnLst>
                              <p:par>
                                <p:cTn id="3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2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2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2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6000"/>
                            </p:stCondLst>
                            <p:childTnLst>
                              <p:par>
                                <p:cTn id="3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20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7" dur="2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2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123</cp:lastModifiedBy>
  <dcterms:modified xsi:type="dcterms:W3CDTF">2013-10-18T19:24:08Z</dcterms:modified>
  <cp:revision>1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