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2C4-3DEF-40D3-9DE9-D84B662C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265-0C26-4BB0-946C-1587C85C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37B-3C83-4842-8757-80F6F7AB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21A-7762-4F62-9A1A-08015C8A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30B4-24FF-47CA-807D-96112375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9C73-66B5-4429-B13E-59781A72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D6F4-137F-4665-901E-10DB63B6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BB36-D26C-4918-9457-1EAD46FE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DE50-607F-4F8F-81E1-4831AC0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97D1-B071-4DC1-90B7-9EEF83E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0260-2745-44AA-9703-8CFB7D0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6A3-1187-48CD-8152-EA6E2C50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5F67-102F-4F94-97A8-FE7DE83C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29F-585B-4A30-8EBE-3376975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7EF1-126C-4668-8F59-1A5CA46F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247-B791-4FBD-A298-3740D491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2825-40E9-460B-98CE-09432598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F5C-8C0E-4E9A-B0C5-586DFB55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7A5-BD5F-4A08-81B5-B9007374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277-8A6B-4ECC-BC43-F1670A07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A77-4BF0-41EE-8FD4-46A9909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F6B-AD33-41C5-B3A9-8E05C28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747-B69D-43AD-8DAD-171CE12A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2D0-EDBE-4E1C-B073-2760C4F9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CA20A-41CB-4612-8F71-6B02C3947EE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8120" cy="471600"/>
              <a:chOff x="290520" y="2546280"/>
              <a:chExt cx="708120" cy="47160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4760" cy="471600"/>
              <a:chOff x="414360" y="2968560"/>
              <a:chExt cx="7347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576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AD4E4E-D4EB-4946-800B-F04D60478CE8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19280" y="765000"/>
            <a:ext cx="4956120" cy="23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ссии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24000" y="3816360"/>
            <a:ext cx="4176720" cy="198360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Выполнила:  Михайлова Еле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«Труди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443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443640" y="3357720"/>
            <a:ext cx="2286000" cy="30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443640" y="3357720"/>
          <a:ext cx="2305080" cy="302400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00"/>
                      </a:solidFill>
                    </a:lnL>
                    <a:lnR w="6480">
                      <a:solidFill>
                        <a:srgbClr val="ffff00"/>
                      </a:solidFill>
                    </a:lnR>
                    <a:lnT w="6480">
                      <a:solidFill>
                        <a:srgbClr val="ffff00"/>
                      </a:solidFill>
                    </a:lnT>
                    <a:lnB w="64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47640" y="981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01080" y="6524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017800"/>
            <a:ext cx="43815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лой кисточкой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расит грудку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неги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тоб в мороз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 пур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е замёрз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 сне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32360" y="2349360"/>
            <a:ext cx="380988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ин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64000" y="2492280"/>
            <a:ext cx="3205440" cy="3529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9640" y="2349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421000"/>
            <a:ext cx="43084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усть снег вок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искр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И зимний ве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литс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ёт не уста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иница распис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cc33"/>
                </a:solidFill>
                <a:latin typeface="Tahoma"/>
              </a:rPr>
              <a:t>Жавороно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2017800"/>
            <a:ext cx="42372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Это чья там песня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ьё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д простор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Это песн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жавор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 родной зем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4120" y="2205000"/>
            <a:ext cx="359892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Tahoma"/>
              </a:rPr>
              <a:t>Щего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017800"/>
            <a:ext cx="430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мывается рос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пинка с жёл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лос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лышит л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и с лышит до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ак поёт с ут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ще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03880" y="2205000"/>
            <a:ext cx="3492360" cy="374508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Tahoma"/>
              </a:rPr>
              <a:t>Дят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2017800"/>
            <a:ext cx="4092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ятел – врач лесного цар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ятел лечит б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к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чит лип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лёны, 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тоб росл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е бол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2737080" cy="387972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ahoma"/>
              </a:rPr>
              <a:t>Трясогуз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2017800"/>
            <a:ext cx="445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летела к детям в г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рясогузка – дли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хвос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о найдёт на грядке сем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о спешит куда-то в т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линным хвост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сё 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Ей покачивать не 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5120" y="2205000"/>
            <a:ext cx="3809880" cy="374508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Аи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2017800"/>
            <a:ext cx="41659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ист к нам лет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е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ист помнит 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н гнездо на кры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ь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то в гости к н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овё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51640" y="2017800"/>
            <a:ext cx="288108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cc33"/>
                </a:solidFill>
                <a:latin typeface="Tahoma"/>
              </a:rPr>
              <a:t>        </a:t>
            </a:r>
            <a:r>
              <a:rPr b="1" i="1" lang="ru-RU" sz="4400" spc="-1" strike="noStrike">
                <a:solidFill>
                  <a:srgbClr val="33cc33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068640" cy="3456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47530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тепанов, В.А. Животный мир России: Учебник для малышей/В.А.Степанов. - М.: Фолиант Пресс, 2003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лешаков, А.А. От земли до неба/А.А.Плешаков//Атлас-определитель –  М.: Просвещение, 200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ульбацкий, О. Обитатели Земли / О.Кульбацкий // Непоседа. – 2008. - №19. – С.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электронный ресурс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ttp: // img-2005-06. photosight/ru/ [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ата скач. 10.10.2008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]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63878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87280" y="1773360"/>
            <a:ext cx="2876760" cy="4605120"/>
            <a:chOff x="1187280" y="1773360"/>
            <a:chExt cx="2876760" cy="4605120"/>
          </a:xfrm>
        </p:grpSpPr>
        <p:sp>
          <p:nvSpPr>
            <p:cNvPr id="106" name=""/>
            <p:cNvSpPr/>
            <p:nvPr/>
          </p:nvSpPr>
          <p:spPr>
            <a:xfrm>
              <a:off x="1187280" y="1773360"/>
              <a:ext cx="2873520" cy="7887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ahoma"/>
                </a:rPr>
                <a:t>Звер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92000" y="2637000"/>
              <a:ext cx="157824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Вол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>
              <a:hlinkClick r:id="rId1" action="ppaction://hlinksldjump"/>
            </p:cNvPr>
            <p:cNvSpPr/>
            <p:nvPr/>
          </p:nvSpPr>
          <p:spPr>
            <a:xfrm>
              <a:off x="1692000" y="3213000"/>
              <a:ext cx="157824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Медве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>
              <a:hlinkClick r:id="rId2" action="ppaction://hlinksldjump"/>
            </p:cNvPr>
            <p:cNvSpPr/>
            <p:nvPr/>
          </p:nvSpPr>
          <p:spPr>
            <a:xfrm>
              <a:off x="1692000" y="3789360"/>
              <a:ext cx="157824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Бел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>
              <a:hlinkClick r:id="rId3" action="ppaction://hlinksldjump"/>
            </p:cNvPr>
            <p:cNvSpPr/>
            <p:nvPr/>
          </p:nvSpPr>
          <p:spPr>
            <a:xfrm>
              <a:off x="1692000" y="4365720"/>
              <a:ext cx="157824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Зая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>
              <a:hlinkClick r:id="rId4" action="ppaction://hlinksldjump"/>
            </p:cNvPr>
            <p:cNvSpPr/>
            <p:nvPr/>
          </p:nvSpPr>
          <p:spPr>
            <a:xfrm>
              <a:off x="1692000" y="4941720"/>
              <a:ext cx="1578240" cy="35748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Рыс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>
              <a:hlinkClick r:id="rId5" action="ppaction://hlinksldjump"/>
            </p:cNvPr>
            <p:cNvSpPr/>
            <p:nvPr/>
          </p:nvSpPr>
          <p:spPr>
            <a:xfrm>
              <a:off x="1692000" y="5445000"/>
              <a:ext cx="1578240" cy="35748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 Ёж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>
              <a:hlinkClick r:id="rId6" action="ppaction://hlinksldjump"/>
            </p:cNvPr>
            <p:cNvSpPr/>
            <p:nvPr/>
          </p:nvSpPr>
          <p:spPr>
            <a:xfrm>
              <a:off x="1692000" y="6021360"/>
              <a:ext cx="157824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Барс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3840" y="6237360"/>
              <a:ext cx="642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3840" y="5662440"/>
              <a:ext cx="642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3840" y="5157720"/>
              <a:ext cx="642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3840" y="4581360"/>
              <a:ext cx="642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5120" y="3933720"/>
              <a:ext cx="644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45120" y="3429000"/>
              <a:ext cx="644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5120" y="2852640"/>
              <a:ext cx="644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64040" y="2205000"/>
              <a:ext cx="0" cy="402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859280" y="2060640"/>
            <a:ext cx="42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88000" y="1773360"/>
            <a:ext cx="2876400" cy="4605120"/>
            <a:chOff x="4788000" y="1773360"/>
            <a:chExt cx="2876400" cy="4605120"/>
          </a:xfrm>
        </p:grpSpPr>
        <p:sp>
          <p:nvSpPr>
            <p:cNvPr id="124" name=""/>
            <p:cNvSpPr/>
            <p:nvPr/>
          </p:nvSpPr>
          <p:spPr>
            <a:xfrm>
              <a:off x="4788000" y="1773360"/>
              <a:ext cx="2873160" cy="7887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ahoma"/>
                </a:rPr>
                <a:t>Птиц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92360" y="2637000"/>
              <a:ext cx="157860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Снегир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92360" y="3213000"/>
              <a:ext cx="157860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Син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92360" y="3789360"/>
              <a:ext cx="157860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Жаворо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92360" y="4365720"/>
              <a:ext cx="157860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Щег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92360" y="4941720"/>
              <a:ext cx="1578600" cy="35748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Дят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92360" y="5445000"/>
              <a:ext cx="1578600" cy="35748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Трясогуз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92360" y="6021360"/>
              <a:ext cx="1578600" cy="357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Tahoma"/>
                </a:rPr>
                <a:t>А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4200" y="6237360"/>
              <a:ext cx="64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4200" y="5662440"/>
              <a:ext cx="64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74200" y="5157720"/>
              <a:ext cx="64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4200" y="4581360"/>
              <a:ext cx="64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45480" y="3933720"/>
              <a:ext cx="64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45480" y="3429000"/>
              <a:ext cx="64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45480" y="2852640"/>
              <a:ext cx="64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4400" y="2205000"/>
              <a:ext cx="0" cy="402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>
            <a:hlinkClick r:id="rId7" action="ppaction://hlinksldjump"/>
          </p:cNvPr>
          <p:cNvSpPr/>
          <p:nvPr/>
        </p:nvSpPr>
        <p:spPr>
          <a:xfrm>
            <a:off x="324000" y="623736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Вол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2480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ень и ноч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 лесу рыщет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ень и ночь добычу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ищ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Ходит-броди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олк молчк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ши серые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орчк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21360" y="2565360"/>
            <a:ext cx="4022640" cy="31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788000" y="2421000"/>
          <a:ext cx="182520" cy="3095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0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Медвед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438624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 завалам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 овраг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Ходит он хозяйским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шаг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юбит мишка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ладкий мёд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а малину с веток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вё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4211640" cy="40323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i="1" lang="ru-RU" sz="4400" spc="-1" strike="noStrike">
                <a:solidFill>
                  <a:srgbClr val="33cc33"/>
                </a:solidFill>
                <a:latin typeface="Tahoma"/>
              </a:rPr>
              <a:t>Бел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алеко ещё зим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о не для потех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ащит белка в закро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Ягоды, орехи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нает маленький зверё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пасаться над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 срок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984400" cy="403236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30872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0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a50021"/>
                </a:solidFill>
                <a:latin typeface="Tahoma"/>
              </a:rPr>
              <a:t>Зая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31496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катился шум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сной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д кустом прит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ос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ши длинные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ижал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олго эхо провож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889440" cy="33116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0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ff33cc"/>
                </a:solidFill>
                <a:latin typeface="Tahoma"/>
              </a:rPr>
              <a:t>Рыс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9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Если е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 кис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 уша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ве кисточк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Эту киску берегис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тому что это –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ысь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60720" cy="345600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0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Ёж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2418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ерый ёж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есь в иголках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ловно он не зверь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 ёл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Хоть колю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молчун лесной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Ёжик добры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 не зл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00720" y="2162160"/>
            <a:ext cx="4454280" cy="38592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dur="indefinite" fill="hold">
                      <p:stCondLst>
                        <p:cond delay="0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36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36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37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Барсу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438624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станет за полноч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арсук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бойдёт свой д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окр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онкий ню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и острый глаз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ступи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 хоты ча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457520" cy="39610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7667640" y="6093000"/>
            <a:ext cx="1116000" cy="431640"/>
          </a:xfrm>
          <a:custGeom>
            <a:avLst/>
            <a:gdLst>
              <a:gd name="textAreaLeft" fmla="*/ 108000 w 1116000"/>
              <a:gd name="textAreaRight" fmla="*/ 1008360 w 111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0418" y="5400"/>
                </a:lnTo>
                <a:lnTo>
                  <a:pt x="5400" y="5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0418" y="16200"/>
                </a:lnTo>
                <a:lnTo>
                  <a:pt x="50418" y="5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0418" y="16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5818" h="21600">
                <a:moveTo>
                  <a:pt x="23884" y="10800"/>
                </a:moveTo>
                <a:lnTo>
                  <a:pt x="31934" y="6775"/>
                </a:lnTo>
                <a:lnTo>
                  <a:pt x="31934" y="1482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dur="indefinite" fill="hold">
                      <p:stCondLst>
                        <p:cond delay="0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1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41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43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8:51:32Z</dcterms:created>
  <dc:creator>Elena</dc:creator>
  <dc:description/>
  <dc:language>en-US</dc:language>
  <cp:lastModifiedBy>USER</cp:lastModifiedBy>
  <dcterms:modified xsi:type="dcterms:W3CDTF">2008-10-22T19:03:23Z</dcterms:modified>
  <cp:revision>23</cp:revision>
  <dc:subject/>
  <dc:title>Слайд 1</dc:title>
</cp:coreProperties>
</file>