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10A-70EB-4EC7-B2B1-D5010D5F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2B4B-20C6-4A37-A2AB-8D6FF13E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8BEF-BCA8-43AB-AD3A-C7DC3B1A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504-716E-4929-A832-A90ED135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6299-CED4-423D-B0E1-64ACAB13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8806-0C27-44C7-BB24-FC6CCE1C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AD2F-CA5B-4008-AABA-9C9CB29C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6250-D158-400C-B4CE-926C5A46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5C48-7D95-4E04-B5AD-D96793F7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5F9F-F2BE-4C80-A339-D476BE15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B5E7-0301-44B2-B2C0-4166F75F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18DF-BF15-4154-8E92-FDC32F97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07F4-ED64-45BC-9607-966B4011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C0BA-9653-428B-AE66-6E106EE8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C46C-B666-4B46-9C37-9AE42765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4A2B-FEF8-4191-AB82-32AFD9F8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0AB7-FADD-4611-AA53-1B9F56AA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DC4-E82E-4244-826F-6842CAD6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3AB4-A097-4F4E-9726-CE94DEB4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A430-CC89-41DF-AD07-18C48295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A34-ACB6-4EDC-AD43-C84FD865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CE9-16A7-4D81-B6F4-E5D9EB64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6AE1-C318-4FE0-9FAB-F04935E4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656-A176-4E6D-BC07-A119B7C2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BE5E-9C0D-4A4B-B156-E6C9BCDEEB3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EFEB-2C5A-469D-B6A5-36AD7611E2A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846920" cy="288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«Знай правила движения, как таблицу умножения»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лассный час подготовила и прове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итель начальных классов Кустова Н.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БОУСОШ №3 г.Усма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1-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pdd2013"/>
          <p:cNvPicPr/>
          <p:nvPr/>
        </p:nvPicPr>
        <p:blipFill>
          <a:blip r:embed="rId1"/>
          <a:stretch/>
        </p:blipFill>
        <p:spPr>
          <a:xfrm>
            <a:off x="0" y="0"/>
            <a:ext cx="5003640" cy="3789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14"/>
          <p:cNvPicPr/>
          <p:nvPr/>
        </p:nvPicPr>
        <p:blipFill>
          <a:blip r:embed="rId2"/>
          <a:stretch/>
        </p:blipFill>
        <p:spPr>
          <a:xfrm>
            <a:off x="4390920" y="3524400"/>
            <a:ext cx="4753080" cy="3333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pdd"/>
          <p:cNvPicPr/>
          <p:nvPr/>
        </p:nvPicPr>
        <p:blipFill>
          <a:blip r:embed="rId3"/>
          <a:stretch/>
        </p:blipFill>
        <p:spPr>
          <a:xfrm>
            <a:off x="0" y="3500280"/>
            <a:ext cx="5003640" cy="335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0_7bf96_466c3524_XL"/>
          <p:cNvPicPr/>
          <p:nvPr/>
        </p:nvPicPr>
        <p:blipFill>
          <a:blip r:embed="rId4"/>
          <a:stretch/>
        </p:blipFill>
        <p:spPr>
          <a:xfrm>
            <a:off x="4390920" y="0"/>
            <a:ext cx="4753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5661000"/>
            <a:ext cx="85406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ётр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101817696_large_PetraIPolDelarosh1838e1325509319153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1332302929_3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151831_w640_h640_133"/>
          <p:cNvPicPr/>
          <p:nvPr/>
        </p:nvPicPr>
        <p:blipFill>
          <a:blip r:embed="rId1"/>
          <a:stretch/>
        </p:blipFill>
        <p:spPr>
          <a:xfrm>
            <a:off x="0" y="0"/>
            <a:ext cx="4211640" cy="3357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get_img?ImageId=16397"/>
          <p:cNvPicPr/>
          <p:nvPr/>
        </p:nvPicPr>
        <p:blipFill>
          <a:blip r:embed="rId2"/>
          <a:stretch/>
        </p:blipFill>
        <p:spPr>
          <a:xfrm>
            <a:off x="3851280" y="0"/>
            <a:ext cx="2952720" cy="2997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159503_w640_h640_412"/>
          <p:cNvPicPr/>
          <p:nvPr/>
        </p:nvPicPr>
        <p:blipFill>
          <a:blip r:embed="rId3"/>
          <a:stretch/>
        </p:blipFill>
        <p:spPr>
          <a:xfrm>
            <a:off x="5219640" y="2997360"/>
            <a:ext cx="3924360" cy="3860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1363334860_5"/>
          <p:cNvPicPr/>
          <p:nvPr/>
        </p:nvPicPr>
        <p:blipFill>
          <a:blip r:embed="rId4"/>
          <a:stretch/>
        </p:blipFill>
        <p:spPr>
          <a:xfrm>
            <a:off x="0" y="2494080"/>
            <a:ext cx="4211640" cy="4363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img6448"/>
          <p:cNvPicPr/>
          <p:nvPr/>
        </p:nvPicPr>
        <p:blipFill>
          <a:blip r:embed="rId5"/>
          <a:stretch/>
        </p:blipFill>
        <p:spPr>
          <a:xfrm>
            <a:off x="6732720" y="0"/>
            <a:ext cx="2411280" cy="3068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151794_w640_h640_127"/>
          <p:cNvPicPr/>
          <p:nvPr/>
        </p:nvPicPr>
        <p:blipFill>
          <a:blip r:embed="rId6"/>
          <a:stretch/>
        </p:blipFill>
        <p:spPr>
          <a:xfrm>
            <a:off x="3348000" y="2852640"/>
            <a:ext cx="37450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0_8642f_593e9b29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13"/>
          <p:cNvPicPr/>
          <p:nvPr/>
        </p:nvPicPr>
        <p:blipFill>
          <a:blip r:embed="rId1"/>
          <a:stretch/>
        </p:blipFill>
        <p:spPr>
          <a:xfrm>
            <a:off x="0" y="0"/>
            <a:ext cx="477216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PDD_21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%D0%BF%D0%B5%D1%88%D0%B5%D1%85%D0%BE%D0%B4%D0%BD%D1%8B%D0%B9%20%D0%BF%D0%B5%D1%80%D0%B5%D1%85%D0%BE%D0%B4%20-%20ww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Детские - Если с другом вышел в путь ( минус ).mp3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35295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5T14:48:14Z</dcterms:created>
  <dc:creator>пк</dc:creator>
  <dc:description/>
  <dc:language>en-US</dc:language>
  <cp:lastModifiedBy>user</cp:lastModifiedBy>
  <dcterms:modified xsi:type="dcterms:W3CDTF">2013-10-03T04:28:41Z</dcterms:modified>
  <cp:revision>5</cp:revision>
  <dc:subject/>
  <dc:title>«Знай правила движения, как таблицу умножения»</dc:title>
</cp:coreProperties>
</file>