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F5F-7ACA-465D-AC50-EBD9F8E7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3C6-5982-479E-AA93-66427B02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49C-F836-4404-811D-FA235BF1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F42-484C-4DA9-B7F1-829D5436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6CC-CCC7-445C-BB43-70B0851E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B50-C612-47DD-B5E5-2251D4DF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695-7881-4348-8F6B-8683A95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D23-01C0-442A-8161-34A4CDDC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D92-3CC4-4FAC-AD38-B092A416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A10-4B6E-412C-8F6E-8029E8B1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899-3EE4-4955-A6FC-5B8A32A3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F5D-610A-4F15-A9E8-17F2887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984-1918-4BE6-825F-1B873959E0C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plash3"/>
          <p:cNvPicPr/>
          <p:nvPr/>
        </p:nvPicPr>
        <p:blipFill>
          <a:blip r:embed="rId1"/>
          <a:stretch/>
        </p:blipFill>
        <p:spPr>
          <a:xfrm>
            <a:off x="611280" y="3716280"/>
            <a:ext cx="3168720" cy="2536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4427640" y="3933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втор: Попова Кристи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оспитанница 10 класса 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уратор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дведкова Елена Александров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еподава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841680" y="1989000"/>
            <a:ext cx="786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Georgia"/>
              </a:rPr>
              <a:t>«Софизмы»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53880" y="260280"/>
            <a:ext cx="862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Федеральное государствен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осковский кадетский корпус «Пансион воспитанниц МО РФ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2040" y="1197000"/>
            <a:ext cx="89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езентация  по математике  н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тем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00520" y="2880"/>
            <a:ext cx="91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Арифметическ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3840" y="1203480"/>
            <a:ext cx="88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зьмем два произвольных положительных числа А и В, такие, чт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3348000" y="1557360"/>
                <a:ext cx="1239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Box 7"/>
          <p:cNvSpPr/>
          <p:nvPr/>
        </p:nvSpPr>
        <p:spPr>
          <a:xfrm>
            <a:off x="-186120" y="1989000"/>
            <a:ext cx="9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Умножив это неравенство на В, получим новое нераве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3203640" y="2276640"/>
                <a:ext cx="17049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TextBox 9"/>
          <p:cNvSpPr/>
          <p:nvPr/>
        </p:nvSpPr>
        <p:spPr>
          <a:xfrm>
            <a:off x="58680" y="2781360"/>
            <a:ext cx="9117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 отняв от обеих его частей           , получим неравенств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4716360" y="2492280"/>
                <a:ext cx="620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2771640" y="2997360"/>
                <a:ext cx="3564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1763640" y="3573360"/>
                <a:ext cx="60818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−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−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Box 13"/>
          <p:cNvSpPr/>
          <p:nvPr/>
        </p:nvSpPr>
        <p:spPr>
          <a:xfrm>
            <a:off x="-183240" y="4076640"/>
            <a:ext cx="97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осле деления обеих частей неравенства (1) на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В-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олуч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2987640" y="4508640"/>
                <a:ext cx="3138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Box 15"/>
          <p:cNvSpPr/>
          <p:nvPr/>
        </p:nvSpPr>
        <p:spPr>
          <a:xfrm>
            <a:off x="0" y="5013360"/>
            <a:ext cx="91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 прибавив к этому неравенству исходное неравенство А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, имеем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1130400" y="5315040"/>
                <a:ext cx="2555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Box 17"/>
          <p:cNvSpPr/>
          <p:nvPr/>
        </p:nvSpPr>
        <p:spPr>
          <a:xfrm>
            <a:off x="3851280" y="5445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уда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2"/>
              <p:cNvSpPr txBox="1"/>
              <p:nvPr/>
            </p:nvSpPr>
            <p:spPr>
              <a:xfrm>
                <a:off x="5076720" y="5373720"/>
                <a:ext cx="1549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Box 19"/>
          <p:cNvSpPr/>
          <p:nvPr/>
        </p:nvSpPr>
        <p:spPr>
          <a:xfrm>
            <a:off x="729000" y="5780160"/>
            <a:ext cx="7401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Это означает, к примеру, что из неравен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6&gt;5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следует, что </a:t>
            </a: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6&gt;10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70800" y="766080"/>
            <a:ext cx="84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«Если А больше В, то А всегда больше, чем 2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Овальная выноска 21"/>
          <p:cNvSpPr/>
          <p:nvPr/>
        </p:nvSpPr>
        <p:spPr>
          <a:xfrm rot="21282000">
            <a:off x="4536720" y="1285920"/>
            <a:ext cx="4664160" cy="2592360"/>
          </a:xfrm>
          <a:prstGeom prst="wedgeEllipseCallout">
            <a:avLst>
              <a:gd name="adj1" fmla="val -58115"/>
              <a:gd name="adj2" fmla="val 38921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делили обе части неравенства (1)на выражение В-А, меньше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2205000"/>
            <a:ext cx="6840360" cy="2147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шим систему двух уравнений: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2"/>
              <p:cNvSpPr txBox="1"/>
              <p:nvPr/>
            </p:nvSpPr>
            <p:spPr>
              <a:xfrm>
                <a:off x="2887560" y="2781360"/>
                <a:ext cx="2441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Rectangle 17"/>
          <p:cNvSpPr/>
          <p:nvPr/>
        </p:nvSpPr>
        <p:spPr>
          <a:xfrm>
            <a:off x="395280" y="-3312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Алгебраическ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468360" y="540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«Два неодинаковых натуральных числ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равны между собой»</a:t>
            </a:r>
            <a:r>
              <a:rPr b="0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50920" y="4149720"/>
            <a:ext cx="68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делаем это подстановкой у из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равнения в (1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лучаем х+8-х=6, откуд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8=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3"/>
              <p:cNvSpPr txBox="1"/>
              <p:nvPr/>
            </p:nvSpPr>
            <p:spPr>
              <a:xfrm>
                <a:off x="5580000" y="3933720"/>
                <a:ext cx="1857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Овальная выноска 15"/>
          <p:cNvSpPr/>
          <p:nvPr/>
        </p:nvSpPr>
        <p:spPr>
          <a:xfrm>
            <a:off x="4427640" y="2637000"/>
            <a:ext cx="4390920" cy="2736720"/>
          </a:xfrm>
          <a:prstGeom prst="wedgeEllipseCallout">
            <a:avLst>
              <a:gd name="adj1" fmla="val -60328"/>
              <a:gd name="adj2" fmla="val 27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истема не име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5614920" y="3936960"/>
                <a:ext cx="20844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-360" y="1773000"/>
            <a:ext cx="8642520" cy="143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ьмем в качестве исходного соотношения следующее очевидное равенств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4:4= 5:5   (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050200" y="90792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Georgia"/>
              </a:rPr>
              <a:t>«Дважды два равно пят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34600" y="189000"/>
            <a:ext cx="79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Алгебраическ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79280" y="2997360"/>
            <a:ext cx="8640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 вынесения за скобки общего множителя из каждой части равенства будем име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4∙(1:1)=5∙(1:1)    (2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(2∙2)(1:1)=5(1:1)   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4000" y="5157720"/>
            <a:ext cx="8640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конец, зная, что 1:1=1, мы из соотношения устанавливаем:    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2∙2=5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Овальная выноска 9"/>
          <p:cNvSpPr/>
          <p:nvPr/>
        </p:nvSpPr>
        <p:spPr>
          <a:xfrm>
            <a:off x="4859280" y="2349360"/>
            <a:ext cx="4284720" cy="1584360"/>
          </a:xfrm>
          <a:prstGeom prst="wedgeEllipseCallout">
            <a:avLst>
              <a:gd name="adj1" fmla="val -60328"/>
              <a:gd name="adj2" fmla="val 401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льзя выносить общий множитель из част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9"/>
          <p:cNvSpPr/>
          <p:nvPr/>
        </p:nvSpPr>
        <p:spPr>
          <a:xfrm>
            <a:off x="0" y="16617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стым вычитанием легко убедиться в справедливости равен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2998080" y="2851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605880" y="0"/>
            <a:ext cx="79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Алгебраическ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2356200" y="765000"/>
            <a:ext cx="457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Georgia"/>
              </a:rPr>
              <a:t>«Единица равна двум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900000" y="28396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обавим к обеим частям равенства числ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7667640" y="2492280"/>
                <a:ext cx="3650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2700360" y="3213000"/>
                <a:ext cx="3011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"/>
              <p:cNvSpPr txBox="1"/>
              <p:nvPr/>
            </p:nvSpPr>
            <p:spPr>
              <a:xfrm>
                <a:off x="2771640" y="4797360"/>
                <a:ext cx="2678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Rectangle 29"/>
          <p:cNvSpPr/>
          <p:nvPr/>
        </p:nvSpPr>
        <p:spPr>
          <a:xfrm>
            <a:off x="468360" y="394812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тором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авая и левая части представляют собой полные квадрат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0" y="54194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Извлекая квадратный корень из обеих частей, получи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1689120" y="5916600"/>
                <a:ext cx="2036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32"/>
          <p:cNvSpPr/>
          <p:nvPr/>
        </p:nvSpPr>
        <p:spPr>
          <a:xfrm>
            <a:off x="4051800" y="6237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тку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5508720" y="6237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Овальная выноска 34"/>
          <p:cNvSpPr/>
          <p:nvPr/>
        </p:nvSpPr>
        <p:spPr>
          <a:xfrm>
            <a:off x="4067280" y="2709720"/>
            <a:ext cx="4751280" cy="2951280"/>
          </a:xfrm>
          <a:prstGeom prst="wedgeEllipseCallout">
            <a:avLst>
              <a:gd name="adj1" fmla="val -60328"/>
              <a:gd name="adj2" fmla="val 27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шибка в извлечении квадратного корня из квадрата вы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5076720" y="4581360"/>
                <a:ext cx="2581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4"/>
              <p:cNvSpPr txBox="1"/>
              <p:nvPr/>
            </p:nvSpPr>
            <p:spPr>
              <a:xfrm>
                <a:off x="3129120" y="2421000"/>
                <a:ext cx="1761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6"/>
          <p:cNvSpPr/>
          <p:nvPr/>
        </p:nvSpPr>
        <p:spPr>
          <a:xfrm>
            <a:off x="2998080" y="2851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605880" y="0"/>
            <a:ext cx="79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Алгебраическ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1517400" y="7650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«Один рубль не равен ста копейкам»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50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41840" y="2400120"/>
            <a:ext cx="852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р=100ко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0р=1000ко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Умножим обе части этих верных равенств, получи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0р=100000коп, откуда следуе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р=10000коп., т.е. 1р. не равен 10о копейк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Овальная выноска 34"/>
          <p:cNvSpPr/>
          <p:nvPr/>
        </p:nvSpPr>
        <p:spPr>
          <a:xfrm>
            <a:off x="3384720" y="585720"/>
            <a:ext cx="5759280" cy="4535640"/>
          </a:xfrm>
          <a:prstGeom prst="wedgeEllipseCallout">
            <a:avLst>
              <a:gd name="adj1" fmla="val -60328"/>
              <a:gd name="adj2" fmla="val 27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шибка заключается в том, что нарушено правило действий с именованными числами. При умножении левой и правой частей равенств получаются квадратные единицы измер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0" y="1373040"/>
            <a:ext cx="65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 дм - длина спички и b дм - длина столб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ность между b и  a  обозначим через c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465120" y="335160"/>
            <a:ext cx="810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Геометрические софизм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656400" y="1841400"/>
            <a:ext cx="2152800" cy="479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1835280" y="3068640"/>
                <a:ext cx="3133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Прямоугольник 15"/>
          <p:cNvSpPr/>
          <p:nvPr/>
        </p:nvSpPr>
        <p:spPr>
          <a:xfrm>
            <a:off x="0" y="350028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емножаем два эти равенства почленно, получи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2124000" y="4005360"/>
                <a:ext cx="2586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Прямоугольник 17"/>
          <p:cNvSpPr/>
          <p:nvPr/>
        </p:nvSpPr>
        <p:spPr>
          <a:xfrm>
            <a:off x="0" y="4437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чтем из обеих частей bc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619280" y="4869000"/>
                <a:ext cx="3924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06200" y="5373720"/>
                <a:ext cx="3986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211640" y="5373720"/>
                <a:ext cx="1125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9"/>
              <p:cNvSpPr txBox="1"/>
              <p:nvPr/>
            </p:nvSpPr>
            <p:spPr>
              <a:xfrm>
                <a:off x="5364000" y="5373720"/>
                <a:ext cx="1430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0" y="5805360"/>
                <a:ext cx="1338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Box 24"/>
          <p:cNvSpPr/>
          <p:nvPr/>
        </p:nvSpPr>
        <p:spPr>
          <a:xfrm>
            <a:off x="1460520" y="5805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1"/>
              <p:cNvSpPr txBox="1"/>
              <p:nvPr/>
            </p:nvSpPr>
            <p:spPr>
              <a:xfrm>
                <a:off x="2411280" y="5805360"/>
                <a:ext cx="1033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TextBox 26"/>
          <p:cNvSpPr/>
          <p:nvPr/>
        </p:nvSpPr>
        <p:spPr>
          <a:xfrm>
            <a:off x="118800" y="6165720"/>
            <a:ext cx="89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То есть спичка вдвое длиннее телеграфного столб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755640" y="1055520"/>
            <a:ext cx="785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«Спичка вдвое длиннее телеграфного столб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Овальная выноска 28"/>
          <p:cNvSpPr/>
          <p:nvPr/>
        </p:nvSpPr>
        <p:spPr>
          <a:xfrm rot="21282000">
            <a:off x="3011400" y="3389400"/>
            <a:ext cx="4444920" cy="2092320"/>
          </a:xfrm>
          <a:prstGeom prst="wedgeEllipseCallout">
            <a:avLst>
              <a:gd name="adj1" fmla="val -58115"/>
              <a:gd name="adj2" fmla="val 38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делили обе части равенства на выражени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b-a-c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, равное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720" y="38952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16" descr="10_2"/>
          <p:cNvPicPr/>
          <p:nvPr/>
        </p:nvPicPr>
        <p:blipFill>
          <a:blip r:embed="rId1"/>
          <a:stretch/>
        </p:blipFill>
        <p:spPr>
          <a:xfrm>
            <a:off x="0" y="1773360"/>
            <a:ext cx="3672000" cy="2000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7"/>
          <p:cNvSpPr/>
          <p:nvPr/>
        </p:nvSpPr>
        <p:spPr>
          <a:xfrm>
            <a:off x="1332000" y="8348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Georgia"/>
              </a:rPr>
              <a:t>«Через точку на прямую можно опустить два перпендикуляра»</a:t>
            </a:r>
            <a:r>
              <a:rPr b="0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393480" y="189000"/>
            <a:ext cx="801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Геометрическ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3203640" y="163512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им треугольник АВ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сторонах АВ и ВС этого треуголь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на диаметрах, построи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уокруж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0" y="360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усть эти полуокружности пересекаются со стороной АС в точках Е 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Соединим точки  Е 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рямыми с точкой 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458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гол АЕВ прямой, как вписанный, опирающийся на диаметр, угол В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также прям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0" y="5377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 есть ВЕ  перпендикулярна АС и В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ерпендикулярна АС. Через точку В проходят два перпендикуляра к прямой 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Овальная выноска 13"/>
          <p:cNvSpPr/>
          <p:nvPr/>
        </p:nvSpPr>
        <p:spPr>
          <a:xfrm>
            <a:off x="2627280" y="0"/>
            <a:ext cx="6265800" cy="3745080"/>
          </a:xfrm>
          <a:prstGeom prst="wedgeEllipseCallout">
            <a:avLst>
              <a:gd name="adj1" fmla="val -60328"/>
              <a:gd name="adj2" fmla="val 27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ссуждения о том, что из точки на прямую можно опустить два перпендикуляра опирались на ошибочный чертеж. В действительности, полуокружности пересекаются со стороной АС в одной точке, т.е. ВЕ совпадает с ВD. Значит из одной точки на прямую нельзя опустить два перпендикуля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8"/>
          <p:cNvSpPr/>
          <p:nvPr/>
        </p:nvSpPr>
        <p:spPr>
          <a:xfrm>
            <a:off x="2059920" y="404640"/>
            <a:ext cx="548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Проч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886120" cy="1695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276720" y="14292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олупустое и полуполно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Полупустое есть то же, что и полуполное. Если равны половины, значит, равны и целые. Следовательно, пустое есть то же, что и полное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3689640"/>
            <a:ext cx="50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знаешь то, что знаеш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Знаешь ли ты, о чём я хочу тебя спросить?» — «Нет». — «Знаешь ли ты, что добродетель есть добро?» — «Знаю». — «Об этом я и хотел тебя спросить. А ты, выходит, не знаешь то, что знаешь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5148360" y="412956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«Рогаты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Что ты не терял, то имеешь. Рога ты не терял. Значит, у тебя рога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79280" y="260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484360" y="1676520"/>
            <a:ext cx="60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«Может ли всемогущий маг создать камень, который не сможет поднять?»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не может - значит, он не всемогущий. Если может - значит, всё равно не всемогущий, т.к. он не может поднять этот каме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484360" y="4373280"/>
            <a:ext cx="60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офизм, сформулированный в Древней Гре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идящий встал; кто встал, тот стоит; следовательно, сидящий стоит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i-main-pic" descr="Картинка 25 из 1024"/>
          <p:cNvPicPr/>
          <p:nvPr/>
        </p:nvPicPr>
        <p:blipFill>
          <a:blip r:embed="rId1"/>
          <a:stretch/>
        </p:blipFill>
        <p:spPr>
          <a:xfrm>
            <a:off x="284040" y="765000"/>
            <a:ext cx="1795680" cy="5207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5"/>
          <p:cNvSpPr/>
          <p:nvPr/>
        </p:nvSpPr>
        <p:spPr>
          <a:xfrm>
            <a:off x="2782080" y="620640"/>
            <a:ext cx="547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Прочие софиз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4"/>
          <p:cNvSpPr/>
          <p:nvPr/>
        </p:nvSpPr>
        <p:spPr>
          <a:xfrm>
            <a:off x="250920" y="189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Решение задача про путник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Схема 53" descr=""/>
          <p:cNvPicPr/>
          <p:nvPr/>
        </p:nvPicPr>
        <p:blipFill>
          <a:blip r:embed="rId1"/>
          <a:stretch/>
        </p:blipFill>
        <p:spPr>
          <a:xfrm>
            <a:off x="895320" y="1609560"/>
            <a:ext cx="7645320" cy="500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7" descr="detia-311"/>
          <p:cNvPicPr/>
          <p:nvPr/>
        </p:nvPicPr>
        <p:blipFill>
          <a:blip r:embed="rId2"/>
          <a:stretch/>
        </p:blipFill>
        <p:spPr>
          <a:xfrm>
            <a:off x="6300720" y="314172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7" descr="detia-311"/>
          <p:cNvPicPr/>
          <p:nvPr/>
        </p:nvPicPr>
        <p:blipFill>
          <a:blip r:embed="rId3"/>
          <a:stretch/>
        </p:blipFill>
        <p:spPr>
          <a:xfrm>
            <a:off x="493236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7" descr="detia-311"/>
          <p:cNvPicPr/>
          <p:nvPr/>
        </p:nvPicPr>
        <p:blipFill>
          <a:blip r:embed="rId4"/>
          <a:stretch/>
        </p:blipFill>
        <p:spPr>
          <a:xfrm>
            <a:off x="2484360" y="4508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7" descr="detia-311"/>
          <p:cNvPicPr/>
          <p:nvPr/>
        </p:nvPicPr>
        <p:blipFill>
          <a:blip r:embed="rId5"/>
          <a:stretch/>
        </p:blipFill>
        <p:spPr>
          <a:xfrm>
            <a:off x="2843280" y="1700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7" descr="detia-311"/>
          <p:cNvPicPr/>
          <p:nvPr/>
        </p:nvPicPr>
        <p:blipFill>
          <a:blip r:embed="rId6"/>
          <a:stretch/>
        </p:blipFill>
        <p:spPr>
          <a:xfrm>
            <a:off x="2124000" y="299736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7" descr="detia-311"/>
          <p:cNvPicPr/>
          <p:nvPr/>
        </p:nvPicPr>
        <p:blipFill>
          <a:blip r:embed="rId7"/>
          <a:stretch/>
        </p:blipFill>
        <p:spPr>
          <a:xfrm>
            <a:off x="356400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7" descr="detia-311"/>
          <p:cNvPicPr/>
          <p:nvPr/>
        </p:nvPicPr>
        <p:blipFill>
          <a:blip r:embed="rId8"/>
          <a:stretch/>
        </p:blipFill>
        <p:spPr>
          <a:xfrm>
            <a:off x="5940360" y="4653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7" descr="detia-311"/>
          <p:cNvPicPr/>
          <p:nvPr/>
        </p:nvPicPr>
        <p:blipFill>
          <a:blip r:embed="rId9"/>
          <a:stretch/>
        </p:blipFill>
        <p:spPr>
          <a:xfrm>
            <a:off x="5580000" y="1700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7" descr="detia-311"/>
          <p:cNvPicPr/>
          <p:nvPr/>
        </p:nvPicPr>
        <p:blipFill>
          <a:blip r:embed="rId10"/>
          <a:stretch/>
        </p:blipFill>
        <p:spPr>
          <a:xfrm>
            <a:off x="4284720" y="119700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0"/>
          <p:cNvSpPr/>
          <p:nvPr/>
        </p:nvSpPr>
        <p:spPr>
          <a:xfrm>
            <a:off x="4427640" y="2637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20"/>
          <p:cNvSpPr/>
          <p:nvPr/>
        </p:nvSpPr>
        <p:spPr>
          <a:xfrm>
            <a:off x="5219640" y="2781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5867280" y="328464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5867280" y="429264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5651640" y="5157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4500720" y="566100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3348000" y="4941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2987640" y="3860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3492360" y="29242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53" descr=""/>
          <p:cNvPicPr/>
          <p:nvPr/>
        </p:nvPicPr>
        <p:blipFill>
          <a:blip r:embed="rId1"/>
          <a:stretch/>
        </p:blipFill>
        <p:spPr>
          <a:xfrm>
            <a:off x="895320" y="1609560"/>
            <a:ext cx="7645320" cy="5004000"/>
          </a:xfrm>
          <a:prstGeom prst="rect">
            <a:avLst/>
          </a:prstGeom>
          <a:ln w="0">
            <a:noFill/>
          </a:ln>
        </p:spPr>
      </p:pic>
      <p:sp>
        <p:nvSpPr>
          <p:cNvPr id="47" name="Овал 64"/>
          <p:cNvSpPr/>
          <p:nvPr/>
        </p:nvSpPr>
        <p:spPr>
          <a:xfrm>
            <a:off x="3924360" y="3573360"/>
            <a:ext cx="1727280" cy="1584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54"/>
          <p:cNvSpPr/>
          <p:nvPr/>
        </p:nvSpPr>
        <p:spPr>
          <a:xfrm>
            <a:off x="25092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Задача про путник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37" descr="detia-311"/>
          <p:cNvPicPr/>
          <p:nvPr/>
        </p:nvPicPr>
        <p:blipFill>
          <a:blip r:embed="rId2"/>
          <a:stretch/>
        </p:blipFill>
        <p:spPr>
          <a:xfrm>
            <a:off x="9540720" y="1628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detia-311"/>
          <p:cNvPicPr/>
          <p:nvPr/>
        </p:nvPicPr>
        <p:blipFill>
          <a:blip r:embed="rId3"/>
          <a:stretch/>
        </p:blipFill>
        <p:spPr>
          <a:xfrm>
            <a:off x="9685440" y="3429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detia-311"/>
          <p:cNvPicPr/>
          <p:nvPr/>
        </p:nvPicPr>
        <p:blipFill>
          <a:blip r:embed="rId4"/>
          <a:stretch/>
        </p:blipFill>
        <p:spPr>
          <a:xfrm>
            <a:off x="9685440" y="5084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7" descr="detia-311"/>
          <p:cNvPicPr/>
          <p:nvPr/>
        </p:nvPicPr>
        <p:blipFill>
          <a:blip r:embed="rId5"/>
          <a:stretch/>
        </p:blipFill>
        <p:spPr>
          <a:xfrm>
            <a:off x="9612360" y="6524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detia-311"/>
          <p:cNvPicPr/>
          <p:nvPr/>
        </p:nvPicPr>
        <p:blipFill>
          <a:blip r:embed="rId6"/>
          <a:stretch/>
        </p:blipFill>
        <p:spPr>
          <a:xfrm>
            <a:off x="10909440" y="6597720"/>
            <a:ext cx="952200" cy="144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7" descr="detia-311"/>
          <p:cNvPicPr/>
          <p:nvPr/>
        </p:nvPicPr>
        <p:blipFill>
          <a:blip r:embed="rId7"/>
          <a:stretch/>
        </p:blipFill>
        <p:spPr>
          <a:xfrm>
            <a:off x="10836360" y="515772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detia-311"/>
          <p:cNvPicPr/>
          <p:nvPr/>
        </p:nvPicPr>
        <p:blipFill>
          <a:blip r:embed="rId8"/>
          <a:stretch/>
        </p:blipFill>
        <p:spPr>
          <a:xfrm>
            <a:off x="10764720" y="3429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detia-311"/>
          <p:cNvPicPr/>
          <p:nvPr/>
        </p:nvPicPr>
        <p:blipFill>
          <a:blip r:embed="rId9"/>
          <a:stretch/>
        </p:blipFill>
        <p:spPr>
          <a:xfrm>
            <a:off x="10620360" y="1700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detia-311"/>
          <p:cNvPicPr/>
          <p:nvPr/>
        </p:nvPicPr>
        <p:blipFill>
          <a:blip r:embed="rId10"/>
          <a:stretch/>
        </p:blipFill>
        <p:spPr>
          <a:xfrm>
            <a:off x="10549080" y="3636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detia-311"/>
          <p:cNvPicPr/>
          <p:nvPr/>
        </p:nvPicPr>
        <p:blipFill>
          <a:blip r:embed="rId11"/>
          <a:stretch/>
        </p:blipFill>
        <p:spPr>
          <a:xfrm>
            <a:off x="9540720" y="0"/>
            <a:ext cx="95256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9 0.07939 L -0.55608 0.18449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8 0.06226 L -0.57969 -0.0426 E">
                                      <p:cBhvr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06 -0.02176 L -0.45381 -0.24213 E">
                                      <p:cBhvr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28 -0.06366 L -0.37118 -0.31551 E">
                                      <p:cBhvr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44444E-006 L -0.39376 -0.24792 E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29 -0.92453 L -0.65851 -0.14745 E">
                                      <p:cBhvr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07 -0.39954 L -0.81597 0.05185 E">
                                      <p:cBhvr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27 0.2199 L -0.93403 0.15694 E">
                                      <p:cBhvr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72 0.64653 L -0.92621 0.19908 E">
                                      <p:cBhvr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7 L 8.33333E-007 -0.38866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608 0.18449 L -0.71354 0.27916 E">
                                      <p:cBhvr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19280" y="2060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офизм – (от греческого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sophisma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, «мастерство, хитрая выдумка»)-умозаключение или рассуждение, обосновывающее какую-нибудь заведомую нелепость, противоречащее общепринятым представлениям. Софизм основан на преднамеренном нарушении правил лог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96160" y="981000"/>
            <a:ext cx="63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Что такое софизм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37920" y="260280"/>
            <a:ext cx="72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равильно понятая ошибка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путь к открытию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И.П.Павл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"/>
          <p:cNvSpPr/>
          <p:nvPr/>
        </p:nvSpPr>
        <p:spPr>
          <a:xfrm>
            <a:off x="46836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История возникновени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софизм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11" descr="socrates_bg"/>
          <p:cNvPicPr/>
          <p:nvPr/>
        </p:nvPicPr>
        <p:blipFill>
          <a:blip r:embed="rId1"/>
          <a:stretch/>
        </p:blipFill>
        <p:spPr>
          <a:xfrm>
            <a:off x="395280" y="1700280"/>
            <a:ext cx="340200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2"/>
          <p:cNvSpPr/>
          <p:nvPr/>
        </p:nvSpPr>
        <p:spPr>
          <a:xfrm>
            <a:off x="540720" y="602028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ократ (469–399 до н.э.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Рисунок 7" descr="2.jpg"/>
          <p:cNvPicPr/>
          <p:nvPr/>
        </p:nvPicPr>
        <p:blipFill>
          <a:blip r:embed="rId2"/>
          <a:stretch/>
        </p:blipFill>
        <p:spPr>
          <a:xfrm>
            <a:off x="7020000" y="1628640"/>
            <a:ext cx="1571400" cy="2071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6551640" y="3716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д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к. 470-после 400 гг. до н. 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Рисунок 5" descr="i.jpg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4043160" y="378936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Горг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к. 485-ок. 380 гг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 н. 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Содержимое 3" descr="7030.jpg"/>
          <p:cNvPicPr/>
          <p:nvPr/>
        </p:nvPicPr>
        <p:blipFill>
          <a:blip r:embed="rId4"/>
          <a:stretch/>
        </p:blipFill>
        <p:spPr>
          <a:xfrm>
            <a:off x="4427640" y="4724280"/>
            <a:ext cx="170496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6156360" y="57326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к. 490-ок. 420 г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 н. э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673200" y="476280"/>
            <a:ext cx="81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Классификация софизм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19944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фметические софизмы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– это числовые выражения, имеющие неточность или ошибку, не заметную с первого взгля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33627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Алгебраические софизмы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– намеренно скрытые ошибки в уравнениях и числовых выражени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440820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3. Геометрические софизмы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– это умозаключения или рассуждения, обосновывающие какую-нибудь заведомую нелепость, абсурд, связанное с геометрическими фигурами и действиями над ни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8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Классификация софизм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по содержанию и ошибк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Схема 5" descr=""/>
          <p:cNvPicPr/>
          <p:nvPr/>
        </p:nvPicPr>
        <p:blipFill>
          <a:blip r:embed="rId1"/>
          <a:stretch/>
        </p:blipFill>
        <p:spPr>
          <a:xfrm>
            <a:off x="103320" y="1335240"/>
            <a:ext cx="9113760" cy="519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8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Классификация софизм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по содержанию и ошибк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Схема 5" descr=""/>
          <p:cNvPicPr/>
          <p:nvPr/>
        </p:nvPicPr>
        <p:blipFill>
          <a:blip r:embed="rId1"/>
          <a:stretch/>
        </p:blipFill>
        <p:spPr>
          <a:xfrm>
            <a:off x="244440" y="1305000"/>
            <a:ext cx="13252320" cy="530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8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Классификация софизм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по содержанию и ошибк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Схема 5" descr=""/>
          <p:cNvPicPr/>
          <p:nvPr/>
        </p:nvPicPr>
        <p:blipFill>
          <a:blip r:embed="rId1"/>
          <a:stretch/>
        </p:blipFill>
        <p:spPr>
          <a:xfrm>
            <a:off x="244440" y="1103400"/>
            <a:ext cx="8728200" cy="550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8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Классификация софизм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по содержанию и ошибк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Схема 5" descr=""/>
          <p:cNvPicPr/>
          <p:nvPr/>
        </p:nvPicPr>
        <p:blipFill>
          <a:blip r:embed="rId1"/>
          <a:stretch/>
        </p:blipFill>
        <p:spPr>
          <a:xfrm>
            <a:off x="244440" y="1103400"/>
            <a:ext cx="8728200" cy="550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0:09:19Z</dcterms:created>
  <dc:creator>S</dc:creator>
  <dc:description/>
  <dc:language>en-US</dc:language>
  <cp:lastModifiedBy>user</cp:lastModifiedBy>
  <dcterms:modified xsi:type="dcterms:W3CDTF">2013-01-05T18:23:39Z</dcterms:modified>
  <cp:revision>116</cp:revision>
  <dc:subject/>
  <dc:title>Софизмы</dc:title>
</cp:coreProperties>
</file>