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7254-FEDB-43D6-ADEB-FD9CF4425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C79B-44B5-447B-9054-6112F2886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2D53-5BD2-4AAD-9BC7-4C1601522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A6BD-ECBC-404C-B713-8B515B777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780F-6277-4D90-97BA-FB248787D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11BA-8067-4B08-946D-8FDBE8862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2DD9-7826-4383-98A5-644033ABD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2C8C-9816-4B88-951C-E8C3545B4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723B-AE4E-4020-90CC-4EA675A18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3A10-F02E-4DE9-A5E5-CDFA1AC9C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E0A5-3B96-4CBC-9867-0E4E8C86B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C8C6-AC0A-4873-9494-701587610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F3113-0E8F-4B19-8486-FB30859A94C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3"/>
          <p:cNvSpPr/>
          <p:nvPr/>
        </p:nvSpPr>
        <p:spPr>
          <a:xfrm>
            <a:off x="428760" y="428760"/>
            <a:ext cx="828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404040"/>
                </a:solidFill>
                <a:latin typeface="Calibri"/>
              </a:rPr>
              <a:t>"Пластилиновый аквариум"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2143080" y="1643040"/>
            <a:ext cx="4762440" cy="49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2214720" y="2643120"/>
            <a:ext cx="4714560" cy="3286080"/>
          </a:xfrm>
          <a:prstGeom prst="rect">
            <a:avLst/>
          </a:prstGeom>
          <a:ln w="0">
            <a:noFill/>
          </a:ln>
        </p:spPr>
      </p:pic>
      <p:sp>
        <p:nvSpPr>
          <p:cNvPr id="44" name="Прямоугольник 2"/>
          <p:cNvSpPr/>
          <p:nvPr/>
        </p:nvSpPr>
        <p:spPr>
          <a:xfrm>
            <a:off x="642960" y="357120"/>
            <a:ext cx="8001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так, мы решили своими руками создать пластилиновый аквариум. Для этого нам понадобятся: стеклянная банка с крышкой, разноцветный пластилин, пластмассовая доска для лепки  и специальные стеки для работы с пластилин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1928880" y="3071880"/>
            <a:ext cx="5214960" cy="3571920"/>
          </a:xfrm>
          <a:prstGeom prst="rect">
            <a:avLst/>
          </a:prstGeom>
          <a:ln w="0">
            <a:noFill/>
          </a:ln>
        </p:spPr>
      </p:pic>
      <p:sp>
        <p:nvSpPr>
          <p:cNvPr id="46" name="Прямоугольник 2"/>
          <p:cNvSpPr/>
          <p:nvPr/>
        </p:nvSpPr>
        <p:spPr>
          <a:xfrm>
            <a:off x="357120" y="214200"/>
            <a:ext cx="85726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спользуя пластилин разных цветов, начинаем лепить аквариумных рыбок. Не забываем создавать имитацию чешуи на теле рыбки, а также характерные бороздки на плавниках и хвосте. Для того, чтобы в нашем аквариуме зародилась жизнь, мы должны слепить не только красивых разноцветных рыбок, но и улиток, водоросли, а также любых других обитателей подводного мира. Не забудьте слепить мелкие камушки, чтобы усыпать ими дно нашего аквариу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2786040" y="3429000"/>
            <a:ext cx="4000680" cy="3429000"/>
          </a:xfrm>
          <a:prstGeom prst="rect">
            <a:avLst/>
          </a:prstGeom>
          <a:ln w="0">
            <a:noFill/>
          </a:ln>
        </p:spPr>
      </p:pic>
      <p:sp>
        <p:nvSpPr>
          <p:cNvPr id="48" name="Прямоугольник 2"/>
          <p:cNvSpPr/>
          <p:nvPr/>
        </p:nvSpPr>
        <p:spPr>
          <a:xfrm>
            <a:off x="357120" y="0"/>
            <a:ext cx="8501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сле того, как все жители нашего будущего аквариума созданы, помещаем пластилиновые фигурки в стеклянную бан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Лучше всего начать с закрепления длинных водорослей. Затем можно разбросать по дну нашего будущего аквариума пластилиновые камушки и посадить на них улиток, слегка надавливая на пластилин. Самым ответственным моментом является размещение рыбок. Для этого нужно крепко прикрепить рыбок к стеклянным бокам бан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2571840" y="3000240"/>
            <a:ext cx="4500360" cy="3571920"/>
          </a:xfrm>
          <a:prstGeom prst="rect">
            <a:avLst/>
          </a:prstGeom>
          <a:ln w="0">
            <a:noFill/>
          </a:ln>
        </p:spPr>
      </p:pic>
      <p:sp>
        <p:nvSpPr>
          <p:cNvPr id="50" name="Прямоугольник 2"/>
          <p:cNvSpPr/>
          <p:nvPr/>
        </p:nvSpPr>
        <p:spPr>
          <a:xfrm>
            <a:off x="500040" y="214200"/>
            <a:ext cx="8072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еперь, когда все содержимое аквариума размещено на своих местах, можно налить в банку во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оду в банку следует наливать достаточно аккуратно, чтобы случайно на повредить расстановку фигурок. Уровень воды должен доходить до краев бан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лотно закрываем крышу и наш пластилиновый аквариум готов. Теперь его можно поставить на полку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VeloYarik</cp:lastModifiedBy>
  <dcterms:modified xsi:type="dcterms:W3CDTF">2013-10-19T10:34:18Z</dcterms:modified>
  <cp:revision>8</cp:revision>
  <dc:subject/>
  <dc:title>Слайд 1</dc:title>
</cp:coreProperties>
</file>