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2028B-F0E2-4F57-830F-4AA50BA5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E8249-8BBA-4BE6-9066-4DDAD0F0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CD51C-3D36-40D0-A613-92DD3FD1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961D6-1F11-4636-BB82-B1270A1A8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8189-E645-40E1-ACA1-215E1D67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78A5-05F8-47A4-B4A5-DC5D3417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5222-3737-4E72-81B2-3835A636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E314-62F8-4D88-AA6B-610F5CEA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BD74-E684-4C74-93AE-96C413AE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207F-B1BA-4FC4-AA91-FA97C248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F2A6-88E9-48CD-A567-7533B178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8FBA8-4B9D-484F-B53C-C29410D5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31AF-F1A0-4F9A-8745-26D51366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776C-0835-4B5C-B3B8-C369882F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7E3E-0E31-446D-9F7A-3510ED0E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F051-69C4-4447-A010-DA2E6C24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B963-C114-4D66-A408-49CC4E9F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C4FA3-C5D6-44E3-863F-C77B4514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AA559-7A9A-42B8-9874-0F39663E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32BCA-BBF8-4382-906A-B18B0796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CDA73-0099-4FF2-A580-48A5ADF2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D73D0-4A7F-4181-8D09-F50A8C96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8F03C-650F-4D82-A026-7877EF81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E0077-D9EA-4590-981D-D370C5AB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CD3F-31A7-4B70-97C8-40F8472435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5363-602D-43EE-9B9F-4B8EA6819A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76320" y="433440"/>
            <a:ext cx="7010280" cy="27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ЕДПРИНИМАТЕЛЬСТВ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РЕВНЕЙ РУС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791320" y="2362320"/>
            <a:ext cx="3174840" cy="426708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 txBox="1"/>
          <p:nvPr/>
        </p:nvSpPr>
        <p:spPr>
          <a:xfrm>
            <a:off x="533520" y="4800600"/>
            <a:ext cx="403848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"/>
              </a:rPr>
              <a:t>презент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"/>
              </a:rPr>
              <a:t>ученицы 10б клас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"/>
              </a:rPr>
              <a:t>Барыгиной Ксен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Arial"/>
              <a:ea typeface="Arial"/>
            </a:endParaRPr>
          </a:p>
        </p:txBody>
      </p:sp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4267080" y="723960"/>
            <a:ext cx="4572000" cy="58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декс был составлен Ярославом (княжил в Новгороде в 1036-1054гг.) в качестве руководства княжеским судьям, а в последующем он был дополнен преемниками Ярослава. Ключевский назвал "Русскую правду"     " Кодексом капитала"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3092400" cy="426708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1523880" y="57913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росла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8534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зопасность капитала кодекс ценил дороже "личной свободы человека". Личность человека в " Русской правде" рассматривалась как простая ценность, определяемая ценой имущест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52574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 деяния, направленные против собственности, закон наказывал строже, чем за нарушение личной безопас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rcRect l="2038" t="0" r="0" b="0"/>
          <a:stretch/>
        </p:blipFill>
        <p:spPr>
          <a:xfrm>
            <a:off x="2819520" y="2340000"/>
            <a:ext cx="3657600" cy="26128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151920" y="647640"/>
            <a:ext cx="4419720" cy="59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оворя о предпринимателях Киевской Руси, необходимо подчеркнуть, что экономическое благосостояние государства во многом держалось на рабовладе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581280" cy="32796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усский купец того времени очень часто появлялся на рынках с "челядью". "Живой" товар нередко был главны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015160" cy="43146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усский историк В. Безобразов, анализируя характер великороссов, отмечая черты, которые могли способствовать развитию русского предпринимательства, выделяет особ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47560" y="3352320"/>
            <a:ext cx="563868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увство меры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актический расчет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амообладание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езвость характера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вол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500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5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3886200" y="533160"/>
            <a:ext cx="5410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нно эти черты определяли его успех  более тысячи лет. Одним из самых главных городов русского предпринимательства был Новгород Великий. Новгородские купцы вели свою торговлю и промысловую деятельность артелями или компаниями, представлявшими из себя хорошо вооруженные отряды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3809880" cy="52009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-152640" y="456840"/>
            <a:ext cx="510516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орговлей здесь жила большая часть населения, и предприниматель был главной фигурой, о которой складывались сказки и легенды. Одной из них является былина о Садко, купце- предпринимателе, который показан как герой-богатырь, причем подвигом представлена его торговая деятельно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5410080" y="685800"/>
            <a:ext cx="3048120" cy="50007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343400" y="571680"/>
            <a:ext cx="49528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ревнерусское государство, созданное в конце IX века складывалось путем объединения восточнославянских племен, располагавшихся вдоль знаменитого торгового пути “из варяг в греки”. Торговля являлась одной из основ хозяйственной жизни славя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3809880" cy="50799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837720" y="0"/>
            <a:ext cx="7696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VIII-XIII основная масса русского народа сосредотачивалась на Среднем и Верхнем Днепре. Этому способствовала выгода этих мест относительно торговл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1447920" y="2658960"/>
            <a:ext cx="6019560" cy="41990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-76320" y="151920"/>
            <a:ext cx="37339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ликим торговым путем был водный путь из Балтийского моря в Черное (путь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 варяг в грек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. Самыми важными торговыми центрами Руси стали города, находившиеся на двух концах этого пути – Новгород и Кие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4224240" y="152280"/>
            <a:ext cx="4573800" cy="65534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5029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осподствующим фактором экономической жизни формировавшегося государства являлась внешняя торговля с вызванными его промыслами звероловства и бортничеств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5562720" y="255600"/>
            <a:ext cx="2646360" cy="21826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rcRect l="55538" t="18001" r="0" b="34007"/>
          <a:stretch/>
        </p:blipFill>
        <p:spPr>
          <a:xfrm>
            <a:off x="5257800" y="3352680"/>
            <a:ext cx="3200400" cy="25923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038120" y="304920"/>
            <a:ext cx="4800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основном в роли предпринимателей выступали купцы (дружинники). Они торговали в самых разных странах. Они плавали по Черному и Каспийскому морям, торговали в городах Болгарского царства и Константинополе, снаряжали караваны верблюдов до Багдада, вели торговлю со странами побережья Балтийского мор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2619360" cy="58104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-76680" y="914040"/>
            <a:ext cx="495324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орговые связи с Южными и Западными славянами, Византией, Западной Европой, народами Кавказа и Средней Азии были главными источниками накопления богатств Киевской Рус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5562720" y="838080"/>
            <a:ext cx="2419200" cy="48769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-152280" y="304920"/>
            <a:ext cx="53337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собенно большую роль играли лесные промыслы и железное дело. Внешним выражением всех этих хозяйственных процессов был рост благосостояния насел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-152280" y="3276720"/>
            <a:ext cx="8991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нежные знаки обращались в изобилии. В больших городах Киевской Руси в руках князей и бояр скопились значительные денежные средст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6172200" y="647640"/>
            <a:ext cx="1905120" cy="209556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4572000" y="4648320"/>
            <a:ext cx="3962520" cy="20574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76320" y="723600"/>
            <a:ext cx="4952880" cy="57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рвым российским документом, регулировавшим предпринимательскую деятельность и отношение предпринимателей с обществом, была "Русская правда", которая являлась одним из самых развитых кодексов права того времен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6095880" y="228600"/>
            <a:ext cx="1905120" cy="22194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371680" cy="30988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Галеева Юлия</cp:lastModifiedBy>
  <dcterms:modified xsi:type="dcterms:W3CDTF">2009-10-04T16:51:3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