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png" ContentType="image/png"/>
  <Override PartName="/ppt/media/image5.jpeg" ContentType="image/jpeg"/>
  <Override PartName="/ppt/media/image26.jpeg" ContentType="image/jpeg"/>
  <Override PartName="/ppt/media/image4.jpeg" ContentType="image/jpeg"/>
  <Override PartName="/ppt/media/image25.png" ContentType="image/png"/>
  <Override PartName="/ppt/media/image3.png" ContentType="image/png"/>
  <Override PartName="/ppt/media/image17.jpeg" ContentType="image/jpeg"/>
  <Override PartName="/ppt/media/image27.jpeg" ContentType="image/jpeg"/>
  <Override PartName="/ppt/media/image24.jpeg" ContentType="image/jpeg"/>
  <Override PartName="/ppt/media/image19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4.jpeg" ContentType="image/jpeg"/>
  <Override PartName="/ppt/media/image1.png" ContentType="image/pn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3D291-99D0-4297-8B18-C7A6CCA6B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87F53-A263-4EB5-BFF3-E1CE313E5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33A6A-850C-4DCD-AC12-C54F9E043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35159-990B-4ACD-980F-950913555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C8B5B-4F1C-4632-9621-23C2133F9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CCBC9-0CE5-4C29-AD85-FA727667A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556F5-C1F0-4229-AB9E-43C3EAFC5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916CE-7A8F-4C2F-B44A-134C73D80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1C876-29FC-407D-8593-2FE27BADD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DBC90-1177-4DEE-9A09-7B28CFFB9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FC0AB-B523-4A4F-B1D8-E4A8188DF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2F41D-C434-4D99-B0D6-5EAEA8D20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F4A8A-5BA3-4845-BB49-5B11366D368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hyperlink" Target="http://ru.wikipedia.org/wiki/&#1048;&#1079;&#1086;&#1073;&#1088;&#1072;&#1078;&#1077;&#1085;&#1080;&#1077;:Battle_of_moscow03.jpg" TargetMode="External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hyperlink" Target="http://ru.wikipedia.org/wiki/&#1048;&#1079;&#1086;&#1073;&#1088;&#1072;&#1078;&#1077;&#1085;&#1080;&#1077;:Kukr_kleshi_1941.jpg" TargetMode="External"/><Relationship Id="rId7" Type="http://schemas.openxmlformats.org/officeDocument/2006/relationships/image" Target="../media/image12.jpe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" Target="slide7.xm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85880" y="1071720"/>
            <a:ext cx="7959600" cy="266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Битва под Москвой.</a:t>
            </a:r>
            <a:br>
              <a:rPr sz="48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3789360"/>
            <a:ext cx="6840720" cy="21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d2d8a"/>
                </a:solidFill>
                <a:latin typeface="Arial"/>
              </a:rPr>
              <a:t>Учитель: Горшонкова Наталья Юрьев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d2d8a"/>
                </a:solidFill>
                <a:latin typeface="Arial"/>
              </a:rPr>
              <a:t>Выполнила: Горшкова Анн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d2d8a"/>
                </a:solidFill>
                <a:latin typeface="Arial"/>
              </a:rPr>
              <a:t>              </a:t>
            </a:r>
            <a:r>
              <a:rPr b="0" lang="ru-RU" sz="2800" spc="-1" strike="noStrike">
                <a:solidFill>
                  <a:srgbClr val="2d2d8a"/>
                </a:solidFill>
                <a:latin typeface="Arial"/>
              </a:rPr>
              <a:t>11 А клас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990033"/>
                </a:solidFill>
                <a:latin typeface="Arial"/>
              </a:rPr>
              <a:t>Парад 7 ноября 1941г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6" descr="i?id=2285282&amp;tov=4"/>
          <p:cNvPicPr/>
          <p:nvPr/>
        </p:nvPicPr>
        <p:blipFill>
          <a:blip r:embed="rId1"/>
          <a:stretch/>
        </p:blipFill>
        <p:spPr>
          <a:xfrm>
            <a:off x="1187280" y="1459080"/>
            <a:ext cx="6985080" cy="52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4" descr="Battle_of_moscow10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59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5" descr="i?id=38598897&amp;tov=0"/>
          <p:cNvPicPr/>
          <p:nvPr/>
        </p:nvPicPr>
        <p:blipFill>
          <a:blip r:embed="rId1"/>
          <a:stretch/>
        </p:blipFill>
        <p:spPr>
          <a:xfrm>
            <a:off x="4859280" y="549360"/>
            <a:ext cx="3745080" cy="2162160"/>
          </a:xfrm>
          <a:prstGeom prst="rect">
            <a:avLst/>
          </a:prstGeom>
          <a:ln w="9360">
            <a:solidFill>
              <a:srgbClr val="0066ff"/>
            </a:solidFill>
            <a:miter/>
          </a:ln>
        </p:spPr>
      </p:pic>
      <p:pic>
        <p:nvPicPr>
          <p:cNvPr id="88" name="Picture 6" descr="i?id=3029619&amp;tov=2"/>
          <p:cNvPicPr/>
          <p:nvPr/>
        </p:nvPicPr>
        <p:blipFill>
          <a:blip r:embed="rId2"/>
          <a:stretch/>
        </p:blipFill>
        <p:spPr>
          <a:xfrm>
            <a:off x="4859280" y="3357720"/>
            <a:ext cx="3745080" cy="2606400"/>
          </a:xfrm>
          <a:prstGeom prst="rect">
            <a:avLst/>
          </a:prstGeom>
          <a:ln w="9360">
            <a:solidFill>
              <a:srgbClr val="0066ff"/>
            </a:solidFill>
            <a:miter/>
          </a:ln>
        </p:spPr>
      </p:pic>
      <p:pic>
        <p:nvPicPr>
          <p:cNvPr id="89" name="Picture 7" descr="i?id=85932722&amp;tov=2"/>
          <p:cNvPicPr/>
          <p:nvPr/>
        </p:nvPicPr>
        <p:blipFill>
          <a:blip r:embed="rId3"/>
          <a:stretch/>
        </p:blipFill>
        <p:spPr>
          <a:xfrm>
            <a:off x="250920" y="549360"/>
            <a:ext cx="3887640" cy="2216160"/>
          </a:xfrm>
          <a:prstGeom prst="rect">
            <a:avLst/>
          </a:prstGeom>
          <a:ln w="9360">
            <a:solidFill>
              <a:srgbClr val="0066ff"/>
            </a:solidFill>
            <a:miter/>
          </a:ln>
        </p:spPr>
      </p:pic>
      <p:pic>
        <p:nvPicPr>
          <p:cNvPr id="90" name="Picture 8" descr="120px-Battle_of_moscow14"/>
          <p:cNvPicPr/>
          <p:nvPr/>
        </p:nvPicPr>
        <p:blipFill>
          <a:blip r:embed="rId4"/>
          <a:stretch/>
        </p:blipFill>
        <p:spPr>
          <a:xfrm>
            <a:off x="250920" y="3357720"/>
            <a:ext cx="3889440" cy="2689200"/>
          </a:xfrm>
          <a:prstGeom prst="rect">
            <a:avLst/>
          </a:prstGeom>
          <a:ln w="9360">
            <a:solidFill>
              <a:srgbClr val="0066ff"/>
            </a:solidFill>
            <a:miter/>
          </a:ln>
        </p:spPr>
      </p:pic>
      <p:sp>
        <p:nvSpPr>
          <p:cNvPr id="91" name="AutoShape 9"/>
          <p:cNvSpPr/>
          <p:nvPr/>
        </p:nvSpPr>
        <p:spPr>
          <a:xfrm>
            <a:off x="8101080" y="6381720"/>
            <a:ext cx="863640" cy="287280"/>
          </a:xfrm>
          <a:custGeom>
            <a:avLst/>
            <a:gdLst>
              <a:gd name="textAreaLeft" fmla="*/ 18360 w 863640"/>
              <a:gd name="textAreaRight" fmla="*/ 845280 w 86364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64881" h="21600">
                <a:moveTo>
                  <a:pt x="0" y="0"/>
                </a:moveTo>
                <a:lnTo>
                  <a:pt x="64881" y="0"/>
                </a:lnTo>
                <a:lnTo>
                  <a:pt x="64881" y="21600"/>
                </a:lnTo>
                <a:lnTo>
                  <a:pt x="0" y="21600"/>
                </a:lnTo>
                <a:close/>
              </a:path>
              <a:path fill="lightenLess" w="64881" h="21600">
                <a:moveTo>
                  <a:pt x="0" y="0"/>
                </a:moveTo>
                <a:lnTo>
                  <a:pt x="64881" y="0"/>
                </a:lnTo>
                <a:lnTo>
                  <a:pt x="63481" y="1400"/>
                </a:lnTo>
                <a:lnTo>
                  <a:pt x="1400" y="1400"/>
                </a:lnTo>
                <a:close/>
              </a:path>
              <a:path fill="darken" w="64881" h="21600">
                <a:moveTo>
                  <a:pt x="64881" y="0"/>
                </a:moveTo>
                <a:lnTo>
                  <a:pt x="64881" y="21600"/>
                </a:lnTo>
                <a:lnTo>
                  <a:pt x="63481" y="20200"/>
                </a:lnTo>
                <a:lnTo>
                  <a:pt x="63481" y="1400"/>
                </a:lnTo>
                <a:close/>
              </a:path>
              <a:path fill="darkenLess" w="64881" h="21600">
                <a:moveTo>
                  <a:pt x="648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481" y="20200"/>
                </a:lnTo>
                <a:close/>
              </a:path>
              <a:path fill="lighten" w="648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881" h="21600">
                <a:moveTo>
                  <a:pt x="32441" y="3837"/>
                </a:moveTo>
                <a:lnTo>
                  <a:pt x="35017" y="6448"/>
                </a:lnTo>
                <a:lnTo>
                  <a:pt x="35017" y="4707"/>
                </a:lnTo>
                <a:lnTo>
                  <a:pt x="36792" y="4707"/>
                </a:lnTo>
                <a:lnTo>
                  <a:pt x="36792" y="8224"/>
                </a:lnTo>
                <a:lnTo>
                  <a:pt x="39404" y="10800"/>
                </a:lnTo>
                <a:lnTo>
                  <a:pt x="37750" y="10800"/>
                </a:lnTo>
                <a:lnTo>
                  <a:pt x="37750" y="17989"/>
                </a:lnTo>
                <a:lnTo>
                  <a:pt x="27131" y="17989"/>
                </a:lnTo>
                <a:lnTo>
                  <a:pt x="27131" y="10800"/>
                </a:lnTo>
                <a:lnTo>
                  <a:pt x="25478" y="10800"/>
                </a:lnTo>
                <a:close/>
              </a:path>
              <a:path fill="darkenLess" w="64881" h="21600">
                <a:moveTo>
                  <a:pt x="35017" y="6448"/>
                </a:moveTo>
                <a:lnTo>
                  <a:pt x="35017" y="4707"/>
                </a:lnTo>
                <a:lnTo>
                  <a:pt x="36792" y="4707"/>
                </a:lnTo>
                <a:lnTo>
                  <a:pt x="36792" y="8224"/>
                </a:lnTo>
                <a:close/>
              </a:path>
              <a:path fill="darkenLess" w="64881" h="21600">
                <a:moveTo>
                  <a:pt x="31518" y="14299"/>
                </a:moveTo>
                <a:lnTo>
                  <a:pt x="33363" y="14299"/>
                </a:lnTo>
                <a:lnTo>
                  <a:pt x="33363" y="17989"/>
                </a:lnTo>
                <a:lnTo>
                  <a:pt x="37750" y="17989"/>
                </a:lnTo>
                <a:lnTo>
                  <a:pt x="37750" y="10800"/>
                </a:lnTo>
                <a:lnTo>
                  <a:pt x="27131" y="10800"/>
                </a:lnTo>
                <a:lnTo>
                  <a:pt x="27131" y="17989"/>
                </a:lnTo>
                <a:lnTo>
                  <a:pt x="31518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7" descr="4241cbc0730f"/>
          <p:cNvPicPr/>
          <p:nvPr/>
        </p:nvPicPr>
        <p:blipFill>
          <a:blip r:embed="rId1"/>
          <a:stretch/>
        </p:blipFill>
        <p:spPr>
          <a:xfrm>
            <a:off x="468360" y="260280"/>
            <a:ext cx="8207280" cy="4199040"/>
          </a:xfrm>
          <a:prstGeom prst="rect">
            <a:avLst/>
          </a:prstGeom>
          <a:ln w="9360">
            <a:solidFill>
              <a:srgbClr val="0066ff"/>
            </a:solidFill>
            <a:miter/>
          </a:ln>
        </p:spPr>
      </p:pic>
      <p:pic>
        <p:nvPicPr>
          <p:cNvPr id="93" name="Picture 8" descr="752ovlevV_Pt_GenPanfilova"/>
          <p:cNvPicPr/>
          <p:nvPr/>
        </p:nvPicPr>
        <p:blipFill>
          <a:blip r:embed="rId2"/>
          <a:stretch/>
        </p:blipFill>
        <p:spPr>
          <a:xfrm>
            <a:off x="468360" y="4508640"/>
            <a:ext cx="1792080" cy="2185920"/>
          </a:xfrm>
          <a:prstGeom prst="rect">
            <a:avLst/>
          </a:prstGeom>
          <a:ln w="9360">
            <a:solidFill>
              <a:srgbClr val="0066ff"/>
            </a:solidFill>
            <a:miter/>
          </a:ln>
        </p:spPr>
      </p:pic>
      <p:pic>
        <p:nvPicPr>
          <p:cNvPr id="94" name="Picture 9" descr="i?id=1884409&amp;tov=2"/>
          <p:cNvPicPr/>
          <p:nvPr/>
        </p:nvPicPr>
        <p:blipFill>
          <a:blip r:embed="rId3"/>
          <a:stretch/>
        </p:blipFill>
        <p:spPr>
          <a:xfrm>
            <a:off x="6978600" y="4508640"/>
            <a:ext cx="1701720" cy="2160360"/>
          </a:xfrm>
          <a:prstGeom prst="rect">
            <a:avLst/>
          </a:prstGeom>
          <a:ln w="9360">
            <a:solidFill>
              <a:srgbClr val="0066ff"/>
            </a:solidFill>
            <a:miter/>
          </a:ln>
        </p:spPr>
      </p:pic>
      <p:sp>
        <p:nvSpPr>
          <p:cNvPr id="95" name="Text Box 10"/>
          <p:cNvSpPr/>
          <p:nvPr/>
        </p:nvSpPr>
        <p:spPr>
          <a:xfrm>
            <a:off x="2411280" y="4581360"/>
            <a:ext cx="4392720" cy="153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ПОДВИГ ПАНФИЛОВЦЕВ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«Велика Россия , а отступать некуда– позади Москва!»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1"/>
          <p:cNvSpPr/>
          <p:nvPr/>
        </p:nvSpPr>
        <p:spPr>
          <a:xfrm>
            <a:off x="2340000" y="6442200"/>
            <a:ext cx="115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0000"/>
                </a:solidFill>
                <a:latin typeface="Arial"/>
              </a:rPr>
              <a:t>И.В.Панфилов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2"/>
          <p:cNvSpPr/>
          <p:nvPr/>
        </p:nvSpPr>
        <p:spPr>
          <a:xfrm>
            <a:off x="6227640" y="6453360"/>
            <a:ext cx="1224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0000"/>
                </a:solidFill>
                <a:latin typeface="Arial"/>
              </a:rPr>
              <a:t>В.И.Клочков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13">
            <a:hlinkClick r:id="" action="ppaction://hlinkshowjump?jump=previousslide"/>
          </p:cNvPr>
          <p:cNvSpPr/>
          <p:nvPr/>
        </p:nvSpPr>
        <p:spPr>
          <a:xfrm>
            <a:off x="4284720" y="6381720"/>
            <a:ext cx="865080" cy="333360"/>
          </a:xfrm>
          <a:custGeom>
            <a:avLst/>
            <a:gdLst>
              <a:gd name="textAreaLeft" fmla="*/ 21600 w 865080"/>
              <a:gd name="textAreaRight" fmla="*/ 843480 w 86508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56016" h="21600">
                <a:moveTo>
                  <a:pt x="0" y="0"/>
                </a:moveTo>
                <a:lnTo>
                  <a:pt x="56016" y="0"/>
                </a:lnTo>
                <a:lnTo>
                  <a:pt x="56016" y="21600"/>
                </a:lnTo>
                <a:lnTo>
                  <a:pt x="0" y="21600"/>
                </a:lnTo>
                <a:close/>
              </a:path>
              <a:path fill="lightenLess" w="56016" h="21600">
                <a:moveTo>
                  <a:pt x="0" y="0"/>
                </a:moveTo>
                <a:lnTo>
                  <a:pt x="56016" y="0"/>
                </a:lnTo>
                <a:lnTo>
                  <a:pt x="54616" y="1400"/>
                </a:lnTo>
                <a:lnTo>
                  <a:pt x="1400" y="1400"/>
                </a:lnTo>
                <a:close/>
              </a:path>
              <a:path fill="darken" w="56016" h="21600">
                <a:moveTo>
                  <a:pt x="56016" y="0"/>
                </a:moveTo>
                <a:lnTo>
                  <a:pt x="56016" y="21600"/>
                </a:lnTo>
                <a:lnTo>
                  <a:pt x="54616" y="20200"/>
                </a:lnTo>
                <a:lnTo>
                  <a:pt x="54616" y="1400"/>
                </a:lnTo>
                <a:close/>
              </a:path>
              <a:path fill="darkenLess" w="56016" h="21600">
                <a:moveTo>
                  <a:pt x="560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616" y="20200"/>
                </a:lnTo>
                <a:close/>
              </a:path>
              <a:path fill="lighten" w="560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6016" h="21600">
                <a:moveTo>
                  <a:pt x="21001" y="7493"/>
                </a:moveTo>
                <a:lnTo>
                  <a:pt x="24509" y="7493"/>
                </a:lnTo>
                <a:lnTo>
                  <a:pt x="24509" y="12828"/>
                </a:lnTo>
                <a:cubicBezTo>
                  <a:pt x="24509" y="13751"/>
                  <a:pt x="25310" y="14482"/>
                  <a:pt x="26345" y="14482"/>
                </a:cubicBezTo>
                <a:lnTo>
                  <a:pt x="28008" y="14482"/>
                </a:lnTo>
                <a:cubicBezTo>
                  <a:pt x="29044" y="14482"/>
                  <a:pt x="29844" y="13751"/>
                  <a:pt x="29844" y="12828"/>
                </a:cubicBezTo>
                <a:lnTo>
                  <a:pt x="29844" y="7493"/>
                </a:lnTo>
                <a:lnTo>
                  <a:pt x="28008" y="7493"/>
                </a:lnTo>
                <a:lnTo>
                  <a:pt x="31515" y="3985"/>
                </a:lnTo>
                <a:lnTo>
                  <a:pt x="35188" y="7493"/>
                </a:lnTo>
                <a:lnTo>
                  <a:pt x="33352" y="7493"/>
                </a:lnTo>
                <a:lnTo>
                  <a:pt x="33352" y="12828"/>
                </a:lnTo>
                <a:cubicBezTo>
                  <a:pt x="33352" y="15596"/>
                  <a:pt x="30776" y="18155"/>
                  <a:pt x="28008" y="18155"/>
                </a:cubicBezTo>
                <a:lnTo>
                  <a:pt x="26345" y="18155"/>
                </a:lnTo>
                <a:cubicBezTo>
                  <a:pt x="23578" y="18155"/>
                  <a:pt x="21001" y="15596"/>
                  <a:pt x="21001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WordArt 34"/>
          <p:cNvSpPr txBox="1"/>
          <p:nvPr/>
        </p:nvSpPr>
        <p:spPr>
          <a:xfrm>
            <a:off x="1547640" y="189000"/>
            <a:ext cx="626436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оотношение сил</a:t>
            </a:r>
            <a:endParaRPr b="1" lang="en-US" sz="2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1" lang="en-US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 2 декабря 1941 года</a:t>
            </a:r>
            <a:endParaRPr b="1" lang="en-US" sz="2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468360" y="1341360"/>
          <a:ext cx="8136000" cy="4608720"/>
        </p:xfrm>
        <a:graphic>
          <a:graphicData uri="http://schemas.openxmlformats.org/drawingml/2006/table">
            <a:tbl>
              <a:tblPr/>
              <a:tblGrid>
                <a:gridCol w="3379680"/>
                <a:gridCol w="1233720"/>
                <a:gridCol w="1482480"/>
                <a:gridCol w="2040120"/>
              </a:tblGrid>
              <a:tr h="922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Verdana"/>
                          <a:ea typeface="Times New Roman"/>
                        </a:rPr>
                        <a:t>Силы и средства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Verdana"/>
                          <a:ea typeface="Times New Roman"/>
                        </a:rPr>
                        <a:t>РККА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Verdana"/>
                          <a:ea typeface="Times New Roman"/>
                        </a:rPr>
                        <a:t>Вермахт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Verdana"/>
                          <a:ea typeface="Times New Roman"/>
                        </a:rPr>
                        <a:t>Соотношение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solidFill>
                      <a:srgbClr val="3399ff"/>
                    </a:solidFill>
                  </a:tcPr>
                </a:tc>
              </a:tr>
              <a:tr h="920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Verdana"/>
                          <a:ea typeface="Times New Roman"/>
                        </a:rPr>
                        <a:t>Личный состав (тыс. чел.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Verdana"/>
                          <a:ea typeface="Times New Roman"/>
                        </a:rPr>
                        <a:t>110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Verdana"/>
                          <a:ea typeface="Times New Roman"/>
                        </a:rPr>
                        <a:t>1708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Verdana"/>
                          <a:ea typeface="Times New Roman"/>
                        </a:rPr>
                        <a:t>1:1,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solidFill>
                      <a:srgbClr val="3399ff"/>
                    </a:solidFill>
                  </a:tcPr>
                </a:tc>
              </a:tr>
              <a:tr h="922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Verdana"/>
                          <a:ea typeface="Times New Roman"/>
                        </a:rPr>
                        <a:t>Орудия и минометы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Verdana"/>
                          <a:ea typeface="Times New Roman"/>
                        </a:rPr>
                        <a:t>765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Verdana"/>
                          <a:ea typeface="Times New Roman"/>
                        </a:rPr>
                        <a:t>1350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Verdana"/>
                          <a:ea typeface="Times New Roman"/>
                        </a:rPr>
                        <a:t>1:1,8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solidFill>
                      <a:srgbClr val="3399ff"/>
                    </a:solidFill>
                  </a:tcPr>
                </a:tc>
              </a:tr>
              <a:tr h="920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Verdana"/>
                          <a:ea typeface="Times New Roman"/>
                        </a:rPr>
                        <a:t>Танк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Verdana"/>
                          <a:ea typeface="Times New Roman"/>
                        </a:rPr>
                        <a:t>774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Verdana"/>
                          <a:ea typeface="Times New Roman"/>
                        </a:rPr>
                        <a:t>117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Verdana"/>
                          <a:ea typeface="Times New Roman"/>
                        </a:rPr>
                        <a:t>1:1,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solidFill>
                      <a:srgbClr val="3399ff"/>
                    </a:solidFill>
                  </a:tcPr>
                </a:tc>
              </a:tr>
              <a:tr h="922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Verdana"/>
                          <a:ea typeface="Times New Roman"/>
                        </a:rPr>
                        <a:t>Самолеты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Verdana"/>
                          <a:ea typeface="Times New Roman"/>
                        </a:rPr>
                        <a:t>100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Verdana"/>
                          <a:ea typeface="Times New Roman"/>
                        </a:rPr>
                        <a:t>61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Verdana"/>
                          <a:ea typeface="Times New Roman"/>
                        </a:rPr>
                        <a:t>1,6: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solidFill>
                      <a:srgbClr val="3399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964720" cy="692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Разгром фашистов под Москво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79280" y="980640"/>
            <a:ext cx="3600720" cy="2303640"/>
          </a:xfrm>
          <a:prstGeom prst="rect">
            <a:avLst/>
          </a:prstGeom>
          <a:solidFill>
            <a:srgbClr val="ff505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фашисты отброшены от Москвы на100-250 к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освобождено  11 тысяч населенных пунк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крах плана «Барбаросс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7" descr="Untitled-Scanned-01"/>
          <p:cNvPicPr/>
          <p:nvPr/>
        </p:nvPicPr>
        <p:blipFill>
          <a:blip r:embed="rId1"/>
          <a:stretch/>
        </p:blipFill>
        <p:spPr>
          <a:xfrm>
            <a:off x="3995640" y="836640"/>
            <a:ext cx="4641840" cy="5761080"/>
          </a:xfrm>
          <a:prstGeom prst="rect">
            <a:avLst/>
          </a:prstGeom>
          <a:ln w="9360">
            <a:solidFill>
              <a:srgbClr val="0066ff"/>
            </a:solidFill>
            <a:miter/>
          </a:ln>
        </p:spPr>
      </p:pic>
      <p:pic>
        <p:nvPicPr>
          <p:cNvPr id="104" name="Picture 8" descr="Soviet_Offensive_Moscow_December_1941"/>
          <p:cNvPicPr/>
          <p:nvPr/>
        </p:nvPicPr>
        <p:blipFill>
          <a:blip r:embed="rId2"/>
          <a:stretch/>
        </p:blipFill>
        <p:spPr>
          <a:xfrm>
            <a:off x="179280" y="3573360"/>
            <a:ext cx="3608640" cy="2692440"/>
          </a:xfrm>
          <a:prstGeom prst="rect">
            <a:avLst/>
          </a:prstGeom>
          <a:ln w="9360">
            <a:solidFill>
              <a:srgbClr val="0066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505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начало коренного перелома в вой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первое крупное поражение немецких войс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провал «молниеносной» вой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отказ Японии вступать в войну против ССС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затяжной характер вой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505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Значение разгрома фашистов под Москво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000" y="115920"/>
            <a:ext cx="8156520" cy="288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Операция «ТАЙФУН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15" descr="02"/>
          <p:cNvPicPr/>
          <p:nvPr/>
        </p:nvPicPr>
        <p:blipFill>
          <a:blip r:embed="rId1"/>
          <a:stretch/>
        </p:blipFill>
        <p:spPr>
          <a:xfrm>
            <a:off x="179280" y="765000"/>
            <a:ext cx="4546800" cy="5950080"/>
          </a:xfrm>
          <a:prstGeom prst="rect">
            <a:avLst/>
          </a:prstGeom>
          <a:ln w="19080">
            <a:solidFill>
              <a:srgbClr val="0066ff"/>
            </a:solidFill>
            <a:miter/>
          </a:ln>
        </p:spPr>
      </p:pic>
      <p:pic>
        <p:nvPicPr>
          <p:cNvPr id="45" name="Picture 17" descr="генерал-полковник Федор фон Бок в 1939 году"/>
          <p:cNvPicPr/>
          <p:nvPr/>
        </p:nvPicPr>
        <p:blipFill>
          <a:blip r:embed="rId2"/>
          <a:srcRect l="0" t="0" r="4812" b="0"/>
          <a:stretch/>
        </p:blipFill>
        <p:spPr>
          <a:xfrm>
            <a:off x="5003640" y="907920"/>
            <a:ext cx="1260720" cy="1800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6" name="Picture 18" descr="200px-Guenther_von_Kluge_portrait"/>
          <p:cNvPicPr/>
          <p:nvPr/>
        </p:nvPicPr>
        <p:blipFill>
          <a:blip r:embed="rId3"/>
          <a:stretch/>
        </p:blipFill>
        <p:spPr>
          <a:xfrm>
            <a:off x="6372360" y="907920"/>
            <a:ext cx="1225440" cy="1800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7" name="Picture 20" descr="Konev_ivan"/>
          <p:cNvPicPr/>
          <p:nvPr/>
        </p:nvPicPr>
        <p:blipFill>
          <a:blip r:embed="rId4"/>
          <a:stretch/>
        </p:blipFill>
        <p:spPr>
          <a:xfrm>
            <a:off x="5003640" y="4869000"/>
            <a:ext cx="1268640" cy="1728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8" name="Picture 21" descr="Буденный"/>
          <p:cNvPicPr/>
          <p:nvPr/>
        </p:nvPicPr>
        <p:blipFill>
          <a:blip r:embed="rId5"/>
          <a:stretch/>
        </p:blipFill>
        <p:spPr>
          <a:xfrm>
            <a:off x="7812000" y="4869000"/>
            <a:ext cx="1190880" cy="1704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9" name="Picture 22" descr="Georgi_Zhukov_in_1940"/>
          <p:cNvPicPr/>
          <p:nvPr/>
        </p:nvPicPr>
        <p:blipFill>
          <a:blip r:embed="rId6"/>
          <a:stretch/>
        </p:blipFill>
        <p:spPr>
          <a:xfrm>
            <a:off x="6372360" y="4869000"/>
            <a:ext cx="1373040" cy="1716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0" name="Text Box 23"/>
          <p:cNvSpPr/>
          <p:nvPr/>
        </p:nvSpPr>
        <p:spPr>
          <a:xfrm>
            <a:off x="5003640" y="4365720"/>
            <a:ext cx="1224000" cy="64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ff0000"/>
                </a:solidFill>
                <a:latin typeface="Arial"/>
              </a:rPr>
              <a:t>Генерал И.С.Конев</a:t>
            </a:r>
            <a:r>
              <a:rPr b="0" lang="ru-RU" sz="800" spc="-1" strike="noStrike">
                <a:solidFill>
                  <a:srgbClr val="ff0000"/>
                </a:solidFill>
                <a:latin typeface="Arial"/>
              </a:rPr>
              <a:t> командующий Западным фронтом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24"/>
          <p:cNvSpPr/>
          <p:nvPr/>
        </p:nvSpPr>
        <p:spPr>
          <a:xfrm>
            <a:off x="6372360" y="4365720"/>
            <a:ext cx="1368360" cy="64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0000"/>
                </a:solidFill>
                <a:latin typeface="Arial"/>
              </a:rPr>
              <a:t>          </a:t>
            </a:r>
            <a:r>
              <a:rPr b="1" lang="ru-RU" sz="800" spc="-1" strike="noStrike">
                <a:solidFill>
                  <a:srgbClr val="ff0000"/>
                </a:solidFill>
                <a:latin typeface="Arial"/>
              </a:rPr>
              <a:t>ЖУКОВ Г. К.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0" lang="ru-RU" sz="800" spc="-1" strike="noStrike">
                <a:solidFill>
                  <a:srgbClr val="ff0000"/>
                </a:solidFill>
                <a:latin typeface="Arial"/>
              </a:rPr>
              <a:t>Командующий Западным фронтом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25"/>
          <p:cNvSpPr/>
          <p:nvPr/>
        </p:nvSpPr>
        <p:spPr>
          <a:xfrm>
            <a:off x="7740720" y="4365720"/>
            <a:ext cx="1403280" cy="64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ff0000"/>
                </a:solidFill>
                <a:latin typeface="Arial"/>
              </a:rPr>
              <a:t>Генерал Буденный С.М</a:t>
            </a:r>
            <a:r>
              <a:rPr b="0" lang="ru-RU" sz="800" spc="-1" strike="noStrike">
                <a:solidFill>
                  <a:srgbClr val="ff0000"/>
                </a:solidFill>
                <a:latin typeface="Arial"/>
              </a:rPr>
              <a:t>.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ff0000"/>
                </a:solidFill>
                <a:latin typeface="Arial"/>
              </a:rPr>
              <a:t>командующий Резервным фронтом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26"/>
          <p:cNvSpPr/>
          <p:nvPr/>
        </p:nvSpPr>
        <p:spPr>
          <a:xfrm>
            <a:off x="6372360" y="2708280"/>
            <a:ext cx="1224000" cy="64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ff0000"/>
                </a:solidFill>
                <a:latin typeface="Arial"/>
              </a:rPr>
              <a:t>фон Клюге</a:t>
            </a:r>
            <a:r>
              <a:rPr b="0" lang="ru-RU" sz="800" spc="-1" strike="noStrike">
                <a:solidFill>
                  <a:srgbClr val="ff0000"/>
                </a:solidFill>
                <a:latin typeface="Arial"/>
              </a:rPr>
              <a:t>  командующий            4  танковой армией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27"/>
          <p:cNvSpPr/>
          <p:nvPr/>
        </p:nvSpPr>
        <p:spPr>
          <a:xfrm>
            <a:off x="5003640" y="2708280"/>
            <a:ext cx="122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ff0000"/>
                </a:solidFill>
                <a:latin typeface="Arial"/>
              </a:rPr>
              <a:t>Ф.фон Бок</a:t>
            </a:r>
            <a:r>
              <a:rPr b="0" lang="ru-RU" sz="800" spc="-1" strike="noStrike">
                <a:solidFill>
                  <a:srgbClr val="ff0000"/>
                </a:solidFill>
                <a:latin typeface="Arial"/>
              </a:rPr>
              <a:t> – командующий группой армий «ЦЕНТР»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28"/>
          <p:cNvSpPr/>
          <p:nvPr/>
        </p:nvSpPr>
        <p:spPr>
          <a:xfrm>
            <a:off x="7740720" y="2708280"/>
            <a:ext cx="122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ff0000"/>
                </a:solidFill>
                <a:latin typeface="Arial"/>
              </a:rPr>
              <a:t>Г. Гудериан</a:t>
            </a:r>
            <a:r>
              <a:rPr b="0" lang="ru-RU" sz="800" spc="-1" strike="noStrike">
                <a:solidFill>
                  <a:srgbClr val="ff0000"/>
                </a:solidFill>
                <a:latin typeface="Arial"/>
              </a:rPr>
              <a:t>   командующий          2- танковой армией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29" descr="Хайнц Вильгельм Гудериан"/>
          <p:cNvPicPr/>
          <p:nvPr/>
        </p:nvPicPr>
        <p:blipFill>
          <a:blip r:embed="rId7"/>
          <a:srcRect l="48081" t="0" r="0" b="3313"/>
          <a:stretch/>
        </p:blipFill>
        <p:spPr>
          <a:xfrm>
            <a:off x="7740720" y="907920"/>
            <a:ext cx="1274760" cy="1800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684360" y="1341360"/>
          <a:ext cx="7920000" cy="4824360"/>
        </p:xfrm>
        <a:graphic>
          <a:graphicData uri="http://schemas.openxmlformats.org/drawingml/2006/table">
            <a:tbl>
              <a:tblPr/>
              <a:tblGrid>
                <a:gridCol w="3093840"/>
                <a:gridCol w="1127160"/>
                <a:gridCol w="1830240"/>
                <a:gridCol w="1868760"/>
              </a:tblGrid>
              <a:tr h="976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Verdana"/>
                          <a:ea typeface="Times New Roman"/>
                        </a:rPr>
                        <a:t>Силы и средства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Verdana"/>
                          <a:ea typeface="Times New Roman"/>
                        </a:rPr>
                        <a:t>РККА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Verdana"/>
                          <a:ea typeface="Times New Roman"/>
                        </a:rPr>
                        <a:t>Вермахт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Verdana"/>
                          <a:ea typeface="Times New Roman"/>
                        </a:rPr>
                        <a:t>Соотношение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solidFill>
                      <a:srgbClr val="3399ff"/>
                    </a:solidFill>
                  </a:tcPr>
                </a:tc>
              </a:tr>
              <a:tr h="974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Verdana"/>
                          <a:ea typeface="Times New Roman"/>
                        </a:rPr>
                        <a:t>Личный состав (тыс. чел.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Verdana"/>
                          <a:ea typeface="Times New Roman"/>
                        </a:rPr>
                        <a:t>125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Verdana"/>
                          <a:ea typeface="Times New Roman"/>
                        </a:rPr>
                        <a:t>180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Verdana"/>
                          <a:ea typeface="Times New Roman"/>
                        </a:rPr>
                        <a:t>1:1,4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solidFill>
                      <a:srgbClr val="3399ff"/>
                    </a:solidFill>
                  </a:tcPr>
                </a:tc>
              </a:tr>
              <a:tr h="976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Verdana"/>
                          <a:ea typeface="Times New Roman"/>
                        </a:rPr>
                        <a:t>Орудия и минометы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Verdana"/>
                          <a:ea typeface="Times New Roman"/>
                        </a:rPr>
                        <a:t>760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Verdana"/>
                          <a:ea typeface="Times New Roman"/>
                        </a:rPr>
                        <a:t>Более 1400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Verdana"/>
                          <a:ea typeface="Times New Roman"/>
                        </a:rPr>
                        <a:t>1:1,8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solidFill>
                      <a:srgbClr val="3399ff"/>
                    </a:solidFill>
                  </a:tcPr>
                </a:tc>
              </a:tr>
              <a:tr h="920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Verdana"/>
                          <a:ea typeface="Times New Roman"/>
                        </a:rPr>
                        <a:t>Танк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Verdana"/>
                          <a:ea typeface="Times New Roman"/>
                        </a:rPr>
                        <a:t>99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Verdana"/>
                          <a:ea typeface="Times New Roman"/>
                        </a:rPr>
                        <a:t>170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Verdana"/>
                          <a:ea typeface="Times New Roman"/>
                        </a:rPr>
                        <a:t>1:1,7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solidFill>
                      <a:srgbClr val="3399ff"/>
                    </a:solidFill>
                  </a:tcPr>
                </a:tc>
              </a:tr>
              <a:tr h="976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Verdana"/>
                          <a:ea typeface="Times New Roman"/>
                        </a:rPr>
                        <a:t>Самолеты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Verdana"/>
                          <a:ea typeface="Times New Roman"/>
                        </a:rPr>
                        <a:t>667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Verdana"/>
                          <a:ea typeface="Times New Roman"/>
                        </a:rPr>
                        <a:t>Около 139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Verdana"/>
                          <a:ea typeface="Times New Roman"/>
                        </a:rPr>
                        <a:t>1: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solidFill>
                      <a:srgbClr val="3399ff"/>
                    </a:solidFill>
                  </a:tcPr>
                </a:tc>
              </a:tr>
            </a:tbl>
          </a:graphicData>
        </a:graphic>
      </p:graphicFrame>
      <p:sp>
        <p:nvSpPr>
          <p:cNvPr id="58" name="WordArt 192"/>
          <p:cNvSpPr txBox="1"/>
          <p:nvPr/>
        </p:nvSpPr>
        <p:spPr>
          <a:xfrm>
            <a:off x="1547640" y="189000"/>
            <a:ext cx="626436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оотношение сил</a:t>
            </a:r>
            <a:endParaRPr b="1" lang="en-US" sz="2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1" lang="en-US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 30 сентября 1941 года</a:t>
            </a:r>
            <a:endParaRPr b="1" lang="en-US" sz="2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Этапы битвы за Москв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bbe0e3"/>
          </a:solidFill>
          <a:ln w="9360">
            <a:solidFill>
              <a:srgbClr val="8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боронительные сраже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30 сентября-2 ноября 1941г. - первый эта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15-16 ноября – 4 декабря 1941г.- второй эта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00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33"/>
                </a:solidFill>
                <a:latin typeface="Arial"/>
              </a:rPr>
              <a:t>Контрнаступление советских войск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5 декабря 1941г.- 20 апреля 1942 г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33"/>
                </a:solidFill>
                <a:latin typeface="Arial"/>
              </a:rPr>
              <a:t>Все на защиту родной Москвы 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8" descr="i?id=4849729&amp;tov=0"/>
          <p:cNvPicPr/>
          <p:nvPr/>
        </p:nvPicPr>
        <p:blipFill>
          <a:blip r:embed="rId1"/>
          <a:stretch/>
        </p:blipFill>
        <p:spPr>
          <a:xfrm>
            <a:off x="826920" y="4076640"/>
            <a:ext cx="1898640" cy="252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3" name="Picture 9" descr="Untitled-Scanned-01"/>
          <p:cNvPicPr/>
          <p:nvPr/>
        </p:nvPicPr>
        <p:blipFill>
          <a:blip r:embed="rId2"/>
          <a:srcRect l="0" t="0" r="0" b="3436"/>
          <a:stretch/>
        </p:blipFill>
        <p:spPr>
          <a:xfrm>
            <a:off x="4788000" y="1484280"/>
            <a:ext cx="3671640" cy="2449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4" name="Picture 10" descr="300px-Battle_of_moscow03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788000" y="4075200"/>
            <a:ext cx="3671640" cy="2517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5" name="Picture 14" descr="2232"/>
          <p:cNvPicPr/>
          <p:nvPr/>
        </p:nvPicPr>
        <p:blipFill>
          <a:blip r:embed="rId5"/>
          <a:stretch/>
        </p:blipFill>
        <p:spPr>
          <a:xfrm>
            <a:off x="826920" y="1484280"/>
            <a:ext cx="3672000" cy="2449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6" name="Picture 15" descr="150px-Kukr_kleshi_1941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2843280" y="4076640"/>
            <a:ext cx="1670040" cy="252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7" descr="02"/>
          <p:cNvPicPr/>
          <p:nvPr/>
        </p:nvPicPr>
        <p:blipFill>
          <a:blip r:embed="rId1"/>
          <a:srcRect l="3007" t="15178" r="1597" b="1253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AutoShape 8">
            <a:hlinkClick r:id="rId2" action="ppaction://hlinksldjump"/>
          </p:cNvPr>
          <p:cNvSpPr/>
          <p:nvPr/>
        </p:nvSpPr>
        <p:spPr>
          <a:xfrm>
            <a:off x="5292720" y="981000"/>
            <a:ext cx="360360" cy="360360"/>
          </a:xfrm>
          <a:custGeom>
            <a:avLst/>
            <a:gdLst>
              <a:gd name="textAreaLeft" fmla="*/ 111240 w 360360"/>
              <a:gd name="textAreaRight" fmla="*/ 249120 w 360360"/>
              <a:gd name="textAreaTop" fmla="*/ 137520 h 360360"/>
              <a:gd name="textAreaBottom" fmla="*/ 275400 h 360360"/>
            </a:gdLst>
            <a:ahLst/>
            <a:rect l="textAreaLeft" t="textAreaTop" r="textAreaRight" b="textAreaBottom"/>
            <a:pathLst>
              <a:path w="360363" h="360363">
                <a:moveTo>
                  <a:pt x="0" y="137646"/>
                </a:moveTo>
                <a:lnTo>
                  <a:pt x="137647" y="137647"/>
                </a:lnTo>
                <a:lnTo>
                  <a:pt x="180182" y="0"/>
                </a:lnTo>
                <a:lnTo>
                  <a:pt x="222716" y="137647"/>
                </a:lnTo>
                <a:lnTo>
                  <a:pt x="360363" y="137646"/>
                </a:lnTo>
                <a:lnTo>
                  <a:pt x="249004" y="222715"/>
                </a:lnTo>
                <a:lnTo>
                  <a:pt x="291540" y="360362"/>
                </a:lnTo>
                <a:lnTo>
                  <a:pt x="180182" y="275291"/>
                </a:lnTo>
                <a:lnTo>
                  <a:pt x="68823" y="360362"/>
                </a:lnTo>
                <a:lnTo>
                  <a:pt x="111359" y="222715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9"/>
          <p:cNvSpPr/>
          <p:nvPr/>
        </p:nvSpPr>
        <p:spPr>
          <a:xfrm>
            <a:off x="5724360" y="3933720"/>
            <a:ext cx="360360" cy="360360"/>
          </a:xfrm>
          <a:custGeom>
            <a:avLst/>
            <a:gdLst>
              <a:gd name="textAreaLeft" fmla="*/ 111240 w 360360"/>
              <a:gd name="textAreaRight" fmla="*/ 249120 w 360360"/>
              <a:gd name="textAreaTop" fmla="*/ 137520 h 360360"/>
              <a:gd name="textAreaBottom" fmla="*/ 275400 h 360360"/>
            </a:gdLst>
            <a:ahLst/>
            <a:rect l="textAreaLeft" t="textAreaTop" r="textAreaRight" b="textAreaBottom"/>
            <a:pathLst>
              <a:path w="360363" h="360363">
                <a:moveTo>
                  <a:pt x="0" y="137646"/>
                </a:moveTo>
                <a:lnTo>
                  <a:pt x="137647" y="137647"/>
                </a:lnTo>
                <a:lnTo>
                  <a:pt x="180182" y="0"/>
                </a:lnTo>
                <a:lnTo>
                  <a:pt x="222716" y="137647"/>
                </a:lnTo>
                <a:lnTo>
                  <a:pt x="360363" y="137646"/>
                </a:lnTo>
                <a:lnTo>
                  <a:pt x="249004" y="222715"/>
                </a:lnTo>
                <a:lnTo>
                  <a:pt x="291540" y="360362"/>
                </a:lnTo>
                <a:lnTo>
                  <a:pt x="180182" y="275291"/>
                </a:lnTo>
                <a:lnTo>
                  <a:pt x="68823" y="360362"/>
                </a:lnTo>
                <a:lnTo>
                  <a:pt x="111359" y="222715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10"/>
          <p:cNvSpPr/>
          <p:nvPr/>
        </p:nvSpPr>
        <p:spPr>
          <a:xfrm>
            <a:off x="6372360" y="1484280"/>
            <a:ext cx="360360" cy="360360"/>
          </a:xfrm>
          <a:custGeom>
            <a:avLst/>
            <a:gdLst>
              <a:gd name="textAreaLeft" fmla="*/ 111240 w 360360"/>
              <a:gd name="textAreaRight" fmla="*/ 249120 w 360360"/>
              <a:gd name="textAreaTop" fmla="*/ 137520 h 360360"/>
              <a:gd name="textAreaBottom" fmla="*/ 275400 h 360360"/>
            </a:gdLst>
            <a:ahLst/>
            <a:rect l="textAreaLeft" t="textAreaTop" r="textAreaRight" b="textAreaBottom"/>
            <a:pathLst>
              <a:path w="360363" h="360362">
                <a:moveTo>
                  <a:pt x="0" y="137646"/>
                </a:moveTo>
                <a:lnTo>
                  <a:pt x="137647" y="137647"/>
                </a:lnTo>
                <a:lnTo>
                  <a:pt x="180182" y="0"/>
                </a:lnTo>
                <a:lnTo>
                  <a:pt x="222716" y="137647"/>
                </a:lnTo>
                <a:lnTo>
                  <a:pt x="360363" y="137646"/>
                </a:lnTo>
                <a:lnTo>
                  <a:pt x="249004" y="222715"/>
                </a:lnTo>
                <a:lnTo>
                  <a:pt x="291540" y="360361"/>
                </a:lnTo>
                <a:lnTo>
                  <a:pt x="180182" y="275290"/>
                </a:lnTo>
                <a:lnTo>
                  <a:pt x="68823" y="360361"/>
                </a:lnTo>
                <a:lnTo>
                  <a:pt x="111359" y="222715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11"/>
          <p:cNvSpPr/>
          <p:nvPr/>
        </p:nvSpPr>
        <p:spPr>
          <a:xfrm>
            <a:off x="7667640" y="1268280"/>
            <a:ext cx="360360" cy="360360"/>
          </a:xfrm>
          <a:custGeom>
            <a:avLst/>
            <a:gdLst>
              <a:gd name="textAreaLeft" fmla="*/ 111240 w 360360"/>
              <a:gd name="textAreaRight" fmla="*/ 249120 w 360360"/>
              <a:gd name="textAreaTop" fmla="*/ 137520 h 360360"/>
              <a:gd name="textAreaBottom" fmla="*/ 275400 h 360360"/>
            </a:gdLst>
            <a:ahLst/>
            <a:rect l="textAreaLeft" t="textAreaTop" r="textAreaRight" b="textAreaBottom"/>
            <a:pathLst>
              <a:path w="360363" h="360362">
                <a:moveTo>
                  <a:pt x="0" y="137646"/>
                </a:moveTo>
                <a:lnTo>
                  <a:pt x="137647" y="137647"/>
                </a:lnTo>
                <a:lnTo>
                  <a:pt x="180182" y="0"/>
                </a:lnTo>
                <a:lnTo>
                  <a:pt x="222716" y="137647"/>
                </a:lnTo>
                <a:lnTo>
                  <a:pt x="360363" y="137646"/>
                </a:lnTo>
                <a:lnTo>
                  <a:pt x="249004" y="222715"/>
                </a:lnTo>
                <a:lnTo>
                  <a:pt x="291540" y="360361"/>
                </a:lnTo>
                <a:lnTo>
                  <a:pt x="180182" y="275290"/>
                </a:lnTo>
                <a:lnTo>
                  <a:pt x="68823" y="360361"/>
                </a:lnTo>
                <a:lnTo>
                  <a:pt x="111359" y="222715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12"/>
          <p:cNvSpPr/>
          <p:nvPr/>
        </p:nvSpPr>
        <p:spPr>
          <a:xfrm>
            <a:off x="5003640" y="1341360"/>
            <a:ext cx="360360" cy="360360"/>
          </a:xfrm>
          <a:custGeom>
            <a:avLst/>
            <a:gdLst>
              <a:gd name="textAreaLeft" fmla="*/ 111240 w 360360"/>
              <a:gd name="textAreaRight" fmla="*/ 249120 w 360360"/>
              <a:gd name="textAreaTop" fmla="*/ 137520 h 360360"/>
              <a:gd name="textAreaBottom" fmla="*/ 275400 h 360360"/>
            </a:gdLst>
            <a:ahLst/>
            <a:rect l="textAreaLeft" t="textAreaTop" r="textAreaRight" b="textAreaBottom"/>
            <a:pathLst>
              <a:path w="360363" h="360362">
                <a:moveTo>
                  <a:pt x="0" y="137646"/>
                </a:moveTo>
                <a:lnTo>
                  <a:pt x="137647" y="137647"/>
                </a:lnTo>
                <a:lnTo>
                  <a:pt x="180182" y="0"/>
                </a:lnTo>
                <a:lnTo>
                  <a:pt x="222716" y="137647"/>
                </a:lnTo>
                <a:lnTo>
                  <a:pt x="360363" y="137646"/>
                </a:lnTo>
                <a:lnTo>
                  <a:pt x="249004" y="222715"/>
                </a:lnTo>
                <a:lnTo>
                  <a:pt x="291540" y="360361"/>
                </a:lnTo>
                <a:lnTo>
                  <a:pt x="180182" y="275290"/>
                </a:lnTo>
                <a:lnTo>
                  <a:pt x="68823" y="360361"/>
                </a:lnTo>
                <a:lnTo>
                  <a:pt x="111359" y="222715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13"/>
          <p:cNvSpPr/>
          <p:nvPr/>
        </p:nvSpPr>
        <p:spPr>
          <a:xfrm>
            <a:off x="7667640" y="6308640"/>
            <a:ext cx="1297080" cy="360360"/>
          </a:xfrm>
          <a:custGeom>
            <a:avLst/>
            <a:gdLst>
              <a:gd name="textAreaLeft" fmla="*/ 23040 w 1297080"/>
              <a:gd name="textAreaRight" fmla="*/ 1274040 w 12970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77691" h="21600">
                <a:moveTo>
                  <a:pt x="0" y="0"/>
                </a:moveTo>
                <a:lnTo>
                  <a:pt x="77691" y="0"/>
                </a:lnTo>
                <a:lnTo>
                  <a:pt x="77691" y="21600"/>
                </a:lnTo>
                <a:lnTo>
                  <a:pt x="0" y="21600"/>
                </a:lnTo>
                <a:close/>
              </a:path>
              <a:path fill="lightenLess" w="77691" h="21600">
                <a:moveTo>
                  <a:pt x="0" y="0"/>
                </a:moveTo>
                <a:lnTo>
                  <a:pt x="77691" y="0"/>
                </a:lnTo>
                <a:lnTo>
                  <a:pt x="76291" y="1400"/>
                </a:lnTo>
                <a:lnTo>
                  <a:pt x="1400" y="1400"/>
                </a:lnTo>
                <a:close/>
              </a:path>
              <a:path fill="darken" w="77691" h="21600">
                <a:moveTo>
                  <a:pt x="77691" y="0"/>
                </a:moveTo>
                <a:lnTo>
                  <a:pt x="77691" y="21600"/>
                </a:lnTo>
                <a:lnTo>
                  <a:pt x="76291" y="20200"/>
                </a:lnTo>
                <a:lnTo>
                  <a:pt x="76291" y="1400"/>
                </a:lnTo>
                <a:close/>
              </a:path>
              <a:path fill="darkenLess" w="77691" h="21600">
                <a:moveTo>
                  <a:pt x="776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6291" y="20200"/>
                </a:lnTo>
                <a:close/>
              </a:path>
              <a:path fill="lighten" w="776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5-6 ДЕКАБРЯ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Подвиг советского наро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solidFill>
            <a:srgbClr val="ff505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К.К. Роккосовский 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генерал-лейтенан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Командующий 16-й армией в районе Волоколамс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7" descr="RokossovskyKK"/>
          <p:cNvPicPr/>
          <p:nvPr/>
        </p:nvPicPr>
        <p:blipFill>
          <a:blip r:embed="rId1"/>
          <a:stretch/>
        </p:blipFill>
        <p:spPr>
          <a:xfrm>
            <a:off x="5435640" y="1628640"/>
            <a:ext cx="3187800" cy="4537080"/>
          </a:xfrm>
          <a:prstGeom prst="rect">
            <a:avLst/>
          </a:prstGeom>
          <a:ln w="0">
            <a:noFill/>
          </a:ln>
        </p:spPr>
      </p:pic>
      <p:sp>
        <p:nvSpPr>
          <p:cNvPr id="77" name="AutoShape 8">
            <a:hlinkClick r:id="" action="ppaction://hlinkshowjump?jump=previousslide"/>
          </p:cNvPr>
          <p:cNvSpPr/>
          <p:nvPr/>
        </p:nvSpPr>
        <p:spPr>
          <a:xfrm>
            <a:off x="7812000" y="6453360"/>
            <a:ext cx="863640" cy="215640"/>
          </a:xfrm>
          <a:custGeom>
            <a:avLst/>
            <a:gdLst>
              <a:gd name="textAreaLeft" fmla="*/ 13680 w 863640"/>
              <a:gd name="textAreaRight" fmla="*/ 849960 w 86364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86400" h="21600">
                <a:moveTo>
                  <a:pt x="0" y="0"/>
                </a:moveTo>
                <a:lnTo>
                  <a:pt x="86400" y="0"/>
                </a:lnTo>
                <a:lnTo>
                  <a:pt x="86400" y="21600"/>
                </a:lnTo>
                <a:lnTo>
                  <a:pt x="0" y="21600"/>
                </a:lnTo>
                <a:close/>
              </a:path>
              <a:path fill="lightenLess" w="86400" h="21600">
                <a:moveTo>
                  <a:pt x="0" y="0"/>
                </a:moveTo>
                <a:lnTo>
                  <a:pt x="86400" y="0"/>
                </a:lnTo>
                <a:lnTo>
                  <a:pt x="85000" y="1400"/>
                </a:lnTo>
                <a:lnTo>
                  <a:pt x="1400" y="1400"/>
                </a:lnTo>
                <a:close/>
              </a:path>
              <a:path fill="darken" w="86400" h="21600">
                <a:moveTo>
                  <a:pt x="86400" y="0"/>
                </a:moveTo>
                <a:lnTo>
                  <a:pt x="86400" y="21600"/>
                </a:lnTo>
                <a:lnTo>
                  <a:pt x="85000" y="20200"/>
                </a:lnTo>
                <a:lnTo>
                  <a:pt x="85000" y="1400"/>
                </a:lnTo>
                <a:close/>
              </a:path>
              <a:path fill="darkenLess" w="86400" h="21600">
                <a:moveTo>
                  <a:pt x="86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5000" y="20200"/>
                </a:lnTo>
                <a:close/>
              </a:path>
              <a:path fill="lighten" w="86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6400" h="21600">
                <a:moveTo>
                  <a:pt x="36194" y="7493"/>
                </a:moveTo>
                <a:lnTo>
                  <a:pt x="39701" y="7493"/>
                </a:lnTo>
                <a:lnTo>
                  <a:pt x="39701" y="12828"/>
                </a:lnTo>
                <a:cubicBezTo>
                  <a:pt x="39701" y="13751"/>
                  <a:pt x="40502" y="14482"/>
                  <a:pt x="41538" y="14482"/>
                </a:cubicBezTo>
                <a:lnTo>
                  <a:pt x="43200" y="14482"/>
                </a:lnTo>
                <a:cubicBezTo>
                  <a:pt x="44236" y="14482"/>
                  <a:pt x="45036" y="13751"/>
                  <a:pt x="45036" y="12828"/>
                </a:cubicBezTo>
                <a:lnTo>
                  <a:pt x="45036" y="7493"/>
                </a:lnTo>
                <a:lnTo>
                  <a:pt x="43200" y="7493"/>
                </a:lnTo>
                <a:lnTo>
                  <a:pt x="46708" y="3985"/>
                </a:lnTo>
                <a:lnTo>
                  <a:pt x="50381" y="7493"/>
                </a:lnTo>
                <a:lnTo>
                  <a:pt x="48544" y="7493"/>
                </a:lnTo>
                <a:lnTo>
                  <a:pt x="48544" y="12828"/>
                </a:lnTo>
                <a:cubicBezTo>
                  <a:pt x="48544" y="15596"/>
                  <a:pt x="45968" y="18155"/>
                  <a:pt x="43200" y="18155"/>
                </a:cubicBezTo>
                <a:lnTo>
                  <a:pt x="41538" y="18155"/>
                </a:lnTo>
                <a:cubicBezTo>
                  <a:pt x="38770" y="18155"/>
                  <a:pt x="36194" y="15596"/>
                  <a:pt x="361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4" descr="t3485"/>
          <p:cNvPicPr/>
          <p:nvPr/>
        </p:nvPicPr>
        <p:blipFill>
          <a:blip r:embed="rId1"/>
          <a:stretch/>
        </p:blipFill>
        <p:spPr>
          <a:xfrm>
            <a:off x="1403280" y="765000"/>
            <a:ext cx="6337440" cy="4615200"/>
          </a:xfrm>
          <a:prstGeom prst="rect">
            <a:avLst/>
          </a:prstGeom>
          <a:ln w="9360">
            <a:solidFill>
              <a:srgbClr val="0066ff"/>
            </a:solidFill>
            <a:miter/>
          </a:ln>
        </p:spPr>
      </p:pic>
      <p:sp>
        <p:nvSpPr>
          <p:cNvPr id="79" name="WordArt 5"/>
          <p:cNvSpPr txBox="1"/>
          <p:nvPr/>
        </p:nvSpPr>
        <p:spPr>
          <a:xfrm>
            <a:off x="4067280" y="5661000"/>
            <a:ext cx="9619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 - 34</a:t>
            </a:r>
            <a:endParaRPr b="1" lang="en-US" sz="2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0" name="AutoShape 6">
            <a:hlinkClick r:id="" action="ppaction://hlinkshowjump?jump=previousslide"/>
          </p:cNvPr>
          <p:cNvSpPr/>
          <p:nvPr/>
        </p:nvSpPr>
        <p:spPr>
          <a:xfrm>
            <a:off x="8244000" y="6237360"/>
            <a:ext cx="720720" cy="360360"/>
          </a:xfrm>
          <a:custGeom>
            <a:avLst/>
            <a:gdLst>
              <a:gd name="textAreaLeft" fmla="*/ 23040 w 720720"/>
              <a:gd name="textAreaRight" fmla="*/ 697680 w 7207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178" h="21600">
                <a:moveTo>
                  <a:pt x="0" y="0"/>
                </a:moveTo>
                <a:lnTo>
                  <a:pt x="43178" y="0"/>
                </a:lnTo>
                <a:lnTo>
                  <a:pt x="43178" y="21600"/>
                </a:lnTo>
                <a:lnTo>
                  <a:pt x="0" y="21600"/>
                </a:lnTo>
                <a:close/>
              </a:path>
              <a:path fill="lightenLess" w="43178" h="21600">
                <a:moveTo>
                  <a:pt x="0" y="0"/>
                </a:moveTo>
                <a:lnTo>
                  <a:pt x="43178" y="0"/>
                </a:lnTo>
                <a:lnTo>
                  <a:pt x="41778" y="1400"/>
                </a:lnTo>
                <a:lnTo>
                  <a:pt x="1400" y="1400"/>
                </a:lnTo>
                <a:close/>
              </a:path>
              <a:path fill="darken" w="43178" h="21600">
                <a:moveTo>
                  <a:pt x="43178" y="0"/>
                </a:moveTo>
                <a:lnTo>
                  <a:pt x="43178" y="21600"/>
                </a:lnTo>
                <a:lnTo>
                  <a:pt x="41778" y="20200"/>
                </a:lnTo>
                <a:lnTo>
                  <a:pt x="41778" y="1400"/>
                </a:lnTo>
                <a:close/>
              </a:path>
              <a:path fill="darkenLess" w="43178" h="21600">
                <a:moveTo>
                  <a:pt x="431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78" y="20200"/>
                </a:lnTo>
                <a:close/>
              </a:path>
              <a:path fill="lighten" w="431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78" h="21600">
                <a:moveTo>
                  <a:pt x="14583" y="7493"/>
                </a:moveTo>
                <a:lnTo>
                  <a:pt x="18090" y="7493"/>
                </a:lnTo>
                <a:lnTo>
                  <a:pt x="18090" y="12828"/>
                </a:lnTo>
                <a:cubicBezTo>
                  <a:pt x="18090" y="13751"/>
                  <a:pt x="18891" y="14482"/>
                  <a:pt x="19927" y="14482"/>
                </a:cubicBezTo>
                <a:lnTo>
                  <a:pt x="21589" y="14482"/>
                </a:lnTo>
                <a:cubicBezTo>
                  <a:pt x="22625" y="14482"/>
                  <a:pt x="23426" y="13751"/>
                  <a:pt x="23426" y="12828"/>
                </a:cubicBezTo>
                <a:lnTo>
                  <a:pt x="23426" y="7493"/>
                </a:lnTo>
                <a:lnTo>
                  <a:pt x="21589" y="7493"/>
                </a:lnTo>
                <a:lnTo>
                  <a:pt x="25097" y="3985"/>
                </a:lnTo>
                <a:lnTo>
                  <a:pt x="28770" y="7493"/>
                </a:lnTo>
                <a:lnTo>
                  <a:pt x="26933" y="7493"/>
                </a:lnTo>
                <a:lnTo>
                  <a:pt x="26933" y="12828"/>
                </a:lnTo>
                <a:cubicBezTo>
                  <a:pt x="26933" y="15596"/>
                  <a:pt x="24357" y="18155"/>
                  <a:pt x="21589" y="18155"/>
                </a:cubicBezTo>
                <a:lnTo>
                  <a:pt x="19927" y="18155"/>
                </a:lnTo>
                <a:cubicBezTo>
                  <a:pt x="17159" y="18155"/>
                  <a:pt x="14583" y="15596"/>
                  <a:pt x="14583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800px-PODOLSK-3"/>
          <p:cNvPicPr/>
          <p:nvPr/>
        </p:nvPicPr>
        <p:blipFill>
          <a:blip r:embed="rId1"/>
          <a:stretch/>
        </p:blipFill>
        <p:spPr>
          <a:xfrm>
            <a:off x="611280" y="260280"/>
            <a:ext cx="7920000" cy="5515200"/>
          </a:xfrm>
          <a:prstGeom prst="rect">
            <a:avLst/>
          </a:prstGeom>
          <a:ln w="9360">
            <a:solidFill>
              <a:srgbClr val="0066ff"/>
            </a:solidFill>
            <a:miter/>
          </a:ln>
        </p:spPr>
      </p:pic>
      <p:sp>
        <p:nvSpPr>
          <p:cNvPr id="82" name="WordArt 5"/>
          <p:cNvSpPr txBox="1"/>
          <p:nvPr/>
        </p:nvSpPr>
        <p:spPr>
          <a:xfrm>
            <a:off x="395280" y="5950080"/>
            <a:ext cx="8353440" cy="42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амятник курсантам подольских училищ</a:t>
            </a:r>
            <a:endParaRPr b="1" lang="en-US" sz="2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3" name="AutoShape 6">
            <a:hlinkClick r:id="" action="ppaction://hlinkshowjump?jump=previousslide"/>
          </p:cNvPr>
          <p:cNvSpPr/>
          <p:nvPr/>
        </p:nvSpPr>
        <p:spPr>
          <a:xfrm>
            <a:off x="8244000" y="6453360"/>
            <a:ext cx="720720" cy="260280"/>
          </a:xfrm>
          <a:custGeom>
            <a:avLst/>
            <a:gdLst>
              <a:gd name="textAreaLeft" fmla="*/ 16560 w 720720"/>
              <a:gd name="textAreaRight" fmla="*/ 704160 w 720720"/>
              <a:gd name="textAreaTop" fmla="*/ 16560 h 260280"/>
              <a:gd name="textAreaBottom" fmla="*/ 243720 h 260280"/>
            </a:gdLst>
            <a:ahLst/>
            <a:rect l="textAreaLeft" t="textAreaTop" r="textAreaRight" b="textAreaBottom"/>
            <a:pathLst>
              <a:path w="59758" h="21600">
                <a:moveTo>
                  <a:pt x="0" y="0"/>
                </a:moveTo>
                <a:lnTo>
                  <a:pt x="59758" y="0"/>
                </a:lnTo>
                <a:lnTo>
                  <a:pt x="59758" y="21600"/>
                </a:lnTo>
                <a:lnTo>
                  <a:pt x="0" y="21600"/>
                </a:lnTo>
                <a:close/>
              </a:path>
              <a:path fill="lightenLess" w="59758" h="21600">
                <a:moveTo>
                  <a:pt x="0" y="0"/>
                </a:moveTo>
                <a:lnTo>
                  <a:pt x="59758" y="0"/>
                </a:lnTo>
                <a:lnTo>
                  <a:pt x="58358" y="1400"/>
                </a:lnTo>
                <a:lnTo>
                  <a:pt x="1400" y="1400"/>
                </a:lnTo>
                <a:close/>
              </a:path>
              <a:path fill="darken" w="59758" h="21600">
                <a:moveTo>
                  <a:pt x="59758" y="0"/>
                </a:moveTo>
                <a:lnTo>
                  <a:pt x="59758" y="21600"/>
                </a:lnTo>
                <a:lnTo>
                  <a:pt x="58358" y="20200"/>
                </a:lnTo>
                <a:lnTo>
                  <a:pt x="58358" y="1400"/>
                </a:lnTo>
                <a:close/>
              </a:path>
              <a:path fill="darkenLess" w="59758" h="21600">
                <a:moveTo>
                  <a:pt x="597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358" y="20200"/>
                </a:lnTo>
                <a:close/>
              </a:path>
              <a:path fill="lighten" w="597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9758" h="21600">
                <a:moveTo>
                  <a:pt x="22873" y="7493"/>
                </a:moveTo>
                <a:lnTo>
                  <a:pt x="26380" y="7493"/>
                </a:lnTo>
                <a:lnTo>
                  <a:pt x="26380" y="12828"/>
                </a:lnTo>
                <a:cubicBezTo>
                  <a:pt x="26380" y="13751"/>
                  <a:pt x="27181" y="14482"/>
                  <a:pt x="28217" y="14482"/>
                </a:cubicBezTo>
                <a:lnTo>
                  <a:pt x="29879" y="14482"/>
                </a:lnTo>
                <a:cubicBezTo>
                  <a:pt x="30915" y="14482"/>
                  <a:pt x="31715" y="13751"/>
                  <a:pt x="31715" y="12828"/>
                </a:cubicBezTo>
                <a:lnTo>
                  <a:pt x="31715" y="7493"/>
                </a:lnTo>
                <a:lnTo>
                  <a:pt x="29879" y="7493"/>
                </a:lnTo>
                <a:lnTo>
                  <a:pt x="33387" y="3985"/>
                </a:lnTo>
                <a:lnTo>
                  <a:pt x="37060" y="7493"/>
                </a:lnTo>
                <a:lnTo>
                  <a:pt x="35223" y="7493"/>
                </a:lnTo>
                <a:lnTo>
                  <a:pt x="35223" y="12828"/>
                </a:lnTo>
                <a:cubicBezTo>
                  <a:pt x="35223" y="15596"/>
                  <a:pt x="32647" y="18155"/>
                  <a:pt x="29879" y="18155"/>
                </a:cubicBezTo>
                <a:lnTo>
                  <a:pt x="28217" y="18155"/>
                </a:lnTo>
                <a:cubicBezTo>
                  <a:pt x="25449" y="18155"/>
                  <a:pt x="22873" y="15596"/>
                  <a:pt x="22873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6T06:14:33Z</dcterms:created>
  <dc:creator>Директор</dc:creator>
  <dc:description/>
  <dc:language>en-US</dc:language>
  <cp:lastModifiedBy> </cp:lastModifiedBy>
  <dcterms:modified xsi:type="dcterms:W3CDTF">2004-12-31T23:05:03Z</dcterms:modified>
  <cp:revision>17</cp:revision>
  <dc:subject/>
  <dc:title>Битва под Москвой. Разгром немецко-фашистских войск под</dc:title>
</cp:coreProperties>
</file>