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4F3-9722-4F24-ACB3-EADC7559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DBA-8F1D-4653-ACE7-762CBA8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C87-2DF2-49EE-B068-FA2B3DBD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D77-6BA6-48A0-946C-8BB24AD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A69-17D2-4053-813D-DCF9C988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5E2-24C2-490C-B300-A93C309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D3BD-8D83-41B3-8422-6474C49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8DE3-4306-4977-9723-6CCE166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26F4-C0C0-4BF1-A29E-A24ABFC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713D-3DBE-4209-B6AC-117A120B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303F-4C8E-4F20-BCB0-1E938F3F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F5E-3117-49A0-A598-B840B98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6F1-779B-4A54-AE24-F369187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C52-BCD6-4EE4-83B1-F861A1E1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1E4-06C0-4F06-A2D5-2D7EBCE1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6237-7010-41FE-A48A-23907466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E28-6B16-49EE-8A4F-CE3E6BF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F66-100F-4B4A-B4C7-61F6136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CD7-A4BE-4EBF-9671-CAD6C39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859-520D-4585-B3E2-F8DCD66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86E-BED7-4C9F-8E85-782BF9CE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261-0C30-4487-B5C3-6EDDF11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789-6432-4B5D-87FA-86D38326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7F9-A210-42C5-96CB-4AA9DFB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944-A754-449D-B5AF-2C285A4EA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C142-6316-49ED-B4DF-08A2A64E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Что мы знаем о грибах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987640" y="2637000"/>
            <a:ext cx="56880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цы 3 кла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«Синьковская СОШ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ровольская Валер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одкова Вале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: Сапроненкова Е.А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5229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ленск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пенок ложный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ерно - желт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жа на шляпке совершенно гладкая, серно- жёлтого цв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якоть у гриба горькая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иб несъедоб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6288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314520" cy="2886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 advTm="20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елый гриб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якоть белая, под кожей шляпки – бледно-розовая или красноват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х приятный, вкус мяг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иб съедоб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06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35910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20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Желчный гриб 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(ложный белый гриб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360" y="1657080"/>
            <a:ext cx="3598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якоть мягкая, водянистая, беловатая. Под кожей шляпки коричнево-зелёноват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х – слабый, вкус - очень горький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иб несъедоб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440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257640" cy="29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20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830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23767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544356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37672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74516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835280" y="4508640"/>
            <a:ext cx="2592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7881840" y="314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Назовите эти грибы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Какие из них съедобные, а какие несъедобные?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796000" y="4149720"/>
            <a:ext cx="24494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30000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авила сбора грибов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Грибы надо собирать только знакомые, те, в которых ты уверен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Не собирай грибы возле дорог и предприятий. В них много вредных веще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Срезай грибы нож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Не собирай старые гриб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Если гриб тебе не нужен, не трогай его, оставь живот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Будьте внимательны при сборе грибов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2614680" cy="1322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836640"/>
            <a:ext cx="66279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ельн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6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206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Загадки о гриба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4026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альчик с пальчик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Шапка красна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в красной шапочке раст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реди корней осиновых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ня увидишь за версту 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овусь я -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3760" y="578520"/>
            <a:ext cx="6933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т грибов дружней, чем эти, 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ют взрослые и дети 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 пеньках растут в лесу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к веснушки на но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Что за ребятки на пенька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толпились тесной кучкой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 держат зонтики в руках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стигнутые тучко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19928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Цель работы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гриб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виды грибов существую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ва роль грибов в приро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грибы съедобны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грибы несъедобны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вила сбора гриб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83320" y="812160"/>
            <a:ext cx="63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н в лесу стоял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икто его не брал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 красной шапке модной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икуда не годны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28760" y="885240"/>
            <a:ext cx="56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шёл мужик в сосняк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шёл слизняк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росить - жалко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ъесть - сыр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оверь себя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Подосинов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Опя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Мухом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Грузд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7756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одставь в кроссворде названия грибов так, чтобы получилось ключевое слово «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БОРОВИК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5640" y="2852640"/>
            <a:ext cx="7561080" cy="3312720"/>
            <a:chOff x="755640" y="2852640"/>
            <a:chExt cx="7561080" cy="3312720"/>
          </a:xfrm>
        </p:grpSpPr>
        <p:sp>
          <p:nvSpPr>
            <p:cNvPr id="211" name=""/>
            <p:cNvSpPr/>
            <p:nvPr/>
          </p:nvSpPr>
          <p:spPr>
            <a:xfrm>
              <a:off x="300564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06360" y="28526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600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6720" y="28526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528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0600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564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5636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6720" y="28526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5280" y="28526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54920" y="28526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55640" y="28526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333972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5640" y="333972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720" y="333972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5640" y="577440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5280" y="333972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5640" y="333972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6000" y="333972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5280" y="431460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5600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06360" y="382716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6720" y="382716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0528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564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600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636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6720" y="382716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6360" y="431460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06000" y="431460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5640" y="431460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6720" y="431460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5280" y="48020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672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5640" y="48020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0600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5636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0672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5280" y="48020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05640" y="48020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6000" y="4802040"/>
              <a:ext cx="36072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0636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5640" y="480204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528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0564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600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06360" y="5286960"/>
              <a:ext cx="36108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4920" y="431208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56720" y="5286960"/>
              <a:ext cx="36108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5636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0600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564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5280" y="528696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06360" y="5774400"/>
              <a:ext cx="36108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05280" y="577440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56720" y="5774400"/>
              <a:ext cx="36108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6720" y="5774400"/>
              <a:ext cx="36108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5280" y="577440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6360" y="3339720"/>
              <a:ext cx="361080" cy="39024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6000" y="5774400"/>
              <a:ext cx="360720" cy="3909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оверь себя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Подберёзов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Мухом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Сыроеж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Опё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Подосинов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Шампинь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Лиси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Мы использовали: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Экология – познавательная энциклопед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Интернет ресурсы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 spd="slow" advTm="16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 исследования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ить знания о гриб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ерить свои зн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пользовать знания в жизн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работать памятку «Как собирать гриб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Грибы  - это третье царство природы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492280"/>
            <a:ext cx="647640" cy="1368360"/>
          </a:xfrm>
          <a:prstGeom prst="downArrow">
            <a:avLst>
              <a:gd name="adj1" fmla="val 50000"/>
              <a:gd name="adj2" fmla="val 5282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1700280"/>
            <a:ext cx="5759640" cy="7920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6000" y="17668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0" y="2492280"/>
            <a:ext cx="648000" cy="1368360"/>
          </a:xfrm>
          <a:prstGeom prst="downArrow">
            <a:avLst>
              <a:gd name="adj1" fmla="val 50000"/>
              <a:gd name="adj2" fmla="val 5279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2492280"/>
            <a:ext cx="647640" cy="1368360"/>
          </a:xfrm>
          <a:prstGeom prst="downArrow">
            <a:avLst>
              <a:gd name="adj1" fmla="val 50000"/>
              <a:gd name="adj2" fmla="val 5282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492280"/>
            <a:ext cx="647640" cy="1368360"/>
          </a:xfrm>
          <a:prstGeom prst="downArrow">
            <a:avLst>
              <a:gd name="adj1" fmla="val 50000"/>
              <a:gd name="adj2" fmla="val 5282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3933720"/>
            <a:ext cx="2017800" cy="2519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3933720"/>
            <a:ext cx="2017800" cy="2519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3933720"/>
            <a:ext cx="2017440" cy="2519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933720"/>
            <a:ext cx="2017440" cy="2519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3280" y="4581360"/>
            <a:ext cx="1657440" cy="172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89080" y="392760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и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84360" y="4653000"/>
            <a:ext cx="1727280" cy="1631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0720" y="39988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70880" y="4033800"/>
            <a:ext cx="2055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животн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3800" y="39877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акте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875640" y="479736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Из каких частей состоит гриб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ибы – это одна из самых больших и процветающих групп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00 известных видов грибов живут на зем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Monotype Corsiva"/>
              </a:rPr>
              <a:t>Грибы есть всюду: в воздухе, в воде, в поч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4352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43280" y="5805360"/>
            <a:ext cx="403236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2205000"/>
            <a:ext cx="1008000" cy="36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шля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997360"/>
            <a:ext cx="1008000" cy="36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789360"/>
            <a:ext cx="1008000" cy="36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гриб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2781360"/>
            <a:ext cx="1079640" cy="576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лод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И это тоже гриб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ожжевые грибы              Кефирные гри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ницил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024000" cy="1733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881080" cy="1742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Пенициллин"/>
          <p:cNvPicPr/>
          <p:nvPr/>
        </p:nvPicPr>
        <p:blipFill>
          <a:blip r:embed="rId3"/>
          <a:stretch/>
        </p:blipFill>
        <p:spPr>
          <a:xfrm>
            <a:off x="5076720" y="450864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Александр Флеминг впервые явил публике свое открытие — пенициллин"/>
          <p:cNvPicPr/>
          <p:nvPr/>
        </p:nvPicPr>
        <p:blipFill>
          <a:blip r:embed="rId4"/>
          <a:stretch/>
        </p:blipFill>
        <p:spPr>
          <a:xfrm>
            <a:off x="2771640" y="4437000"/>
            <a:ext cx="2232000" cy="1854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оль грибов в природе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Грибы приносят пользу природ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ибы разрушают остатки живых организмов и способствуют образованию перегно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которые грибы помогают растениям впитывать из почвы воду и со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ибами питаются многие живот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некоторых грибов делают лекар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ъедобные грибы человек употребляет в пищ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2560" y="333360"/>
            <a:ext cx="72741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ибы делят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   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ъедобные и несъедобные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19928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781" t="0" r="0" b="0"/>
          <a:stretch/>
        </p:blipFill>
        <p:spPr>
          <a:xfrm>
            <a:off x="5796000" y="3789360"/>
            <a:ext cx="182232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пенок настоящий осенни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6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ляпка от коричневого до жёлтого цв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пожевать мякоть гриба, то почувствуется приятный вку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иб съедоб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92840" y="28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095640" cy="4105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 advTm="20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09:19Z</dcterms:created>
  <dc:creator>Пользователь</dc:creator>
  <dc:description/>
  <dc:language>en-US</dc:language>
  <cp:lastModifiedBy>1</cp:lastModifiedBy>
  <dcterms:modified xsi:type="dcterms:W3CDTF">2013-10-03T20:58:46Z</dcterms:modified>
  <cp:revision>9</cp:revision>
  <dc:subject/>
  <dc:title>Выпускная работа</dc:title>
</cp:coreProperties>
</file>