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756775" cy="72723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F55F-A12E-4542-A1A4-E1D673554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31880" y="162000"/>
            <a:ext cx="7331040" cy="16970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4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31520" y="1939680"/>
            <a:ext cx="8211960" cy="1849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31520" y="3965400"/>
            <a:ext cx="8211960" cy="1849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E8F7-E7DA-458D-A72B-F721CBF0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1880" y="162000"/>
            <a:ext cx="7331040" cy="16970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4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1520" y="1939680"/>
            <a:ext cx="4007160" cy="1849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39560" y="1939680"/>
            <a:ext cx="4007160" cy="1849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31520" y="3965400"/>
            <a:ext cx="4007160" cy="1849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39560" y="3965400"/>
            <a:ext cx="4007160" cy="1849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2460-31A0-42B4-B584-456A763AB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31880" y="162000"/>
            <a:ext cx="7331040" cy="16970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4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31520" y="1939680"/>
            <a:ext cx="2643840" cy="1849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7840" y="1939680"/>
            <a:ext cx="2643840" cy="1849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84520" y="1939680"/>
            <a:ext cx="2643840" cy="1849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31520" y="3965400"/>
            <a:ext cx="2643840" cy="1849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07840" y="3965400"/>
            <a:ext cx="2643840" cy="1849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84520" y="3965400"/>
            <a:ext cx="2643840" cy="1849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7B2F-568D-4F13-A759-0114F9B09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4CD5B-31B7-4FF0-9B0F-CDA291890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31880" y="162000"/>
            <a:ext cx="7331040" cy="16970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4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731520" y="1939680"/>
            <a:ext cx="821196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A988-CCEE-4C59-902F-78D062BE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31880" y="162000"/>
            <a:ext cx="7331040" cy="16970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4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31520" y="1939680"/>
            <a:ext cx="8211960" cy="38782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5A58-4287-4593-81CE-B84C7E14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31880" y="162000"/>
            <a:ext cx="7331040" cy="16970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4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31520" y="1939680"/>
            <a:ext cx="4007160" cy="38782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39560" y="1939680"/>
            <a:ext cx="4007160" cy="38782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DD0D-8A68-4E03-B431-17A1310C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31880" y="162000"/>
            <a:ext cx="7331040" cy="16970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4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2C77-A014-46E2-867D-0B47D4EF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731880" y="162000"/>
            <a:ext cx="7331040" cy="786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BA08-4E70-4180-A7B6-71BCBFFA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31880" y="162000"/>
            <a:ext cx="7331040" cy="16970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4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31520" y="1939680"/>
            <a:ext cx="4007160" cy="1849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39560" y="1939680"/>
            <a:ext cx="4007160" cy="38782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31520" y="3965400"/>
            <a:ext cx="4007160" cy="1849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8D38-8B7D-45CA-B53D-01A10B80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1880" y="162000"/>
            <a:ext cx="7331040" cy="16970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4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31520" y="1939680"/>
            <a:ext cx="821196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9AF3-97D1-412D-87D9-F76F900F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31880" y="162000"/>
            <a:ext cx="7331040" cy="16970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4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31520" y="1939680"/>
            <a:ext cx="4007160" cy="38782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39560" y="1939680"/>
            <a:ext cx="4007160" cy="1849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939560" y="3965400"/>
            <a:ext cx="4007160" cy="1849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6C4B-6ECD-40A1-A494-E08508C8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31880" y="162000"/>
            <a:ext cx="7331040" cy="16970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4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31520" y="1939680"/>
            <a:ext cx="4007160" cy="1849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39560" y="1939680"/>
            <a:ext cx="4007160" cy="1849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31520" y="3965400"/>
            <a:ext cx="8211960" cy="1849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4C55-9862-49F2-9480-5EEBD88F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31880" y="162000"/>
            <a:ext cx="7331040" cy="16970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4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31520" y="1939680"/>
            <a:ext cx="8211960" cy="1849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731520" y="3965400"/>
            <a:ext cx="8211960" cy="1849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B51A-C80F-4760-B668-99AABC54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31880" y="162000"/>
            <a:ext cx="7331040" cy="16970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4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31520" y="1939680"/>
            <a:ext cx="4007160" cy="1849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39560" y="1939680"/>
            <a:ext cx="4007160" cy="1849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31520" y="3965400"/>
            <a:ext cx="4007160" cy="1849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939560" y="3965400"/>
            <a:ext cx="4007160" cy="1849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056C-A647-4016-80A4-05D6E4796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31880" y="162000"/>
            <a:ext cx="7331040" cy="16970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4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31520" y="1939680"/>
            <a:ext cx="2643840" cy="1849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07840" y="1939680"/>
            <a:ext cx="2643840" cy="1849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4520" y="1939680"/>
            <a:ext cx="2643840" cy="1849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731520" y="3965400"/>
            <a:ext cx="2643840" cy="1849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07840" y="3965400"/>
            <a:ext cx="2643840" cy="1849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284520" y="3965400"/>
            <a:ext cx="2643840" cy="1849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DBEF-95EF-4F71-86C0-5E0037E98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1880" y="162000"/>
            <a:ext cx="7331040" cy="16970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4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1520" y="1939680"/>
            <a:ext cx="8211960" cy="38782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5929-B119-472E-A6DC-A8FC36A4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1880" y="162000"/>
            <a:ext cx="7331040" cy="16970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4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1520" y="1939680"/>
            <a:ext cx="4007160" cy="38782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39560" y="1939680"/>
            <a:ext cx="4007160" cy="38782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E099-7EDA-44C4-9E7D-54C7FF3C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31880" y="162000"/>
            <a:ext cx="7331040" cy="16970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4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7C00-73FE-423C-8518-397C9428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31880" y="162000"/>
            <a:ext cx="7331040" cy="786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DBDA-9706-499C-A7E7-CCCA4844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31880" y="162000"/>
            <a:ext cx="7331040" cy="16970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4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1520" y="1939680"/>
            <a:ext cx="4007160" cy="1849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39560" y="1939680"/>
            <a:ext cx="4007160" cy="38782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31520" y="3965400"/>
            <a:ext cx="4007160" cy="1849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2FEE-E89F-49F4-9B22-AD38406D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1880" y="162000"/>
            <a:ext cx="7331040" cy="16970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4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1520" y="1939680"/>
            <a:ext cx="4007160" cy="38782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39560" y="1939680"/>
            <a:ext cx="4007160" cy="1849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39560" y="3965400"/>
            <a:ext cx="4007160" cy="1849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83E9-D8F5-430E-87C2-223209E4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1880" y="162000"/>
            <a:ext cx="7331040" cy="16970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4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1520" y="1939680"/>
            <a:ext cx="4007160" cy="1849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39560" y="1939680"/>
            <a:ext cx="4007160" cy="1849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31520" y="3965400"/>
            <a:ext cx="8211960" cy="1849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5EF1-F33A-4648-8EB3-F0D0908A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8303040" y="-23040"/>
            <a:ext cx="1231920" cy="222408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31880" y="162000"/>
            <a:ext cx="7331040" cy="16970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1520" y="1939680"/>
            <a:ext cx="8211960" cy="38782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 fontScale="88000"/>
          </a:bodyPr>
          <a:p>
            <a:pPr marL="321120" indent="-321120"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695520" indent="-268200">
              <a:spcBef>
                <a:spcPts val="850"/>
              </a:spcBef>
              <a:buClr>
                <a:srgbClr val="000000"/>
              </a:buClr>
              <a:buFont typeface="Comic Sans MS"/>
              <a:buChar char="–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2" marL="1069920" indent="-213840"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3" marL="1499040" indent="-214920">
              <a:spcBef>
                <a:spcPts val="850"/>
              </a:spcBef>
              <a:buClr>
                <a:srgbClr val="000000"/>
              </a:buClr>
              <a:buFont typeface="Comic Sans MS"/>
              <a:buChar char="–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4" marL="1926360" indent="-213840">
              <a:spcBef>
                <a:spcPts val="850"/>
              </a:spcBef>
              <a:buClr>
                <a:srgbClr val="000000"/>
              </a:buClr>
              <a:buFont typeface="Comic Sans MS"/>
              <a:buChar char="»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5" marL="1926360" indent="-213840">
              <a:spcBef>
                <a:spcPts val="850"/>
              </a:spcBef>
              <a:buClr>
                <a:srgbClr val="000000"/>
              </a:buClr>
              <a:buFont typeface="Comic Sans MS"/>
              <a:buChar char="»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6" marL="1926360" indent="-213840">
              <a:spcBef>
                <a:spcPts val="850"/>
              </a:spcBef>
              <a:buClr>
                <a:srgbClr val="000000"/>
              </a:buClr>
              <a:buFont typeface="Comic Sans MS"/>
              <a:buChar char="»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463760" y="6625800"/>
            <a:ext cx="203184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  <a:defRPr b="0" lang="en-US" sz="15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94040" y="6625800"/>
            <a:ext cx="308952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  <a:defRPr b="0" lang="en-US" sz="15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8680" y="6625800"/>
            <a:ext cx="203220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  <a:defRPr b="0" lang="en-US" sz="15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1EADEC3A-103D-4BAA-BA63-8AA6A3D2A143}" type="slidenum">
              <a:rPr b="0" lang="en-US" sz="15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8396280" y="18720"/>
            <a:ext cx="1235160" cy="223812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8358480" y="198720"/>
            <a:ext cx="1087560" cy="167652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875200"/>
            <a:ext cx="1904040" cy="1320480"/>
            <a:chOff x="7920" y="5875200"/>
            <a:chExt cx="1904040" cy="1320480"/>
          </a:xfrm>
        </p:grpSpPr>
        <p:sp>
          <p:nvSpPr>
            <p:cNvPr id="9" name=""/>
            <p:cNvSpPr/>
            <p:nvPr/>
          </p:nvSpPr>
          <p:spPr>
            <a:xfrm>
              <a:off x="39960" y="5900040"/>
              <a:ext cx="1845360" cy="109188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731600" y="6030000"/>
              <a:ext cx="120240" cy="21636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3120" y="6352560"/>
              <a:ext cx="1342440" cy="689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17800" y="6409800"/>
              <a:ext cx="889560" cy="6289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21520" y="5945760"/>
              <a:ext cx="228600" cy="20340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85760" y="7007400"/>
              <a:ext cx="128520" cy="18828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3560" y="6071760"/>
              <a:ext cx="326880" cy="644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1480" y="6043320"/>
              <a:ext cx="616680" cy="2923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87160" y="6216480"/>
              <a:ext cx="264240" cy="11268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875200"/>
              <a:ext cx="1904040" cy="1311120"/>
              <a:chOff x="7920" y="5875200"/>
              <a:chExt cx="1904040" cy="131112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844560" y="5995800"/>
                <a:ext cx="928080" cy="1190520"/>
                <a:chOff x="844560" y="5995800"/>
                <a:chExt cx="928080" cy="119052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844560" y="6037920"/>
                  <a:ext cx="266040" cy="14580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76760" y="6962760"/>
                  <a:ext cx="194400" cy="2235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699920" y="5995800"/>
                  <a:ext cx="72720" cy="1965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8160" y="6282000"/>
                <a:ext cx="1008000" cy="4204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39920" y="6541200"/>
                <a:ext cx="413280" cy="24876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956520" y="6194520"/>
                <a:ext cx="181080" cy="39996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875200"/>
                <a:ext cx="1904040" cy="1140120"/>
                <a:chOff x="7920" y="5875200"/>
                <a:chExt cx="1904040" cy="114012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132560" y="6813720"/>
                  <a:ext cx="127080" cy="14580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6275160"/>
                  <a:ext cx="1426320" cy="7401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78560" y="6346080"/>
                  <a:ext cx="135360" cy="28044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59960" y="5875200"/>
                  <a:ext cx="545400" cy="9986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78480" y="6143760"/>
                  <a:ext cx="162360" cy="42408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54760" y="6110280"/>
                  <a:ext cx="330120" cy="2271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114200" y="5955840"/>
                  <a:ext cx="797760" cy="3560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213920" y="6069960"/>
                  <a:ext cx="414720" cy="14472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9261000" y="2244600"/>
            <a:ext cx="412560" cy="4568760"/>
            <a:chOff x="9261000" y="2244600"/>
            <a:chExt cx="412560" cy="4568760"/>
          </a:xfrm>
        </p:grpSpPr>
        <p:sp>
          <p:nvSpPr>
            <p:cNvPr id="36" name=""/>
            <p:cNvSpPr/>
            <p:nvPr/>
          </p:nvSpPr>
          <p:spPr>
            <a:xfrm flipH="1">
              <a:off x="9260640" y="4411080"/>
              <a:ext cx="348120" cy="24022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9325080" y="2244600"/>
              <a:ext cx="348120" cy="27489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654680" y="-97200"/>
            <a:ext cx="2584080" cy="2390400"/>
            <a:chOff x="7654680" y="-97200"/>
            <a:chExt cx="2584080" cy="2390400"/>
          </a:xfrm>
        </p:grpSpPr>
        <p:grpSp>
          <p:nvGrpSpPr>
            <p:cNvPr id="39" name=""/>
            <p:cNvGrpSpPr/>
            <p:nvPr/>
          </p:nvGrpSpPr>
          <p:grpSpPr>
            <a:xfrm>
              <a:off x="7654680" y="-97200"/>
              <a:ext cx="2584080" cy="2390400"/>
              <a:chOff x="7654680" y="-97200"/>
              <a:chExt cx="2584080" cy="239040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9197280" y="1825560"/>
                <a:ext cx="104400" cy="4878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654680" y="-97200"/>
                <a:ext cx="2584080" cy="2390400"/>
                <a:chOff x="7654680" y="-97200"/>
                <a:chExt cx="2584080" cy="239040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8411760" y="117720"/>
                  <a:ext cx="257400" cy="21168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552160" y="555120"/>
                  <a:ext cx="452880" cy="7416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8232120" y="299880"/>
                  <a:ext cx="849600" cy="15206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8308800" y="-39600"/>
                  <a:ext cx="1275480" cy="22755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973720" y="1507320"/>
                  <a:ext cx="284040" cy="2062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899200" y="1353960"/>
                  <a:ext cx="304560" cy="24372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8444520" y="351360"/>
                  <a:ext cx="304200" cy="2491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8382240" y="236880"/>
                  <a:ext cx="300960" cy="2332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8248680" y="140760"/>
              <a:ext cx="71280" cy="16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320" y="12600"/>
            <a:ext cx="9491400" cy="719136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63760" y="1603440"/>
            <a:ext cx="6829200" cy="2409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47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7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731880" y="6625800"/>
            <a:ext cx="203184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  <a:defRPr b="0" lang="en-US" sz="15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333600" y="6625800"/>
            <a:ext cx="308952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  <a:defRPr b="0" lang="en-US" sz="15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993000" y="6625800"/>
            <a:ext cx="203184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  <a:defRPr b="0" lang="en-US" sz="15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72FA9BED-8A42-4388-8D44-723062D07D52}" type="slidenum">
              <a:rPr b="0" lang="en-US" sz="15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08080" y="249120"/>
            <a:ext cx="4041000" cy="1885680"/>
            <a:chOff x="208080" y="249120"/>
            <a:chExt cx="4041000" cy="1885680"/>
          </a:xfrm>
        </p:grpSpPr>
        <p:sp>
          <p:nvSpPr>
            <p:cNvPr id="93" name=""/>
            <p:cNvSpPr/>
            <p:nvPr/>
          </p:nvSpPr>
          <p:spPr>
            <a:xfrm>
              <a:off x="299880" y="297720"/>
              <a:ext cx="3810600" cy="171216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80800" y="439200"/>
              <a:ext cx="3800520" cy="169560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2440" y="578880"/>
              <a:ext cx="2520360" cy="15472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208080" y="249120"/>
              <a:ext cx="4041000" cy="1819800"/>
              <a:chOff x="208080" y="249120"/>
              <a:chExt cx="4041000" cy="1819800"/>
            </a:xfrm>
          </p:grpSpPr>
          <p:sp>
            <p:nvSpPr>
              <p:cNvPr id="97" name=""/>
              <p:cNvSpPr/>
              <p:nvPr/>
            </p:nvSpPr>
            <p:spPr>
              <a:xfrm>
                <a:off x="3395520" y="1572480"/>
                <a:ext cx="358920" cy="36000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8080" y="249120"/>
                <a:ext cx="4041000" cy="181980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48640" y="265680"/>
                <a:ext cx="2855520" cy="10335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92640" y="422280"/>
                <a:ext cx="384120" cy="690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432800" y="902160"/>
                <a:ext cx="1170000" cy="6127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8321040" y="4578480"/>
            <a:ext cx="1041120" cy="1231200"/>
            <a:chOff x="8321040" y="4578480"/>
            <a:chExt cx="1041120" cy="1231200"/>
          </a:xfrm>
        </p:grpSpPr>
        <p:sp>
          <p:nvSpPr>
            <p:cNvPr id="103" name=""/>
            <p:cNvSpPr/>
            <p:nvPr/>
          </p:nvSpPr>
          <p:spPr>
            <a:xfrm rot="7320000">
              <a:off x="8316720" y="4940640"/>
              <a:ext cx="1059840" cy="4957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8290440" y="4917960"/>
              <a:ext cx="1056600" cy="4906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8468640" y="4901400"/>
              <a:ext cx="700920" cy="4482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8321040" y="4578480"/>
              <a:ext cx="1041120" cy="1231200"/>
              <a:chOff x="8321040" y="4578480"/>
              <a:chExt cx="1041120" cy="123120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8447040" y="5369760"/>
                <a:ext cx="99360" cy="10296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8279640" y="4930920"/>
                <a:ext cx="1123200" cy="5259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574840" y="5044320"/>
                <a:ext cx="795240" cy="297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9083520" y="4835880"/>
                <a:ext cx="105480" cy="19980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699760" y="5048640"/>
                <a:ext cx="325080" cy="1753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61920" y="5359320"/>
            <a:ext cx="7263000" cy="77328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49880" y="2046240"/>
            <a:ext cx="949320" cy="40500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87800" y="1701360"/>
            <a:ext cx="8780040" cy="42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485640" indent="0" algn="ctr">
              <a:spcBef>
                <a:spcPts val="751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973080" algn="ctr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459080" algn="ctr">
              <a:spcBef>
                <a:spcPts val="524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4" marL="1946160" algn="ctr">
              <a:spcBef>
                <a:spcPts val="524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5" marL="1946160">
              <a:spcBef>
                <a:spcPts val="524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6" marL="1946160">
              <a:spcBef>
                <a:spcPts val="524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74720" y="2484000"/>
            <a:ext cx="8292960" cy="1871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Формирование культуры познавательной компетентности  в  начальной школе.</a:t>
            </a:r>
            <a:endParaRPr b="0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438360" y="4500720"/>
            <a:ext cx="1573200" cy="1935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262480" y="4322880"/>
            <a:ext cx="1511280" cy="185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861320" y="-11537640"/>
            <a:ext cx="201600" cy="118911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76360" y="275760"/>
            <a:ext cx="8780400" cy="47991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5040" indent="-365040">
              <a:spcBef>
                <a:spcPts val="950"/>
              </a:spcBef>
              <a:buClr>
                <a:srgbClr val="000000"/>
              </a:buClr>
              <a:buFont typeface="Comic Sans M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Стратегия модернизации содержания общего образования в России принята в 2001 году.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-365040">
              <a:spcBef>
                <a:spcPts val="950"/>
              </a:spcBef>
              <a:buClr>
                <a:srgbClr val="000000"/>
              </a:buClr>
              <a:buFont typeface="Comic Sans M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Определены ключевые компетентности учащихся.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0">
              <a:spcBef>
                <a:spcPts val="9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0">
              <a:spcBef>
                <a:spcPts val="9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270000" y="3560760"/>
            <a:ext cx="9361440" cy="29005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7200" rIns="97200" tIns="48600" bIns="48600" anchor="ctr">
            <a:noAutofit/>
          </a:bodyPr>
          <a:p>
            <a:pPr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Ориентация на понимание научной картины мир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На духовнос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На социальную активнос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9640" y="162000"/>
            <a:ext cx="7792920" cy="954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Comic Sans MS"/>
              </a:rPr>
              <a:t>Ключевые компетентност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30000" y="1476000"/>
            <a:ext cx="8211960" cy="38782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 fontScale="86000"/>
          </a:bodyPr>
          <a:p>
            <a:pPr marL="313920" indent="-313920" algn="ctr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Устное и письменное общени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3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ладение несколькими языками, важными для общественной жизни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/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3920" indent="-313920" algn="ctr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Общая информац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3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ладение новыми технологиями, понимание их применения, их силы и слабости, способность критического отношения к распространяемой СМИ реклам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3920" indent="-313920" algn="ctr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Желание учиться всю жизн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3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ак основа непрерывной подготовки в профессиональном план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3920" indent="-313920" algn="ctr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Жизнь в многокультурном обществ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3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важение друг друга, способность жить с людьми других культур, языков, религий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3920" indent="-313920" algn="ctr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Политическая и социальная компетентнос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3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пособность разрешать конфликты мирным путём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85640" y="900000"/>
            <a:ext cx="8847360" cy="12081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Современные системы развивающего обучения.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15800" y="2581200"/>
            <a:ext cx="7412040" cy="32371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5040" indent="-36504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Comic Sans M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omic Sans MS"/>
              </a:rPr>
              <a:t>Л.В.Занкова.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-36504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Comic Sans M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omic Sans MS"/>
              </a:rPr>
              <a:t>«Школа 2100».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-36504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Comic Sans M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omic Sans MS"/>
              </a:rPr>
              <a:t>«Начальная школа </a:t>
            </a: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XXI</a:t>
            </a:r>
            <a:r>
              <a:rPr b="0" lang="ru-RU" sz="3800" spc="-1" strike="noStrike">
                <a:solidFill>
                  <a:srgbClr val="000000"/>
                </a:solidFill>
                <a:latin typeface="Comic Sans MS"/>
              </a:rPr>
              <a:t> века».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-36504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Comic Sans M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omic Sans MS"/>
              </a:rPr>
              <a:t>«Школы России».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90160" y="428760"/>
            <a:ext cx="7180200" cy="1736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Мотивы, создающие желание обучаться самостоятельно.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266840" y="2262240"/>
          <a:ext cx="7400880" cy="3751200"/>
        </p:xfrm>
        <a:graphic>
          <a:graphicData uri="http://schemas.openxmlformats.org/drawingml/2006/table">
            <a:tbl>
              <a:tblPr/>
              <a:tblGrid>
                <a:gridCol w="7400880"/>
              </a:tblGrid>
              <a:tr h="1120680">
                <a:tc>
                  <a:txBody>
                    <a:bodyPr lIns="97200" rIns="97200" tIns="48600" bIns="48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ХВАЛ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0" marR="97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7200" rIns="97200" tIns="48600" bIns="48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БЩЕСТВЕННОЕ ПРИЗНАНИЕ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0" marR="97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680">
                <a:tc>
                  <a:txBody>
                    <a:bodyPr lIns="97200" rIns="97200" tIns="48600" bIns="48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ЖЕЛАНИЕ БЫТЬ НА ВИДУ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0" marR="97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2280" y="1879200"/>
            <a:ext cx="8780400" cy="12128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Основа образовательной и воспитательной программы – это максимальное сближение образовательных и воспитательных задач.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85280" y="3492360"/>
            <a:ext cx="8780760" cy="2749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 fontScale="87000"/>
          </a:bodyPr>
          <a:p>
            <a:pPr marL="317520" indent="-31752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Школьные олимпиад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7520" indent="-31752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ллективные интеллектуальные игр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7520" indent="-31752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нкурсы рисунк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7520" indent="-31752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нкурсы «Лучший читатель», «Лучший спортсмен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7520" indent="-31752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нкурсы: «Кенгуру», «Русский медвежонок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7:28:03Z</dcterms:created>
  <dc:creator>1</dc:creator>
  <dc:description/>
  <dc:language>en-US</dc:language>
  <cp:lastModifiedBy>1</cp:lastModifiedBy>
  <dcterms:modified xsi:type="dcterms:W3CDTF">2009-01-07T19:34:17Z</dcterms:modified>
  <cp:revision>2</cp:revision>
  <dc:subject/>
  <dc:title>Формирование культуры познавательной компетентности  в  начальной школе.</dc:title>
</cp:coreProperties>
</file>