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2648-B0EF-4282-B33C-5FDEE081C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8F0D-D6C6-4B23-9957-6EFB97E9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86B9-4FDD-4117-AF7A-BF14B358C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7F2D-8272-4E4F-87D9-64102C27D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6449-D4F6-4C88-B2FE-C47929EF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1DDA-F2D8-4350-A89A-C840769E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3D1F-68AB-4AEF-BEFC-EB68283E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C40C-DF88-4B74-A4F0-5E1559AC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4758-AC8E-4C06-AB02-67A62DF8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0DEF-4254-448B-A40A-63F00108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B6FD-E76B-4BA2-9B75-CDA1AE56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7ABD-98ED-4BDE-B1DE-6A66DA08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15A2-DC36-4F38-8066-8872B509DB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1"/>
          <a:stretch/>
        </p:blipFill>
        <p:spPr>
          <a:xfrm>
            <a:off x="646200" y="360360"/>
            <a:ext cx="788184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Заголовок 3" descr=""/>
          <p:cNvPicPr/>
          <p:nvPr/>
        </p:nvPicPr>
        <p:blipFill>
          <a:blip r:embed="rId1"/>
          <a:stretch/>
        </p:blipFill>
        <p:spPr>
          <a:xfrm>
            <a:off x="457200" y="-262080"/>
            <a:ext cx="8229600" cy="1914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s Ferienhei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 Ferien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s Gebir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e Jugendherber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e Jugendlich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 Campingplat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 Verwand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 Str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 Korbstr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 Ausflu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ch tre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ch s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berna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di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sch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el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Прямоугольник 2" descr=""/>
          <p:cNvPicPr/>
          <p:nvPr/>
        </p:nvPicPr>
        <p:blipFill>
          <a:blip r:embed="rId1"/>
          <a:stretch/>
        </p:blipFill>
        <p:spPr>
          <a:xfrm>
            <a:off x="1006560" y="-328680"/>
            <a:ext cx="7412040" cy="2425680"/>
          </a:xfrm>
          <a:prstGeom prst="rect">
            <a:avLst/>
          </a:prstGeom>
          <a:ln w="0">
            <a:noFill/>
          </a:ln>
        </p:spPr>
      </p:pic>
      <p:sp>
        <p:nvSpPr>
          <p:cNvPr id="46" name="TextBox 1"/>
          <p:cNvSpPr/>
          <p:nvPr/>
        </p:nvSpPr>
        <p:spPr>
          <a:xfrm>
            <a:off x="108000" y="1773360"/>
            <a:ext cx="9036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h ___________ Tennis. (spiel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 ___________ jeden Morgen. (turn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  ___________ viel. (lach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h ___________ dieses Buch sehr interessant. (find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 ___________ ins Café. (geh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 __________ durch den Park. (lauf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in Freund __________ mit dem Bus. (fahr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Прямоугольник 2" descr=""/>
          <p:cNvPicPr/>
          <p:nvPr/>
        </p:nvPicPr>
        <p:blipFill>
          <a:blip r:embed="rId1"/>
          <a:stretch/>
        </p:blipFill>
        <p:spPr>
          <a:xfrm>
            <a:off x="1401840" y="-152280"/>
            <a:ext cx="6334200" cy="1938240"/>
          </a:xfrm>
          <a:prstGeom prst="rect">
            <a:avLst/>
          </a:prstGeom>
          <a:ln w="0">
            <a:noFill/>
          </a:ln>
        </p:spPr>
      </p:pic>
      <p:sp>
        <p:nvSpPr>
          <p:cNvPr id="48" name="Левая круглая скобка 3"/>
          <p:cNvSpPr/>
          <p:nvPr/>
        </p:nvSpPr>
        <p:spPr>
          <a:xfrm rot="16200000">
            <a:off x="2205720" y="1556640"/>
            <a:ext cx="432000" cy="1008000"/>
          </a:xfrm>
          <a:custGeom>
            <a:avLst/>
            <a:gdLst>
              <a:gd name="textAreaLeft" fmla="*/ 127080 w 432000"/>
              <a:gd name="textAreaRight" fmla="*/ 432360 w 432000"/>
              <a:gd name="textAreaTop" fmla="*/ 17640 h 1008000"/>
              <a:gd name="textAreaBottom" fmla="*/ 99036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86"/>
                  <a:pt x="0" y="771"/>
                </a:cubicBezTo>
                <a:lnTo>
                  <a:pt x="0" y="20829"/>
                </a:lnTo>
                <a:cubicBezTo>
                  <a:pt x="0" y="21215"/>
                  <a:pt x="10800" y="21600"/>
                  <a:pt x="21600" y="21600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687600" y="179856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3359160" y="1738440"/>
            <a:ext cx="106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 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684360" y="2708280"/>
            <a:ext cx="70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Левая круглая скобка 8"/>
          <p:cNvSpPr/>
          <p:nvPr/>
        </p:nvSpPr>
        <p:spPr>
          <a:xfrm rot="16200000">
            <a:off x="2170080" y="2556000"/>
            <a:ext cx="503280" cy="1008000"/>
          </a:xfrm>
          <a:custGeom>
            <a:avLst/>
            <a:gdLst>
              <a:gd name="textAreaLeft" fmla="*/ 147960 w 503280"/>
              <a:gd name="textAreaRight" fmla="*/ 503640 w 503280"/>
              <a:gd name="textAreaTop" fmla="*/ 20880 h 1008000"/>
              <a:gd name="textAreaBottom" fmla="*/ 9871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50"/>
                  <a:pt x="0" y="900"/>
                </a:cubicBezTo>
                <a:lnTo>
                  <a:pt x="0" y="20700"/>
                </a:lnTo>
                <a:cubicBezTo>
                  <a:pt x="0" y="21150"/>
                  <a:pt x="10800" y="21600"/>
                  <a:pt x="21600" y="21600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2133720" y="278748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0"/>
          <p:cNvSpPr/>
          <p:nvPr/>
        </p:nvSpPr>
        <p:spPr>
          <a:xfrm>
            <a:off x="4994280" y="184140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h – en     -   mach - 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2"/>
          <p:cNvSpPr/>
          <p:nvPr/>
        </p:nvSpPr>
        <p:spPr>
          <a:xfrm>
            <a:off x="4443480" y="2776680"/>
            <a:ext cx="47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r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- en       -    schr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__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3"/>
          <p:cNvSpPr/>
          <p:nvPr/>
        </p:nvSpPr>
        <p:spPr>
          <a:xfrm>
            <a:off x="684360" y="3860640"/>
            <a:ext cx="8343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Singular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         Plu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Ich 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- 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1. wir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 (e)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Du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 st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2. ihr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 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Er, sie, es   -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3. sie, Sie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 (e)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468360" y="1628640"/>
            <a:ext cx="8342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Singular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Plu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Ich 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h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1. wir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mach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</a:t>
            </a: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Du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mach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</a:t>
            </a: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st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2. ihr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mach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</a:t>
            </a: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Er, sie, es   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h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3. sie, Sie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mach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</a:t>
            </a: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Прямоугольник 2" descr=""/>
          <p:cNvPicPr/>
          <p:nvPr/>
        </p:nvPicPr>
        <p:blipFill>
          <a:blip r:embed="rId1"/>
          <a:stretch/>
        </p:blipFill>
        <p:spPr>
          <a:xfrm>
            <a:off x="1401840" y="-152280"/>
            <a:ext cx="6334200" cy="193824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620640" y="4149720"/>
            <a:ext cx="8523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Singular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Plu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Ich 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rieb_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1. wir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rieb</a:t>
            </a: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Du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chrieb</a:t>
            </a: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st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2. ihr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rieb</a:t>
            </a: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Er, sie, es   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rieb_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3. sie, Sie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rieb</a:t>
            </a: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Прямоугольник 1" descr=""/>
          <p:cNvPicPr/>
          <p:nvPr/>
        </p:nvPicPr>
        <p:blipFill>
          <a:blip r:embed="rId1"/>
          <a:stretch/>
        </p:blipFill>
        <p:spPr>
          <a:xfrm>
            <a:off x="1401840" y="-152280"/>
            <a:ext cx="6334200" cy="1938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h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nde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el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sch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die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ie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ff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h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i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i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ei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wim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468360" y="1628640"/>
            <a:ext cx="8342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Singular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Plu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Ich 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sch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1. wir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fisch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</a:t>
            </a: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Du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2. ihr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Er, sie, es   - 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3. sie, Sie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Прямоугольник 2" descr=""/>
          <p:cNvPicPr/>
          <p:nvPr/>
        </p:nvPicPr>
        <p:blipFill>
          <a:blip r:embed="rId1"/>
          <a:stretch/>
        </p:blipFill>
        <p:spPr>
          <a:xfrm>
            <a:off x="1401840" y="-152280"/>
            <a:ext cx="6334200" cy="193824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620640" y="4149720"/>
            <a:ext cx="8523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Singular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Plu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Ich 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-  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1. wir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Du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a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2. ihr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Er, sie, es   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 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3. sie, Sie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nt"/>
          <p:cNvSpPr/>
          <p:nvPr/>
        </p:nvSpPr>
        <p:spPr>
          <a:xfrm>
            <a:off x="684360" y="-187200"/>
            <a:ext cx="1809720" cy="1809720"/>
          </a:xfrm>
          <a:custGeom>
            <a:avLst/>
            <a:gdLst>
              <a:gd name="textAreaLeft" fmla="*/ 594720 w 1809720"/>
              <a:gd name="textAreaRight" fmla="*/ 1218600 w 1809720"/>
              <a:gd name="textAreaTop" fmla="*/ 845640 h 1809720"/>
              <a:gd name="textAreaBottom" fmla="*/ 1137240 h 180972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Прямоугольник 1" descr=""/>
          <p:cNvPicPr/>
          <p:nvPr/>
        </p:nvPicPr>
        <p:blipFill>
          <a:blip r:embed="rId2"/>
          <a:stretch/>
        </p:blipFill>
        <p:spPr>
          <a:xfrm>
            <a:off x="-596880" y="-182520"/>
            <a:ext cx="10294920" cy="2097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250920" y="1773360"/>
            <a:ext cx="8713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rlin Sans FB"/>
              </a:rPr>
              <a:t>Der Sommer (sein) sup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rlin Sans FB"/>
              </a:rPr>
              <a:t>Ich (erholen) mich sehr g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rlin Sans FB"/>
              </a:rPr>
              <a:t>Den Sommer (verbringen) ich auf der Datsch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rlin Sans FB"/>
              </a:rPr>
              <a:t>Ich (schwimmen) in einem Fluss, (sonnen) mich, (spielen) Fussba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rlin Sans FB"/>
              </a:rPr>
              <a:t>Am Abend (fahren) ich mit meinen Freunden R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rlin Sans FB"/>
              </a:rPr>
              <a:t>Am Wochenenden (wandern) ich und meine Familie durch einen Wald, (grillen) Würstchen, (bauen) Sandburgen am Sra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826920" y="907920"/>
            <a:ext cx="7561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ie Hausaufgabe: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1" lang="en-US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Seite 32 Übung 9 a, 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1T16:15:12Z</dcterms:created>
  <dc:creator>Ann</dc:creator>
  <dc:description/>
  <dc:language>en-US</dc:language>
  <cp:lastModifiedBy>Ann</cp:lastModifiedBy>
  <dcterms:modified xsi:type="dcterms:W3CDTF">2013-09-22T10:45:49Z</dcterms:modified>
  <cp:revision>15</cp:revision>
  <dc:subject/>
  <dc:title>Презентация PowerPoint</dc:title>
</cp:coreProperties>
</file>