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F6C9-A020-4DD9-8128-81831CD43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297F-561E-491C-8A4B-87A54DA27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A61A-8243-4B90-859D-C5C1C7A13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E639-21A8-4A05-80A5-E2DBE8373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FFB5-82E7-4243-9688-E75A3E29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F03D-BEF9-47BD-951C-7E0AA7E3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FD78-5CE3-4886-9A50-AF17C7C4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CBE5-78AC-41DB-8ACD-E6B23BEA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A50B-1D05-42C1-80D4-1771909A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9129-9A27-4439-82A4-AAC9B449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D55A-7FD4-4C11-B905-61CD51CB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09CB-C38E-407A-8575-B250B2CE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A53B-9C38-481A-90C4-8CB9B69F11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427640" y="3429000"/>
            <a:ext cx="4716360" cy="3429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3500280"/>
            <a:ext cx="4427640" cy="3357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427640" y="0"/>
            <a:ext cx="4716360" cy="3487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427640" cy="3500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Times New Roman"/>
              </a:rPr>
              <a:t>БИТВА  ЗА МОСКВУ</a:t>
            </a: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:</a:t>
            </a:r>
            <a:r>
              <a:rPr b="0" lang="ru-RU" sz="4000" spc="-1" strike="noStrike">
                <a:solidFill>
                  <a:srgbClr val="ff6600"/>
                </a:solidFill>
                <a:latin typeface="Times New Roman"/>
              </a:rPr>
              <a:t> КУЛЬТУРА И НЕНАСИЛИЕ В ИНТЕРЕСАХ ДЕТЕЙ ПЛАНЕ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Times New Roman"/>
              </a:rPr>
              <a:t>ВЫПОЛНИЛ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Times New Roman"/>
              </a:rPr>
              <a:t>ЩЕГЛОВА ЕЛЕ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Times New Roman"/>
              </a:rPr>
              <a:t>КОМАРОВА ОКСА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492360" y="0"/>
            <a:ext cx="1943280" cy="1844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6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.0)">
                                      <p:cBhvr>
                                        <p:cTn id="6" dur="47142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47142"/>
                            </p:stCondLst>
                            <p:childTnLst>
                              <p:par>
                                <p:cTn id="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8142"/>
                            </p:stCondLst>
                            <p:childTnLst>
                              <p:par>
                                <p:cTn id="1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9142"/>
                            </p:stCondLst>
                            <p:childTnLst>
                              <p:par>
                                <p:cTn id="1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142"/>
                            </p:stCondLst>
                            <p:childTnLst>
                              <p:par>
                                <p:cTn id="2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1142"/>
                            </p:stCondLst>
                            <p:childTnLst>
                              <p:par>
                                <p:cTn id="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2142"/>
                            </p:stCondLst>
                            <p:childTnLst>
                              <p:par>
                                <p:cTn id="3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3142"/>
                            </p:stCondLst>
                            <p:childTnLst>
                              <p:par>
                                <p:cTn id="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4142"/>
                            </p:stCondLst>
                            <p:childTnLst>
                              <p:par>
                                <p:cTn id="4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ffff"/>
                </a:solidFill>
                <a:uFillTx/>
                <a:latin typeface="Times New Roman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imes New Roman"/>
              </a:rPr>
              <a:t>ЕЩЁ ВЧЕРА БЫЛО МИРНОЕ ВРЕМЯ, А СЕГОДНЯ УЖЕ ВОЙ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blinds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2398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8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6000">
    <p:blinds dir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502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21"/>
                            </p:stCondLst>
                            <p:childTnLst>
                              <p:par>
                                <p:cTn id="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15678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2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blinds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3872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3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БИТВА ПОД МОСКВО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</cp:lastModifiedBy>
  <dcterms:modified xsi:type="dcterms:W3CDTF">2006-12-09T15:05:14Z</dcterms:modified>
  <cp:revision>2</cp:revision>
  <dc:subject/>
  <dc:title>PowerPoint Presentation</dc:title>
</cp:coreProperties>
</file>