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F026-B95C-40A8-9FFA-F8BDCA3965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F86D-846A-4FD4-9DDE-223A7481B9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ulimCh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3CC0-1CF3-4DD9-9E0C-DE50A9ED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4360-9BE0-451C-B6F8-3DEE5BD7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A3BC-0DB6-49AB-94F3-1BD577F6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DF2C-B882-413B-B774-D50B961B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4CDA-9B49-4DF1-BEFA-7FC76B2C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8581-4730-4431-8AE1-8BEBD766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CC46-5FE4-465B-914F-DBBFAE11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BCB4-8565-4C08-8C35-591DF88F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B636-318E-4493-AE13-84611718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FB2A-C56F-4C40-8704-90321BEF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D677-38DD-498C-B216-669E48DE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D1D2-FB5D-42D2-BF16-FEFBA207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0E48-C3B5-4A69-BD76-6A4B00A3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C378-EB2D-4239-8E06-1603348E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52C0-B12D-4B3F-BAF8-E767B41D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2AE4-1E69-4674-98E8-2C2AF977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A2ED-701E-433F-AC40-7032018E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E61D-F1BF-4D49-84E3-44733A4B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C523-AD4A-43E4-9AA1-D7B89C28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B6EA-1328-434F-9D09-756BA4D7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6D6E-10B5-4764-A33F-7D9D3C1E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0D71-B47B-4D34-B57E-1AA85D00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F8FE-31BE-490F-A269-BEA024D6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1D45-53E8-4EDA-A2C5-5B35E931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GulimChe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GulimChe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GulimChe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E8F8-9979-4DCA-B2F3-208349829A8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GulimChe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GulimChe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GulimChe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GulimChe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GulimChe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GulimChe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9FF7-5334-4AE3-849F-8543A7811C0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3"/>
          <p:cNvSpPr/>
          <p:nvPr/>
        </p:nvSpPr>
        <p:spPr>
          <a:xfrm>
            <a:off x="3124080" y="152280"/>
            <a:ext cx="5715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ulimCh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ulimCh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ulimCh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ulimCh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ulimCh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ulimCh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c0000"/>
                </a:solidFill>
                <a:latin typeface="Lucida Sans Typewriter"/>
              </a:rPr>
              <a:t>Киселёвск – моя семья</a:t>
            </a:r>
            <a:endParaRPr b="1" lang="en-US" sz="6000" spc="-1" strike="noStrike">
              <a:solidFill>
                <a:srgbClr val="000000"/>
              </a:solidFill>
              <a:latin typeface="GulimChe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2971800" y="3124080"/>
            <a:ext cx="57913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  <p:pic>
        <p:nvPicPr>
          <p:cNvPr id="106" name="Picture 4" descr="C:\Users\User\Desktop\Новая папка (2)\gkubulei.gif"/>
          <p:cNvPicPr/>
          <p:nvPr/>
        </p:nvPicPr>
        <p:blipFill>
          <a:blip r:embed="rId2"/>
          <a:stretch/>
        </p:blipFill>
        <p:spPr>
          <a:xfrm>
            <a:off x="4838760" y="325440"/>
            <a:ext cx="20574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64008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4c2600"/>
                </a:solidFill>
                <a:latin typeface="Times New Roman"/>
              </a:rPr>
              <a:t>Любите! И цените счастье!</a:t>
            </a:r>
            <a:br>
              <a:rPr sz="3500"/>
            </a:br>
            <a:r>
              <a:rPr b="1" lang="ru-RU" sz="3500" spc="-1" strike="noStrike">
                <a:solidFill>
                  <a:srgbClr val="4c2600"/>
                </a:solidFill>
                <a:latin typeface="Times New Roman"/>
              </a:rPr>
              <a:t>Оно рождается в семье,</a:t>
            </a:r>
            <a:br>
              <a:rPr sz="3500"/>
            </a:br>
            <a:r>
              <a:rPr b="1" lang="ru-RU" sz="3500" spc="-1" strike="noStrike">
                <a:solidFill>
                  <a:srgbClr val="4c2600"/>
                </a:solidFill>
                <a:latin typeface="Times New Roman"/>
              </a:rPr>
              <a:t>Что может быть её дороже</a:t>
            </a:r>
            <a:br>
              <a:rPr sz="3500"/>
            </a:br>
            <a:r>
              <a:rPr b="1" lang="ru-RU" sz="3500" spc="-1" strike="noStrike">
                <a:solidFill>
                  <a:srgbClr val="4c2600"/>
                </a:solidFill>
                <a:latin typeface="Times New Roman"/>
              </a:rPr>
              <a:t>На этой сказочной земле…</a:t>
            </a:r>
            <a:endParaRPr b="0" lang="en-US" sz="3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676520" y="1638360"/>
            <a:ext cx="7010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5865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В Киселёвске чудо есть,</a:t>
            </a:r>
            <a:br>
              <a:rPr sz="2400"/>
            </a:b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Что нельзя и глаз отвесть.</a:t>
            </a:r>
            <a:br>
              <a:rPr sz="2400"/>
            </a:b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Сказка, просто теремок,</a:t>
            </a:r>
            <a:br>
              <a:rPr sz="2400"/>
            </a:b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Церковь милый городок!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828800" y="1371600"/>
            <a:ext cx="54864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  <p:pic>
        <p:nvPicPr>
          <p:cNvPr id="109" name="Picture 4" descr="C:\Users\User\Desktop\Новая папка (2)\254_0012914b.jpg"/>
          <p:cNvPicPr/>
          <p:nvPr/>
        </p:nvPicPr>
        <p:blipFill>
          <a:blip r:embed="rId2"/>
          <a:stretch/>
        </p:blipFill>
        <p:spPr>
          <a:xfrm>
            <a:off x="1676520" y="2133720"/>
            <a:ext cx="52196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0"/>
          <p:cNvSpPr/>
          <p:nvPr/>
        </p:nvSpPr>
        <p:spPr>
          <a:xfrm>
            <a:off x="1600200" y="1371600"/>
            <a:ext cx="54864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Ах, какая красота</a:t>
            </a:r>
            <a:br>
              <a:rPr sz="3600"/>
            </a:b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Ведь – это русские леса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2" name="Picture 4" descr="C:\Users\User\Desktop\Новая папка (2)\58.jpg"/>
          <p:cNvPicPr/>
          <p:nvPr/>
        </p:nvPicPr>
        <p:blipFill>
          <a:blip r:embed="rId2"/>
          <a:stretch/>
        </p:blipFill>
        <p:spPr>
          <a:xfrm rot="20794800">
            <a:off x="2561760" y="1904760"/>
            <a:ext cx="37339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143000" y="22860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1703"/>
                </a:solidFill>
                <a:latin typeface="Times New Roman"/>
              </a:rPr>
              <a:t>Раньше всех встаёт с утра</a:t>
            </a: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  <a:p>
            <a:pPr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1703"/>
                </a:solidFill>
                <a:latin typeface="Times New Roman"/>
              </a:rPr>
              <a:t>Моя младшая сестра.</a:t>
            </a: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447920" y="3124080"/>
            <a:ext cx="61722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  <p:pic>
        <p:nvPicPr>
          <p:cNvPr id="115" name="Picture 4" descr="C:\Users\User\Desktop\Новая папка (2)\04.jpg"/>
          <p:cNvPicPr/>
          <p:nvPr/>
        </p:nvPicPr>
        <p:blipFill>
          <a:blip r:embed="rId2"/>
          <a:stretch/>
        </p:blipFill>
        <p:spPr>
          <a:xfrm>
            <a:off x="1477800" y="1828800"/>
            <a:ext cx="58374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2600"/>
                </a:solidFill>
                <a:latin typeface="Times New Roman"/>
              </a:rPr>
              <a:t>Город шахтёрский, город родной,</a:t>
            </a:r>
            <a:br>
              <a:rPr sz="3200"/>
            </a:br>
            <a:r>
              <a:rPr b="1" lang="ru-RU" sz="3200" spc="-1" strike="noStrike">
                <a:solidFill>
                  <a:srgbClr val="4c2600"/>
                </a:solidFill>
                <a:latin typeface="Times New Roman"/>
              </a:rPr>
              <a:t>город любимый и трудовой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676520" y="1638360"/>
            <a:ext cx="7010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  <p:pic>
        <p:nvPicPr>
          <p:cNvPr id="118" name="Picture 4" descr="C:\Users\User\Desktop\Новая папка (2)\49.jpg"/>
          <p:cNvPicPr/>
          <p:nvPr/>
        </p:nvPicPr>
        <p:blipFill>
          <a:blip r:embed="rId2"/>
          <a:stretch/>
        </p:blipFill>
        <p:spPr>
          <a:xfrm>
            <a:off x="1714680" y="1828800"/>
            <a:ext cx="53719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c2600"/>
                </a:solidFill>
                <a:latin typeface="Times New Roman"/>
              </a:rPr>
              <a:t>В здоровом теле, здоровый дух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676520" y="1638360"/>
            <a:ext cx="7010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  <p:pic>
        <p:nvPicPr>
          <p:cNvPr id="121" name="Picture 2" descr="C:\Users\User\Desktop\Новая папка (2)\bun.jpg"/>
          <p:cNvPicPr/>
          <p:nvPr/>
        </p:nvPicPr>
        <p:blipFill>
          <a:blip r:embed="rId2"/>
          <a:stretch/>
        </p:blipFill>
        <p:spPr>
          <a:xfrm>
            <a:off x="1523880" y="1905120"/>
            <a:ext cx="525780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2600"/>
                </a:solidFill>
                <a:latin typeface="Times New Roman"/>
              </a:rPr>
              <a:t>Шахтёрам посвящаетс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676520" y="1638360"/>
            <a:ext cx="7010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  <p:pic>
        <p:nvPicPr>
          <p:cNvPr id="124" name="Picture 2" descr="C:\Users\User\Desktop\Новая папка (2)\52.jpg"/>
          <p:cNvPicPr/>
          <p:nvPr/>
        </p:nvPicPr>
        <p:blipFill>
          <a:blip r:embed="rId2"/>
          <a:stretch/>
        </p:blipFill>
        <p:spPr>
          <a:xfrm>
            <a:off x="3124080" y="1600200"/>
            <a:ext cx="327672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2600"/>
                </a:solidFill>
                <a:latin typeface="Lucida Sans Typewriter"/>
              </a:rPr>
              <a:t>Место встречи любителей кино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676520" y="1638360"/>
            <a:ext cx="7010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  <p:pic>
        <p:nvPicPr>
          <p:cNvPr id="127" name="Picture 2" descr="C:\Users\User\Desktop\Новая папка (2)\DSC_5540.JPG"/>
          <p:cNvPicPr/>
          <p:nvPr/>
        </p:nvPicPr>
        <p:blipFill>
          <a:blip r:embed="rId2"/>
          <a:stretch/>
        </p:blipFill>
        <p:spPr>
          <a:xfrm>
            <a:off x="1676520" y="220968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c2600"/>
                </a:solidFill>
                <a:latin typeface="Times New Roman"/>
              </a:rPr>
              <a:t>Здесь ждут тебя всегда с любовью,</a:t>
            </a:r>
            <a:br>
              <a:rPr sz="2800"/>
            </a:br>
            <a:r>
              <a:rPr b="1" lang="ru-RU" sz="2800" spc="-1" strike="noStrike">
                <a:solidFill>
                  <a:srgbClr val="4c2600"/>
                </a:solidFill>
                <a:latin typeface="Times New Roman"/>
              </a:rPr>
              <a:t>И провожают в путь с добром!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676520" y="1638360"/>
            <a:ext cx="7010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Che"/>
            </a:endParaRPr>
          </a:p>
        </p:txBody>
      </p:sp>
      <p:pic>
        <p:nvPicPr>
          <p:cNvPr id="130" name="Picture 2" descr="C:\Users\User\Desktop\Новая папка (2)\6.jpg"/>
          <p:cNvPicPr/>
          <p:nvPr/>
        </p:nvPicPr>
        <p:blipFill>
          <a:blip r:embed="rId2"/>
          <a:stretch/>
        </p:blipFill>
        <p:spPr>
          <a:xfrm>
            <a:off x="1752480" y="1752480"/>
            <a:ext cx="5257800" cy="403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04T15:27:07Z</dcterms:modified>
  <cp:revision>1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