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7A0-B99F-4AC4-9A54-EB51C16E9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771-0F0F-432F-9285-6E499C98B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ulimCh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947-ECFE-445B-948B-2FF3451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F01-92F7-4BCD-B8F1-619B69D8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EBC-1184-4D11-8C44-2C2DB587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93C-2925-4BDB-83BA-F148444A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86C8-89A6-4102-AEEA-3178F3B1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7B1-5D98-46C3-9FC5-3EC3A574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1626-046A-4DF6-947F-8D63978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7FF3-4F9C-47FB-8ED8-9E68903B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7FE-197A-4F39-A8B3-7199341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29A9-BF72-4095-9649-4322997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0CB-0F8B-46F8-883B-670B579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25A-AFC9-44A3-BEBD-55C9A514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2442-A863-43FF-92CD-E82B004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A2A8-C79B-4E67-8B15-F77999B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E844-3A40-4968-A307-DE6111C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6232-7A85-4038-93E3-13EEF2F7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E196-2FA3-4729-BFDB-7C53FCD4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795-0107-4666-9DBE-31A77A88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78F-26BC-41F8-B29B-1B0CBCC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398-0354-4A82-A4EE-A6BAC49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7B8-6C6D-4E17-9773-7E739C0D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26E-6ED3-432F-AD59-F2BADB8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3CA-1545-41C8-87EF-9B9DB0C9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399-2873-4AC1-ADFA-9D6E506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GulimChe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5B4-74EE-4BC5-88A4-977E0104AD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GulimChe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5E39-09FE-4D28-AD2C-02D3D5BB70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3124080" y="152280"/>
            <a:ext cx="5715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c0000"/>
                </a:solidFill>
                <a:latin typeface="Lucida Sans Typewriter"/>
              </a:rPr>
              <a:t>Киселёвск – моя семья</a:t>
            </a: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971800" y="3124080"/>
            <a:ext cx="5791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06" name="Picture 4" descr="C:\Users\User\Desktop\Новая папка (2)\gkubulei.gif"/>
          <p:cNvPicPr/>
          <p:nvPr/>
        </p:nvPicPr>
        <p:blipFill>
          <a:blip r:embed="rId2"/>
          <a:stretch/>
        </p:blipFill>
        <p:spPr>
          <a:xfrm>
            <a:off x="4838760" y="325440"/>
            <a:ext cx="2057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Любите! И цените счастье!</a:t>
            </a:r>
            <a:br>
              <a:rPr sz="3500"/>
            </a:b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Оно рождается в семье,</a:t>
            </a:r>
            <a:br>
              <a:rPr sz="3500"/>
            </a:b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Что может быть её дороже</a:t>
            </a:r>
            <a:br>
              <a:rPr sz="3500"/>
            </a:b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На этой сказочной земле…</a:t>
            </a:r>
            <a:endParaRPr b="0" lang="en-US" sz="3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86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 Киселёвске чудо есть,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Что нельзя и глаз отвесть.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казка, просто теремок,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Церковь милый городок!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828800" y="1371600"/>
            <a:ext cx="54864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09" name="Picture 4" descr="C:\Users\User\Desktop\Новая папка (2)\254_0012914b.jpg"/>
          <p:cNvPicPr/>
          <p:nvPr/>
        </p:nvPicPr>
        <p:blipFill>
          <a:blip r:embed="rId2"/>
          <a:stretch/>
        </p:blipFill>
        <p:spPr>
          <a:xfrm>
            <a:off x="1676520" y="2133720"/>
            <a:ext cx="5219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0"/>
          <p:cNvSpPr/>
          <p:nvPr/>
        </p:nvSpPr>
        <p:spPr>
          <a:xfrm>
            <a:off x="1600200" y="1371600"/>
            <a:ext cx="54864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Ах, какая красота</a:t>
            </a: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Ведь – это русские леса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4" descr="C:\Users\User\Desktop\Новая папка (2)\58.jpg"/>
          <p:cNvPicPr/>
          <p:nvPr/>
        </p:nvPicPr>
        <p:blipFill>
          <a:blip r:embed="rId2"/>
          <a:stretch/>
        </p:blipFill>
        <p:spPr>
          <a:xfrm rot="20794800">
            <a:off x="2561760" y="1904760"/>
            <a:ext cx="37339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1430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1703"/>
                </a:solidFill>
                <a:latin typeface="Times New Roman"/>
              </a:rPr>
              <a:t>Раньше всех встаёт с утра</a:t>
            </a: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1703"/>
                </a:solidFill>
                <a:latin typeface="Times New Roman"/>
              </a:rPr>
              <a:t>Моя младшая сестра.</a:t>
            </a: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47920" y="3124080"/>
            <a:ext cx="6172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15" name="Picture 4" descr="C:\Users\User\Desktop\Новая папка (2)\04.jpg"/>
          <p:cNvPicPr/>
          <p:nvPr/>
        </p:nvPicPr>
        <p:blipFill>
          <a:blip r:embed="rId2"/>
          <a:stretch/>
        </p:blipFill>
        <p:spPr>
          <a:xfrm>
            <a:off x="1477800" y="1828800"/>
            <a:ext cx="5837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2600"/>
                </a:solidFill>
                <a:latin typeface="Times New Roman"/>
              </a:rPr>
              <a:t>Город шахтёрский, город родной,</a:t>
            </a:r>
            <a:br>
              <a:rPr sz="3200"/>
            </a:br>
            <a:r>
              <a:rPr b="1" lang="ru-RU" sz="3200" spc="-1" strike="noStrike">
                <a:solidFill>
                  <a:srgbClr val="4c2600"/>
                </a:solidFill>
                <a:latin typeface="Times New Roman"/>
              </a:rPr>
              <a:t>город любимый и трудовой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18" name="Picture 4" descr="C:\Users\User\Desktop\Новая папка (2)\49.jpg"/>
          <p:cNvPicPr/>
          <p:nvPr/>
        </p:nvPicPr>
        <p:blipFill>
          <a:blip r:embed="rId2"/>
          <a:stretch/>
        </p:blipFill>
        <p:spPr>
          <a:xfrm>
            <a:off x="1714680" y="1828800"/>
            <a:ext cx="5371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2600"/>
                </a:solidFill>
                <a:latin typeface="Times New Roman"/>
              </a:rPr>
              <a:t>В здоровом теле, здоровый дух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21" name="Picture 2" descr="C:\Users\User\Desktop\Новая папка (2)\bun.jpg"/>
          <p:cNvPicPr/>
          <p:nvPr/>
        </p:nvPicPr>
        <p:blipFill>
          <a:blip r:embed="rId2"/>
          <a:stretch/>
        </p:blipFill>
        <p:spPr>
          <a:xfrm>
            <a:off x="1523880" y="1905120"/>
            <a:ext cx="5257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2600"/>
                </a:solidFill>
                <a:latin typeface="Times New Roman"/>
              </a:rPr>
              <a:t>Шахтёрам посвящаетс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24" name="Picture 2" descr="C:\Users\User\Desktop\Новая папка (2)\52.jpg"/>
          <p:cNvPicPr/>
          <p:nvPr/>
        </p:nvPicPr>
        <p:blipFill>
          <a:blip r:embed="rId2"/>
          <a:stretch/>
        </p:blipFill>
        <p:spPr>
          <a:xfrm>
            <a:off x="3124080" y="1600200"/>
            <a:ext cx="327672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2600"/>
                </a:solidFill>
                <a:latin typeface="Lucida Sans Typewriter"/>
              </a:rPr>
              <a:t>Место встречи любителей кино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27" name="Picture 2" descr="C:\Users\User\Desktop\Новая папка (2)\DSC_5540.JPG"/>
          <p:cNvPicPr/>
          <p:nvPr/>
        </p:nvPicPr>
        <p:blipFill>
          <a:blip r:embed="rId2"/>
          <a:stretch/>
        </p:blipFill>
        <p:spPr>
          <a:xfrm>
            <a:off x="167652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2600"/>
                </a:solidFill>
                <a:latin typeface="Times New Roman"/>
              </a:rPr>
              <a:t>Здесь ждут тебя всегда с любовью,</a:t>
            </a:r>
            <a:br>
              <a:rPr sz="2800"/>
            </a:br>
            <a:r>
              <a:rPr b="1" lang="ru-RU" sz="2800" spc="-1" strike="noStrike">
                <a:solidFill>
                  <a:srgbClr val="4c2600"/>
                </a:solidFill>
                <a:latin typeface="Times New Roman"/>
              </a:rPr>
              <a:t>И провожают в путь с добром!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30" name="Picture 2" descr="C:\Users\User\Desktop\Новая папка (2)\6.jpg"/>
          <p:cNvPicPr/>
          <p:nvPr/>
        </p:nvPicPr>
        <p:blipFill>
          <a:blip r:embed="rId2"/>
          <a:stretch/>
        </p:blipFill>
        <p:spPr>
          <a:xfrm>
            <a:off x="1752480" y="1752480"/>
            <a:ext cx="52578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4T15:27:07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