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8C2-6324-4B27-9B86-40E9251A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D19-B80C-4D5B-8D44-52BE11E9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472-E71C-469A-B050-AC946413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BEC-7EA6-4580-858A-440C190B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62D1-3ADD-4FD8-9775-24B68D76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1922-D13F-4DB0-AE6E-47BD0C85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8B67-6F7C-4081-B8DE-2EFC9CA8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94AB-D517-417D-9318-6C90CBFC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01FD-8B98-41F5-BF0C-3F85B6DC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3017-A465-43F9-B1B2-681CAA0D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C3BC-5DA6-444A-A945-7BA7538F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2450-F8FF-435F-B62F-C3F55C00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887A-2999-4FB4-988B-A5C660E3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6550-1A73-4770-9BBC-AFBCF30A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EBC3-2724-4A07-B1E4-C7192DF6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0E0A-F310-4E8D-B5E8-5412D95E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648E-94DD-447C-991F-78B210C3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292-91ED-44D5-8105-DFB22D9B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18D-5F26-4710-946B-98D08748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37ED-C258-433C-9377-165794BE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762-EB44-414B-8CCA-D0F799E6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7E6-F57A-46F0-80CF-803101A7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E85A-6F3D-4E39-8F45-2330B324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E03-7DD9-4394-8DF0-5923F6F7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202e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202e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202e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4d4d4d"/>
                </a:gs>
                <a:gs pos="50000">
                  <a:srgbClr val="6d6d6d"/>
                </a:gs>
                <a:gs pos="100000">
                  <a:srgbClr val="4d4d4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202e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202e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202e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202e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202e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06C6-F144-46DA-9E27-4AB3A317DE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202e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202e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202e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4d4d4d"/>
                </a:gs>
                <a:gs pos="50000">
                  <a:srgbClr val="6d6d6d"/>
                </a:gs>
                <a:gs pos="100000">
                  <a:srgbClr val="4d4d4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202e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202e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202e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202e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202e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8202e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4B56-B8A6-4128-BF0A-60E2CD07916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99"/>
                </a:solidFill>
                <a:latin typeface="Arial"/>
              </a:rPr>
              <a:t>Машенцева Галина Григорьевна</a:t>
            </a:r>
            <a:br>
              <a:rPr sz="40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 физической  культуры  МОУ  СОШ с. Логиновка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егкая  атлет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Техника выполнения команды «Марш!»: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гун резко бросается вперед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ерез 5–6 шагов принимается вертикальное положение тел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7" descr="13-18"/>
          <p:cNvPicPr/>
          <p:nvPr/>
        </p:nvPicPr>
        <p:blipFill>
          <a:blip r:embed="rId3"/>
          <a:stretch/>
        </p:blipFill>
        <p:spPr>
          <a:xfrm>
            <a:off x="5651640" y="1844640"/>
            <a:ext cx="231912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ccff"/>
                </a:solidFill>
                <a:latin typeface="Arial"/>
              </a:rPr>
              <a:t>Бег по дистанции</a:t>
            </a:r>
            <a:br>
              <a:rPr sz="4000"/>
            </a:b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ильная постановка стопы: передняя часть стопы – носо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10" descr="13-19"/>
          <p:cNvPicPr/>
          <p:nvPr/>
        </p:nvPicPr>
        <p:blipFill>
          <a:blip r:embed="rId2"/>
          <a:stretch/>
        </p:blipFill>
        <p:spPr>
          <a:xfrm>
            <a:off x="2627280" y="765000"/>
            <a:ext cx="3024360" cy="2751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13-20"/>
          <p:cNvPicPr/>
          <p:nvPr/>
        </p:nvPicPr>
        <p:blipFill>
          <a:blip r:embed="rId3"/>
          <a:stretch/>
        </p:blipFill>
        <p:spPr>
          <a:xfrm>
            <a:off x="2124000" y="4869000"/>
            <a:ext cx="45370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51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ccff"/>
                </a:solidFill>
                <a:latin typeface="Arial"/>
              </a:rPr>
              <a:t>Положение кисти при беге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200" name="Picture 5" descr="13-22"/>
          <p:cNvPicPr/>
          <p:nvPr/>
        </p:nvPicPr>
        <p:blipFill>
          <a:blip r:embed="rId1"/>
          <a:stretch/>
        </p:blipFill>
        <p:spPr>
          <a:xfrm>
            <a:off x="1042920" y="1773360"/>
            <a:ext cx="76327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Один беговой шаг на короткой дистанции</a:t>
            </a:r>
            <a:br>
              <a:rPr sz="4000"/>
            </a:b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202" name="Picture 4" descr="13-23"/>
          <p:cNvPicPr/>
          <p:nvPr/>
        </p:nvPicPr>
        <p:blipFill>
          <a:blip r:embed="rId1"/>
          <a:stretch/>
        </p:blipFill>
        <p:spPr>
          <a:xfrm>
            <a:off x="1116000" y="836640"/>
            <a:ext cx="6769080" cy="2430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13-24"/>
          <p:cNvPicPr/>
          <p:nvPr/>
        </p:nvPicPr>
        <p:blipFill>
          <a:blip r:embed="rId2"/>
          <a:stretch/>
        </p:blipFill>
        <p:spPr>
          <a:xfrm>
            <a:off x="1116000" y="3429000"/>
            <a:ext cx="67690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Один беговой шаг на короткой дистанции</a:t>
            </a:r>
            <a:br>
              <a:rPr sz="4000"/>
            </a:b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хника бега на короткие дистанции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корость, достигнутая на старте, поддерживается на дистанци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 должен быть ритмичным и свободным, с расслаблением и небольшим наклоном туловища вперед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и отталкивании нога, находящаяся сзади, полностью выпрямляется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кончив отталкивание, нога расслабленно сгибается в колене и выносится бедром вперед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ога касается дорожки передней частью стопы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протяжении всей опорной фазы стопа не опускается на пятку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опы ставятся по прямой лини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 следует выбрасывать стопы далеко вперед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 время бега руки согнуты в локтях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уки способствуют сохранению равновесия и поддержанию или изменению темпа движени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1829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технике бега на короткие дистанции особое значение приобретает способность бежать свободно. </a:t>
            </a:r>
            <a:br>
              <a:rPr sz="18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9152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ЕГ НА КОРОТКИЕ ДИСТАНЦИИ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изкий старт</a:t>
            </a:r>
            <a:br>
              <a:rPr sz="4000"/>
            </a:b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44956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ыполнение команды «На старт!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 команде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«На старт!»: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дойти к колодкам и встать за ними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наклониться вперед и поставить руки на дорожку за колодками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толчковую (сильнейшую) ногу поставить на переднюю колодку, более слабую ногу поставить на заднюю колодку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опустить колено сзади стоящей ноги на дорожку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ставить руки к линии старта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четыре пальца соединены вместе и обращены наружу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большие пальцы обращены кнаружи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руки расставлены на ширину плеч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лечи над стартовой линией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тяжесть тела распределяется равномерно между точками опоры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голова держится свободно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згляд устремлен вперед-вниз примерно на 1,5–2 м от линии старт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7" descr="13-2"/>
          <p:cNvPicPr/>
          <p:nvPr/>
        </p:nvPicPr>
        <p:blipFill>
          <a:blip r:embed="rId15"/>
          <a:stretch/>
        </p:blipFill>
        <p:spPr>
          <a:xfrm>
            <a:off x="5567400" y="2014560"/>
            <a:ext cx="310824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полнение команды «Внимание!»</a:t>
            </a:r>
            <a:br>
              <a:rPr sz="3200"/>
            </a:b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 команде «Внимание!»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лено стоящей сзади ноги отрывается от грунт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аз приподнимается выше плеч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ленный сустав передней ноги образует почти прямой угол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пина слегка приподнят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олова опущена, как при команде «На старт!»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яжесть тела перенесена на ру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10" descr="13-3"/>
          <p:cNvPicPr/>
          <p:nvPr/>
        </p:nvPicPr>
        <p:blipFill>
          <a:blip r:embed="rId8"/>
          <a:stretch/>
        </p:blipFill>
        <p:spPr>
          <a:xfrm>
            <a:off x="539640" y="2060640"/>
            <a:ext cx="35575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Выполнение команды «Марш!»</a:t>
            </a:r>
            <a:br>
              <a:rPr sz="4000"/>
            </a:b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0" y="620640"/>
            <a:ext cx="41148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Verdana"/>
              </a:rPr>
              <a:t>По команде «Марш!»: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66"/>
                </a:solidFill>
                <a:latin typeface="Verdana"/>
              </a:rPr>
              <a:t>постараться вложить всю силу в первое движение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66"/>
                </a:solidFill>
                <a:latin typeface="Verdana"/>
              </a:rPr>
              <a:t>тело молниеносно выпрямляется вверх-вперед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66"/>
                </a:solidFill>
                <a:latin typeface="Verdana"/>
              </a:rPr>
              <a:t>находящаяся сзади нога делает первый шаг и касается грунта кратчайшим путем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66"/>
                </a:solidFill>
                <a:latin typeface="Verdana"/>
              </a:rPr>
              <a:t>кисти слегка отталкиваются от грунта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66"/>
                </a:solidFill>
                <a:latin typeface="Verdana"/>
              </a:rPr>
              <a:t>руки попеременно выполняют короткие и быстрые движения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66"/>
                </a:solidFill>
                <a:latin typeface="Verdana"/>
              </a:rPr>
              <a:t>взгляд направлен немного вперед на беговую дорожку, наклон тела уменьшается только через 6–8 шагов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Verdana"/>
              </a:rPr>
              <a:t>Стартовый разбег: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66"/>
                </a:solidFill>
                <a:latin typeface="Verdana"/>
              </a:rPr>
              <a:t>касаться грунта передней частью стопы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66"/>
                </a:solidFill>
                <a:latin typeface="Verdana"/>
              </a:rPr>
              <a:t>перемещать стопы по одной линии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66"/>
                </a:solidFill>
                <a:latin typeface="Verdana"/>
              </a:rPr>
              <a:t>делать широкие и быстрые шаги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66"/>
                </a:solidFill>
                <a:latin typeface="Verdana"/>
              </a:rPr>
              <a:t>энергично отталкиваться стопами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66"/>
                </a:solidFill>
                <a:latin typeface="Verdana"/>
              </a:rPr>
              <a:t>высоко поднимать маховую ногу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66"/>
                </a:solidFill>
                <a:latin typeface="Verdana"/>
              </a:rPr>
              <a:t>руки, согнутые в локтях, энергично работают вперед-назад (не наискось, не поперек тела)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66"/>
                </a:solidFill>
                <a:latin typeface="Verdana"/>
              </a:rPr>
              <a:t>не сжимать руки в кулаки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66"/>
                </a:solidFill>
                <a:latin typeface="Verdana"/>
              </a:rPr>
              <a:t>наклонить тело слегка вперед, но не сгибаться в пояснице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66"/>
                </a:solidFill>
                <a:latin typeface="Verdana"/>
              </a:rPr>
              <a:t>не стискивать зубы, не напрягать рот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7" descr="13-4"/>
          <p:cNvPicPr/>
          <p:nvPr/>
        </p:nvPicPr>
        <p:blipFill>
          <a:blip r:embed="rId16"/>
          <a:stretch/>
        </p:blipFill>
        <p:spPr>
          <a:xfrm>
            <a:off x="468360" y="1916280"/>
            <a:ext cx="3711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764640"/>
            <a:ext cx="76676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шибки, допускаемые при низком старте</a:t>
            </a:r>
            <a:br>
              <a:rPr sz="4000"/>
            </a:b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0" y="249228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олова закинута назад, потому что бегун смотрит в направлении финиша – спина прогибает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уки не выпрямлены – центр тяжест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лишком сдвинут назад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уки опираются неотвесно, под углом – тяжесть тела чрезмерно переносится назад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17" descr="13-5"/>
          <p:cNvPicPr/>
          <p:nvPr/>
        </p:nvPicPr>
        <p:blipFill>
          <a:blip r:embed="rId1"/>
          <a:stretch/>
        </p:blipFill>
        <p:spPr>
          <a:xfrm>
            <a:off x="3564000" y="3213000"/>
            <a:ext cx="1600200" cy="1162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13-6"/>
          <p:cNvPicPr/>
          <p:nvPr/>
        </p:nvPicPr>
        <p:blipFill>
          <a:blip r:embed="rId2"/>
          <a:stretch/>
        </p:blipFill>
        <p:spPr>
          <a:xfrm>
            <a:off x="7093080" y="4149720"/>
            <a:ext cx="1571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13-7"/>
          <p:cNvPicPr/>
          <p:nvPr/>
        </p:nvPicPr>
        <p:blipFill>
          <a:blip r:embed="rId1"/>
          <a:stretch/>
        </p:blipFill>
        <p:spPr>
          <a:xfrm>
            <a:off x="5940360" y="189000"/>
            <a:ext cx="1647720" cy="1152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686800" cy="669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Arial"/>
              </a:rPr>
              <a:t>Спина  прогнута 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ccff"/>
                </a:solidFill>
                <a:latin typeface="Arial"/>
              </a:rPr>
              <a:t> Бегун «сидит», слишком отклонив туловище назад, </a:t>
            </a:r>
            <a:br>
              <a:rPr sz="2000"/>
            </a:br>
            <a:r>
              <a:rPr b="0" lang="ru-RU" sz="2000" spc="-1" strike="noStrike">
                <a:solidFill>
                  <a:srgbClr val="ccccff"/>
                </a:solidFill>
                <a:latin typeface="Arial"/>
              </a:rPr>
              <a:t>руки упираются наискось.</a:t>
            </a:r>
            <a:r>
              <a:rPr b="0" lang="ru-RU" sz="4400" spc="-1" strike="noStrike">
                <a:solidFill>
                  <a:srgbClr val="cccc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2000" spc="-1" strike="noStrike">
                <a:solidFill>
                  <a:srgbClr val="ccccff"/>
                </a:solidFill>
                <a:latin typeface="Arial"/>
              </a:rPr>
              <a:t>Таз поднят очень высоко – ноги уже почти выпрямлены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ccff"/>
                </a:solidFill>
                <a:latin typeface="Arial"/>
              </a:rPr>
              <a:t>Бегун слишком сильно опирается на руки, которые к тому же расположены неотвесно.</a:t>
            </a:r>
            <a:r>
              <a:rPr b="0" lang="ru-RU" sz="4400" spc="-1" strike="noStrike">
                <a:solidFill>
                  <a:srgbClr val="cccc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ccccff"/>
                </a:solidFill>
                <a:latin typeface="Arial"/>
              </a:rPr>
              <a:t>Выпрямление произошло до того, как ноги сделали первое движение.</a:t>
            </a:r>
            <a:r>
              <a:rPr b="0" lang="ru-RU" sz="4400" spc="-1" strike="noStrike">
                <a:solidFill>
                  <a:srgbClr val="cccc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177" name="Picture 6" descr="13-8"/>
          <p:cNvPicPr/>
          <p:nvPr/>
        </p:nvPicPr>
        <p:blipFill>
          <a:blip r:embed="rId2"/>
          <a:stretch/>
        </p:blipFill>
        <p:spPr>
          <a:xfrm>
            <a:off x="3132000" y="0"/>
            <a:ext cx="1657440" cy="1197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13-9"/>
          <p:cNvPicPr/>
          <p:nvPr/>
        </p:nvPicPr>
        <p:blipFill>
          <a:blip r:embed="rId3"/>
          <a:stretch/>
        </p:blipFill>
        <p:spPr>
          <a:xfrm>
            <a:off x="4716360" y="1628640"/>
            <a:ext cx="1666800" cy="857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13-10"/>
          <p:cNvPicPr/>
          <p:nvPr/>
        </p:nvPicPr>
        <p:blipFill>
          <a:blip r:embed="rId4"/>
          <a:stretch/>
        </p:blipFill>
        <p:spPr>
          <a:xfrm>
            <a:off x="7429680" y="2421000"/>
            <a:ext cx="1714320" cy="1019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13-11"/>
          <p:cNvPicPr/>
          <p:nvPr/>
        </p:nvPicPr>
        <p:blipFill>
          <a:blip r:embed="rId5"/>
          <a:stretch/>
        </p:blipFill>
        <p:spPr>
          <a:xfrm>
            <a:off x="4932360" y="4076640"/>
            <a:ext cx="1600200" cy="961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13-13"/>
          <p:cNvPicPr/>
          <p:nvPr/>
        </p:nvPicPr>
        <p:blipFill>
          <a:blip r:embed="rId6"/>
          <a:stretch/>
        </p:blipFill>
        <p:spPr>
          <a:xfrm>
            <a:off x="2771640" y="5589720"/>
            <a:ext cx="153360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22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Arial"/>
              </a:rPr>
              <a:t>Маховая нога поднимается чрезмерно высоко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ccff"/>
                </a:solidFill>
                <a:latin typeface="Arial"/>
              </a:rPr>
              <a:t>Обе руки слишком отводятся назад.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183" name="Picture 5" descr="13-15"/>
          <p:cNvPicPr/>
          <p:nvPr/>
        </p:nvPicPr>
        <p:blipFill>
          <a:blip r:embed="rId1"/>
          <a:stretch/>
        </p:blipFill>
        <p:spPr>
          <a:xfrm>
            <a:off x="3492360" y="4076640"/>
            <a:ext cx="2232000" cy="187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13-14"/>
          <p:cNvPicPr/>
          <p:nvPr/>
        </p:nvPicPr>
        <p:blipFill>
          <a:blip r:embed="rId2"/>
          <a:stretch/>
        </p:blipFill>
        <p:spPr>
          <a:xfrm>
            <a:off x="3132000" y="1341360"/>
            <a:ext cx="2521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ccff"/>
                </a:solidFill>
                <a:latin typeface="Arial"/>
              </a:rPr>
              <a:t>Высокий старт</a:t>
            </a:r>
            <a:br>
              <a:rPr sz="4000"/>
            </a:b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ехника выполнения команды «На старт!»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ильнейшую ногу поставить вплотную к стартовой лин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емного повернуть носок внутрь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ругая нога на 1,5–2 стопы сзад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яжесть тела равномерно распределяется на обе ног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уловище выпрямлено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уки свободно опущен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6" descr="13-16"/>
          <p:cNvPicPr/>
          <p:nvPr/>
        </p:nvPicPr>
        <p:blipFill>
          <a:blip r:embed="rId8"/>
          <a:stretch/>
        </p:blipFill>
        <p:spPr>
          <a:xfrm>
            <a:off x="6300720" y="1628640"/>
            <a:ext cx="16225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Техника выполнения команды «Внимание!»: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клонить туловище вперед под углом 45°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яжесть тела перенести на сильнейшую ногу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7" descr="13-17"/>
          <p:cNvPicPr/>
          <p:nvPr/>
        </p:nvPicPr>
        <p:blipFill>
          <a:blip r:embed="rId4"/>
          <a:stretch/>
        </p:blipFill>
        <p:spPr>
          <a:xfrm>
            <a:off x="826920" y="1557360"/>
            <a:ext cx="3313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38:15Z</dcterms:created>
  <dc:creator>Админ</dc:creator>
  <dc:description/>
  <dc:language>en-US</dc:language>
  <cp:lastModifiedBy>user</cp:lastModifiedBy>
  <dcterms:modified xsi:type="dcterms:W3CDTF">2013-10-16T11:18:17Z</dcterms:modified>
  <cp:revision>6</cp:revision>
  <dc:subject/>
  <dc:title>Ноздрин  Александр  Михайлович  учитель  физической  культуры  МОУ  «Чубаевская  основная  общеобразовательная  школа»</dc:title>
</cp:coreProperties>
</file>