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6AD2-3717-433C-98F3-9E1F8A46D3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E0AA-A845-47D5-881F-2501E5BFFF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AD1-FA79-4FEE-8FCA-EC4A3CAF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72D-6C8D-480E-9DC5-2683E698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8AC-96FE-4AF4-9DF2-18F95B33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241-4AAA-4237-8342-655D95BD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4F1-DAD2-4D32-9DB4-3FADB094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31C5-875D-4E9D-B940-5A20A325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042-95C2-4F88-AACA-1F0C2F05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1616-B940-4A00-9755-491A550F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47D-62F2-4CF8-88A9-DC2A3AE4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0C08-5E37-4EDF-B39B-B168FE4C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464B-968E-453A-BABF-2A45F570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D88-889D-4427-A3FC-2C2ECF15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153E-C85E-470C-AA89-DD51632CEB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ическая разработка: «Применение дидактических игр на уроках химии»</a:t>
            </a:r>
            <a:br>
              <a:rPr sz="4000"/>
            </a:b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на примере урока: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оединения  углерода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</a:rPr>
              <a:t>Автор:</a:t>
            </a: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КНЯЗ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Екатери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учитель хи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ГБОУ школа № 5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www.koipkro.kostroma.ru/ostro2/Oschool/biolog/DocLib/_w/J0233970_WMF.jpg"/>
          <p:cNvPicPr/>
          <p:nvPr/>
        </p:nvPicPr>
        <p:blipFill>
          <a:blip r:embed="rId1"/>
          <a:stretch/>
        </p:blipFill>
        <p:spPr>
          <a:xfrm>
            <a:off x="685800" y="3505320"/>
            <a:ext cx="34290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L17p2p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5334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(Cu(OH)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алахи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D:\Documents and Settings\Лера\Рабочий стол\Новая папка (2)\11.jpg"/>
          <p:cNvPicPr/>
          <p:nvPr/>
        </p:nvPicPr>
        <p:blipFill>
          <a:blip r:embed="rId2"/>
          <a:stretch/>
        </p:blipFill>
        <p:spPr>
          <a:xfrm>
            <a:off x="7010280" y="426708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L35p3p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аменный уго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0" descr="D:\Documents and Settings\Лера\Рабочий стол\Новая папка (2)\L35p1p00.jpg"/>
          <p:cNvPicPr/>
          <p:nvPr/>
        </p:nvPicPr>
        <p:blipFill>
          <a:blip r:embed="rId2"/>
          <a:stretch/>
        </p:blipFill>
        <p:spPr>
          <a:xfrm>
            <a:off x="5638680" y="4397400"/>
            <a:ext cx="35053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L36p3p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H:\COURSE\{52DE9E21-88E5-4D8E-A829-87CDFB8E3EB9}\Viewers\Photo\L005\L05p5p02.jpg"/>
          <p:cNvPicPr/>
          <p:nvPr/>
        </p:nvPicPr>
        <p:blipFill>
          <a:blip r:embed="rId2"/>
          <a:stretch/>
        </p:blipFill>
        <p:spPr>
          <a:xfrm>
            <a:off x="5943600" y="445788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5151600"/>
            <a:ext cx="300816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неф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L05p5p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иродный га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L33p8p03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4229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L1p03p01"/>
          <p:cNvPicPr/>
          <p:nvPr/>
        </p:nvPicPr>
        <p:blipFill>
          <a:blip r:embed="rId2"/>
          <a:stretch/>
        </p:blipFill>
        <p:spPr>
          <a:xfrm>
            <a:off x="0" y="268596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L30p10p04"/>
          <p:cNvPicPr/>
          <p:nvPr/>
        </p:nvPicPr>
        <p:blipFill>
          <a:blip r:embed="rId3"/>
          <a:stretch/>
        </p:blipFill>
        <p:spPr>
          <a:xfrm>
            <a:off x="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I:\Новая папка (2)\L27p05p06.jpg"/>
          <p:cNvPicPr/>
          <p:nvPr/>
        </p:nvPicPr>
        <p:blipFill>
          <a:blip r:embed="rId4"/>
          <a:stretch/>
        </p:blipFill>
        <p:spPr>
          <a:xfrm>
            <a:off x="51814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D:\Documents and Settings\Лера\Рабочий стол\Новая папка (2)\00031971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D:\Documents and Settings\Лера\Рабочий стол\Новая папка (2)\L21W2p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L30p07p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L02p1p01"/>
          <p:cNvPicPr/>
          <p:nvPr/>
        </p:nvPicPr>
        <p:blipFill>
          <a:blip r:embed="rId1"/>
          <a:stretch/>
        </p:blipFill>
        <p:spPr>
          <a:xfrm>
            <a:off x="0" y="-95400"/>
            <a:ext cx="9372600" cy="702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D:\Documents and Settings\Лера\Рабочий стол\Новая папка (2)\L29p06p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5781960"/>
            <a:ext cx="3808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-36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196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685360"/>
                <a:tab algn="l" pos="8978760"/>
                <a:tab algn="l" pos="9428040"/>
                <a:tab algn="l" pos="9877320"/>
                <a:tab algn="l" pos="10326600"/>
                <a:tab algn="l" pos="10777680"/>
                <a:tab algn="l" pos="107791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урок служит для формирования предметных и  метапредметных знаний, умений и навыков у учащихся 9 класса в процессе иг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196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685360"/>
                <a:tab algn="l" pos="8978760"/>
                <a:tab algn="l" pos="9428040"/>
                <a:tab algn="l" pos="9877320"/>
                <a:tab algn="l" pos="10326600"/>
                <a:tab algn="l" pos="10777680"/>
                <a:tab algn="l" pos="107791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никами урок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учащиеся 9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196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685360"/>
                <a:tab algn="l" pos="8978760"/>
                <a:tab algn="l" pos="9428040"/>
                <a:tab algn="l" pos="9877320"/>
                <a:tab algn="l" pos="10326600"/>
                <a:tab algn="l" pos="10777680"/>
                <a:tab algn="l" pos="107791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ю урок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усвоение учащимися материала курса химии  по теме: «Соединения углерода»на уровне компетенции посредством активного изучения теоретического материала, через участие учащихся в дидактической иг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196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685360"/>
                <a:tab algn="l" pos="8978760"/>
                <a:tab algn="l" pos="9428040"/>
                <a:tab algn="l" pos="9877320"/>
                <a:tab algn="l" pos="10326600"/>
                <a:tab algn="l" pos="10777680"/>
                <a:tab algn="l" pos="107791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няемые приемы, методы и технологи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ый подход в обучении, игровые техн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196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685360"/>
                <a:tab algn="l" pos="8978760"/>
                <a:tab algn="l" pos="9428040"/>
                <a:tab algn="l" pos="9877320"/>
                <a:tab algn="l" pos="10326600"/>
                <a:tab algn="l" pos="10777680"/>
                <a:tab algn="l" pos="1077912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ащение урок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медийная презентация,  лабораторное оборудование (пробирки, вещества, приборы для получения газообразных веществ) раздаточный материал(опорные конспекты, памятки для учащихся), игровое поле, игровые куб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СОЕДИНЕНИЯ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УГЛЕРОДА: </a:t>
            </a:r>
            <a:br>
              <a:rPr sz="72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ДРУЗЬЯ или ВРАГ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56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Известно, что оксид серы (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) при растворении в воде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образует неустойчивую сернистую кислоту и как типичный кислотный оксид, вступает в реакцию с основанием с образованием соответствующей кислоты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Составьте уравнения реакций, характеризующие свойства оксида углерода (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ubOvalCallout"/>
          <p:cNvSpPr/>
          <p:nvPr/>
        </p:nvSpPr>
        <p:spPr>
          <a:xfrm>
            <a:off x="0" y="0"/>
            <a:ext cx="1143000" cy="1295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91440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+H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ru-RU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    </a:t>
            </a:r>
            <a:r>
              <a:rPr b="1" lang="ru-RU" sz="48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2H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Object 9" descr=""/>
          <p:cNvPicPr/>
          <p:nvPr/>
        </p:nvPicPr>
        <p:blipFill>
          <a:blip r:embed="rId1"/>
          <a:stretch/>
        </p:blipFill>
        <p:spPr>
          <a:xfrm>
            <a:off x="7718400" y="2514600"/>
            <a:ext cx="1425600" cy="2692440"/>
          </a:xfrm>
          <a:prstGeom prst="rect">
            <a:avLst/>
          </a:prstGeom>
          <a:ln w="0">
            <a:noFill/>
          </a:ln>
        </p:spPr>
      </p:pic>
      <p:sp>
        <p:nvSpPr>
          <p:cNvPr id="111" name="Line 14"/>
          <p:cNvSpPr/>
          <p:nvPr/>
        </p:nvSpPr>
        <p:spPr>
          <a:xfrm flipH="1">
            <a:off x="4723920" y="121932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4800600" y="1066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>
            <a:off x="419112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H="1">
            <a:off x="4191120" y="39625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4191120" y="38098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5334120" y="48769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Ca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7200" spc="-1" strike="noStrike" baseline="-25000">
                <a:solidFill>
                  <a:srgbClr val="000000"/>
                </a:solidFill>
                <a:latin typeface="Arial"/>
              </a:rPr>
              <a:t>2   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en-US" sz="7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 flipH="1">
            <a:off x="4266720" y="106668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>
            <a:off x="4343400" y="9144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4038480" y="27432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3581280" y="510552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D:\Documents and Settings\Лера\Рабочий стол\Новая папка (2)\L1p03p01.jpg"/>
          <p:cNvPicPr/>
          <p:nvPr/>
        </p:nvPicPr>
        <p:blipFill>
          <a:blip r:embed="rId1"/>
          <a:stretch/>
        </p:blipFill>
        <p:spPr>
          <a:xfrm>
            <a:off x="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:\Documents and Settings\Лера\Рабочий стол\Новая папка (2)\L30p10p04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:\Documents and Settings\Лера\Рабочий стол\Новая папка (2)\L33p2p00.jpg"/>
          <p:cNvPicPr/>
          <p:nvPr/>
        </p:nvPicPr>
        <p:blipFill>
          <a:blip r:embed="rId3"/>
          <a:stretch/>
        </p:blipFill>
        <p:spPr>
          <a:xfrm>
            <a:off x="4495680" y="3600360"/>
            <a:ext cx="4648320" cy="325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D:\Documents and Settings\Лера\Рабочий стол\Новая папка (2)\L10p1p02.jpg"/>
          <p:cNvPicPr/>
          <p:nvPr/>
        </p:nvPicPr>
        <p:blipFill>
          <a:blip r:embed="rId4"/>
          <a:stretch/>
        </p:blipFill>
        <p:spPr>
          <a:xfrm>
            <a:off x="0" y="3584520"/>
            <a:ext cx="4514760" cy="32734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9"/>
          <p:cNvSpPr/>
          <p:nvPr/>
        </p:nvSpPr>
        <p:spPr>
          <a:xfrm>
            <a:off x="1600200" y="3048120"/>
            <a:ext cx="5638680" cy="11347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      </a:t>
            </a:r>
            <a:r>
              <a:rPr b="1" lang="ru-RU" sz="60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3581280" y="358128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D:\Documents and Settings\Лера\Рабочий стол\Новая папка (2)\L31p2p08.jpg"/>
          <p:cNvPicPr/>
          <p:nvPr/>
        </p:nvPicPr>
        <p:blipFill>
          <a:blip r:embed="rId1"/>
          <a:stretch/>
        </p:blipFill>
        <p:spPr>
          <a:xfrm>
            <a:off x="0" y="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то произойдет, если пропустить углекислый газ через раствор гидроксида кальция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оставьте соответствующие уравнения реакций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 Ca(OH)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4343400" y="7621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5257800" y="25146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4419720" y="3352680"/>
            <a:ext cx="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I:\Новая папка (2)\L31p2p08.jpg"/>
          <p:cNvPicPr/>
          <p:nvPr/>
        </p:nvPicPr>
        <p:blipFill>
          <a:blip r:embed="rId1"/>
          <a:stretch/>
        </p:blipFill>
        <p:spPr>
          <a:xfrm>
            <a:off x="1219320" y="3048120"/>
            <a:ext cx="6858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D:\Documents and Settings\Лера\Рабочий стол\Новая папка (2)\L31p2p04.jpg"/>
          <p:cNvPicPr/>
          <p:nvPr/>
        </p:nvPicPr>
        <p:blipFill>
          <a:blip r:embed="rId1"/>
          <a:stretch/>
        </p:blipFill>
        <p:spPr>
          <a:xfrm>
            <a:off x="228600" y="3581280"/>
            <a:ext cx="4089240" cy="3067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ли угольной кисл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3962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рбонат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a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 baseline="-25000">
                <a:solidFill>
                  <a:srgbClr val="000000"/>
                </a:solidFill>
                <a:latin typeface="Arial"/>
              </a:rPr>
              <a:t>мрам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7960" y="228600"/>
            <a:ext cx="426708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идрокарбонат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H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baseline="-25000">
                <a:solidFill>
                  <a:srgbClr val="000000"/>
                </a:solidFill>
                <a:latin typeface="Arial"/>
              </a:rPr>
              <a:t>питьевая с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Прямая со стрелкой 14"/>
          <p:cNvCxnSpPr/>
          <p:nvPr/>
        </p:nvCxnSpPr>
        <p:spPr>
          <a:xfrm flipV="1">
            <a:off x="3886200" y="3200040"/>
            <a:ext cx="216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1" name="Прямая со стрелкой 16"/>
          <p:cNvCxnSpPr/>
          <p:nvPr/>
        </p:nvCxnSpPr>
        <p:spPr>
          <a:xfrm>
            <a:off x="5866920" y="990360"/>
            <a:ext cx="762840" cy="533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Прямая со стрелкой 21"/>
          <p:cNvCxnSpPr/>
          <p:nvPr/>
        </p:nvCxnSpPr>
        <p:spPr>
          <a:xfrm flipH="1">
            <a:off x="2285280" y="990720"/>
            <a:ext cx="76284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43" name="Picture 4" descr="L18w2p00"/>
          <p:cNvPicPr/>
          <p:nvPr/>
        </p:nvPicPr>
        <p:blipFill>
          <a:blip r:embed="rId2"/>
          <a:stretch/>
        </p:blipFill>
        <p:spPr>
          <a:xfrm>
            <a:off x="4572000" y="3581280"/>
            <a:ext cx="4041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D:\Documents and Settings\Лера\Рабочий стол\Новая папка (2)\L27w01p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ffffff"/>
                </a:solidFill>
                <a:latin typeface="Arial"/>
              </a:rPr>
              <a:t>Страшная         тайна  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D:\Documents and Settings\Лера\Рабочий стол\Новая папка (2)\L27w01p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0" y="425520"/>
            <a:ext cx="9144000" cy="6430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ли угольной кислоты, как и все прочие обладают рядом особых свойств. Одно из них сокрыто в этом ларце. Однако, чтобы открыть его нужно выполнить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ите два способа получения карбоната кальция из оксида углерод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IV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шите соответствующие уравнения реа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ы правильно выполните задание, то ларец откро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 урок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 у учащихся знания по теме «Соединения углерода» через активное изучение материала (в форме игры), умнее сравнивать анализировать и делать соответствующие выводы, применяя в дальнейшем свои знания на практике и в других предметных обла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уть игры: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каждой команды кидают кубик с цифрами и в соответствии с этим делают определенное количество шагов на игровом поле. Попадая на ту или иную «станцию» учащиеся выполняют определенное задание и только после этого двигаются по полю дальше. За каждый правильный, быстрый и подробный ответ команды получают бал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-93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228960" y="533160"/>
            <a:ext cx="9372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 нерастворимые карбонаты, а также гидрокарбонаты разлагаются при нагревании с образованием углекислого га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ru-RU" sz="5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5400" spc="-1" strike="noStrike" baseline="-25000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aO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5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5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44132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3733920" y="373392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24"/>
          <p:cNvSpPr/>
          <p:nvPr/>
        </p:nvSpPr>
        <p:spPr>
          <a:xfrm>
            <a:off x="3352680" y="57150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21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4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3429000" y="12952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24"/>
          <p:cNvSpPr/>
          <p:nvPr/>
        </p:nvSpPr>
        <p:spPr>
          <a:xfrm>
            <a:off x="3581280" y="838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D:\Documents and Settings\Лера\Рабочий стол\Новая папка (2)\1171695663.jpg"/>
          <p:cNvPicPr/>
          <p:nvPr/>
        </p:nvPicPr>
        <p:blipFill>
          <a:blip r:embed="rId1"/>
          <a:stretch/>
        </p:blipFill>
        <p:spPr>
          <a:xfrm>
            <a:off x="1752480" y="2133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(HCO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Picture 039"/>
          <p:cNvPicPr/>
          <p:nvPr/>
        </p:nvPicPr>
        <p:blipFill>
          <a:blip r:embed="rId1"/>
          <a:stretch/>
        </p:blipFill>
        <p:spPr>
          <a:xfrm>
            <a:off x="0" y="2514600"/>
            <a:ext cx="5867280" cy="4343400"/>
          </a:xfrm>
          <a:prstGeom prst="rect">
            <a:avLst/>
          </a:prstGeom>
          <a:ln w="0">
            <a:noFill/>
          </a:ln>
        </p:spPr>
      </p:pic>
      <p:sp>
        <p:nvSpPr>
          <p:cNvPr id="160" name="Line 13"/>
          <p:cNvSpPr/>
          <p:nvPr/>
        </p:nvSpPr>
        <p:spPr>
          <a:xfrm>
            <a:off x="3352680" y="182880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Picture 040"/>
          <p:cNvPicPr/>
          <p:nvPr/>
        </p:nvPicPr>
        <p:blipFill>
          <a:blip r:embed="rId2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0"/>
          <p:cNvSpPr/>
          <p:nvPr/>
        </p:nvSpPr>
        <p:spPr>
          <a:xfrm>
            <a:off x="4422960" y="31701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Picture 057"/>
          <p:cNvPicPr/>
          <p:nvPr/>
        </p:nvPicPr>
        <p:blipFill>
          <a:blip r:embed="rId1"/>
          <a:stretch/>
        </p:blipFill>
        <p:spPr>
          <a:xfrm>
            <a:off x="152280" y="35712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038480" y="228600"/>
            <a:ext cx="46483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лаборатории произошло ЧП: от нескольких склянок с реактивами  оторвались этикетки. Известно, что в  нескольких из них склянках были карбон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помощью какой реакции можно определить, где были карбона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Picture 047"/>
          <p:cNvPicPr/>
          <p:nvPr/>
        </p:nvPicPr>
        <p:blipFill>
          <a:blip r:embed="rId2"/>
          <a:stretch/>
        </p:blipFill>
        <p:spPr>
          <a:xfrm>
            <a:off x="152280" y="35244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рбонаты взаимодействуют с кислотам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качественная реакция на карбона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он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Cl     CaC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+C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Picture 048"/>
          <p:cNvPicPr/>
          <p:nvPr/>
        </p:nvPicPr>
        <p:blipFill>
          <a:blip r:embed="rId1"/>
          <a:stretch/>
        </p:blipFill>
        <p:spPr>
          <a:xfrm>
            <a:off x="914400" y="2971800"/>
            <a:ext cx="6934320" cy="3657600"/>
          </a:xfrm>
          <a:prstGeom prst="rect">
            <a:avLst/>
          </a:prstGeom>
          <a:ln w="0">
            <a:noFill/>
          </a:ln>
        </p:spPr>
      </p:pic>
      <p:sp>
        <p:nvSpPr>
          <p:cNvPr id="169" name="Line 13"/>
          <p:cNvSpPr/>
          <p:nvPr/>
        </p:nvSpPr>
        <p:spPr>
          <a:xfrm>
            <a:off x="3962520" y="21337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HC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OH    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ONa+C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4038480" y="114300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D:\Documents and Settings\Лера\Рабочий стол\Новая папка (2)\00013400.jpg"/>
          <p:cNvPicPr/>
          <p:nvPr/>
        </p:nvPicPr>
        <p:blipFill>
          <a:blip r:embed="rId1"/>
          <a:stretch/>
        </p:blipFill>
        <p:spPr>
          <a:xfrm>
            <a:off x="304920" y="1752480"/>
            <a:ext cx="4190760" cy="450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D:\Documents and Settings\Лера\Рабочий стол\Новая папка (2)\00013460.jpg"/>
          <p:cNvPicPr/>
          <p:nvPr/>
        </p:nvPicPr>
        <p:blipFill>
          <a:blip r:embed="rId2"/>
          <a:stretch/>
        </p:blipFill>
        <p:spPr>
          <a:xfrm>
            <a:off x="4572000" y="1752480"/>
            <a:ext cx="42670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457560" y="22824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+2HCl    CaC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+C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3657600" y="8380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I:\Новая папка (2)\L10p1p02.jpg"/>
          <p:cNvPicPr/>
          <p:nvPr/>
        </p:nvPicPr>
        <p:blipFill>
          <a:blip r:embed="rId1"/>
          <a:stretch/>
        </p:blipFill>
        <p:spPr>
          <a:xfrm>
            <a:off x="380880" y="160020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I:\Новая папка (2)\L27p03p05.jpg"/>
          <p:cNvPicPr/>
          <p:nvPr/>
        </p:nvPicPr>
        <p:blipFill>
          <a:blip r:embed="rId2"/>
          <a:stretch/>
        </p:blipFill>
        <p:spPr>
          <a:xfrm>
            <a:off x="5562720" y="1523880"/>
            <a:ext cx="3276360" cy="2457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I:\Новая папка (2)\L10p8p00.jpg"/>
          <p:cNvPicPr/>
          <p:nvPr/>
        </p:nvPicPr>
        <p:blipFill>
          <a:blip r:embed="rId3"/>
          <a:stretch/>
        </p:blipFill>
        <p:spPr>
          <a:xfrm>
            <a:off x="3581280" y="2514600"/>
            <a:ext cx="3230640" cy="2743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I:\Новая папка (2)\L30p07p01.jpg"/>
          <p:cNvPicPr/>
          <p:nvPr/>
        </p:nvPicPr>
        <p:blipFill>
          <a:blip r:embed="rId4"/>
          <a:stretch/>
        </p:blipFill>
        <p:spPr>
          <a:xfrm>
            <a:off x="5562720" y="41148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I:\Новая папка (2)\L23p1p01.jpg"/>
          <p:cNvPicPr/>
          <p:nvPr/>
        </p:nvPicPr>
        <p:blipFill>
          <a:blip r:embed="rId5"/>
          <a:stretch/>
        </p:blipFill>
        <p:spPr>
          <a:xfrm>
            <a:off x="380880" y="41911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990720"/>
            <a:ext cx="784872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6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+ Ca(OH)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+Na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          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C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+HCl Ca(HCO</a:t>
            </a:r>
            <a:r>
              <a:rPr b="1" lang="ru-RU" sz="6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5638680" y="15238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4495680" y="2590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5029200" y="34290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4343400" y="44956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4343400" y="54864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0" y="685440"/>
            <a:ext cx="9524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 Ca(OH)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C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N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      N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+2HCL  CaCl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+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a(HCO</a:t>
            </a:r>
            <a:r>
              <a:rPr b="1" lang="ru-RU" sz="4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ru-RU" sz="4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+H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4038480" y="10666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3429000" y="20574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3962520" y="28954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3124080" y="388620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3124080" y="47242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228600" y="990720"/>
            <a:ext cx="891540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СОЕДИНЕНИЯ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УГЛЕРОДА: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ДРУЗЬЯ или ВРАГИ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762120"/>
          <a:ext cx="9144000" cy="5913360"/>
        </p:xfrm>
        <a:graphic>
          <a:graphicData uri="http://schemas.openxmlformats.org/drawingml/2006/table">
            <a:tbl>
              <a:tblPr/>
              <a:tblGrid>
                <a:gridCol w="1746360"/>
                <a:gridCol w="2576520"/>
                <a:gridCol w="2535120"/>
                <a:gridCol w="22860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ятельность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505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темы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ель предлагает учащимся ответить на вопрос: Какого значение соединений углерода? посредством презентации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щиеся отвечают на вопрос учителя («мозговой штурм») и предлагают свои варианты отв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ируется проблема, которая будет решаться на у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1503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формы рабо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ель знакомит учащихся с правилами игры и делит детей на кома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щиеся слушают учителя, запоминают правила игры (алгоритм рабо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формированы команды и выбран алгоритм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2143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ель ведет игру (предлагает капитанам команды кидать кубик, определяя количество шагов на игровом поле). Зачитывает задание на каждом этапе (станции); проверяет правильность их выполнения. Каждая команда, которая быстрее всех и правильнее всех выполняет задание, получает балл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щиеся каждой команды выполняют соответствующее задание вместе; записывают  полученную информацию в опорный консп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ая, учащиеся знакомятся с основными представителями соединений углерода и изучают их св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762120"/>
          <a:ext cx="9144000" cy="6078240"/>
        </p:xfrm>
        <a:graphic>
          <a:graphicData uri="http://schemas.openxmlformats.org/drawingml/2006/table">
            <a:tbl>
              <a:tblPr/>
              <a:tblGrid>
                <a:gridCol w="1746360"/>
                <a:gridCol w="2576520"/>
                <a:gridCol w="2535120"/>
                <a:gridCol w="2286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ятельность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71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флекс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ель предлагает учащимся задание (закончить  уравнения реакций) и проверяет правильность выполнения. Присуждает дополнительные баллы лучшей команд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щиеся выполняют задание учителя, проверяют правильность выполнения заданий (самоконтрол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крепление изученного материала, проверка уровня ЗУНов учащихся, сформированных на урок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1963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ведение итогов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ель предлагает учащимся ответить на вопрос, поставленный в начале урока (решение проблемы урока), на основании полученных знаний; подводит итоги игры, выбирает лучшую коман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чают на вопрос учите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крепление изученного материала, проверка уровня ЗУНов учащихся, сформированных на уро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домашнего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ель знакомит учащихся с домашним зад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исывают домашнее задание, задают вопрос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машнее задани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L31p2p08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СОЕДИНЕНИЯ УГЛЕРОДА: </a:t>
            </a:r>
            <a:br>
              <a:rPr sz="72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ДРУЗЬЯ или ВРАГИ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680" y="4571640"/>
            <a:ext cx="74678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 хи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НЯЗ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катери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кола № 5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C:\Users\Екатерина\Desktop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4343040"/>
            <a:ext cx="9220320" cy="2514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 fontScale="93000"/>
          </a:bodyPr>
          <a:p>
            <a:pPr marL="31896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8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8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baseline="-25000">
                <a:solidFill>
                  <a:srgbClr val="000000"/>
                </a:solidFill>
                <a:latin typeface="Arial"/>
              </a:rPr>
              <a:t>техническая сод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:\Users\Екатерина\Desktop\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звестняк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0" descr="D:\Documents and Settings\Лера\Рабочий стол\Новая папка (2)\L18p1p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5029200"/>
            <a:ext cx="3429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рам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D:\Documents and Settings\Лера\Рабочий стол\Новая папка (2)\IMG_2822.JPG"/>
          <p:cNvPicPr/>
          <p:nvPr/>
        </p:nvPicPr>
        <p:blipFill>
          <a:blip r:embed="rId2"/>
          <a:stretch/>
        </p:blipFill>
        <p:spPr>
          <a:xfrm>
            <a:off x="6400800" y="3733920"/>
            <a:ext cx="2743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катерина</dc:creator>
  <dc:description/>
  <dc:language>en-US</dc:language>
  <cp:lastModifiedBy>Екатерина</cp:lastModifiedBy>
  <dcterms:modified xsi:type="dcterms:W3CDTF">2013-10-19T13:51:17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240000000000010250600207f7000400038000</vt:lpwstr>
  </property>
  <property fmtid="{D5CDD505-2E9C-101B-9397-08002B2CF9AE}" pid="3" name="Version">
    <vt:r8>1</vt:r8>
  </property>
</Properties>
</file>