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279-B9E0-48F2-9C18-5093FBA4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9A2-CB86-4855-83F4-2A3EB265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16D-000C-4E17-93A8-F4135A2B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0FF-1672-4E7B-AE71-657CFD8C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DBC3-E9BC-4367-976D-506D47B9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F55D-165F-47EA-9B42-4E814F79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14AF-EFF4-41A5-8793-1A6890A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D8C-6F74-4C70-875E-9B9B8BD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7E9-9145-455F-92E7-06A5DD2B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A490-E451-4667-8551-233D6AFE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0F7C-B08F-40C6-8D37-C824559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664-A2C2-428D-94A6-7473BD12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0F48-83C8-4B0B-B1EE-8D598EA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BA8-B46C-4FE0-BB79-AF251D0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02F-9C60-4D98-B2AD-FD0EA9CD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15E-D740-40AE-8117-B2B406A8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072E-D7D4-4371-8835-58C6C219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F55-D0A3-46BF-9275-F862AF2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927-6E4F-435A-BCDB-9D16715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777-0E8C-4ECE-BE4D-B6B768D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B04-0855-4099-9983-FE9D5CE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C94-69F3-41A8-ADE5-9C21AA1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A06-6B5D-4FF9-B8E0-77A3074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6B1-ADC4-4215-A223-44631C4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084-AF41-4848-9D69-D7DBA65A7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D26-E85B-4F4E-A286-3BD4F93953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и научные исследования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п Артем ученик 4 В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 №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9" descr="271220121261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узей – усадьба В.П. Сукаче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ябрь 201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научно – практическая конференция для школьников «Иркутск многонациональны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се на тем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 Итальянцы в Иркутск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101"/>
          <p:cNvPicPr/>
          <p:nvPr/>
        </p:nvPicPr>
        <p:blipFill>
          <a:blip r:embed="rId1"/>
          <a:stretch/>
        </p:blipFill>
        <p:spPr>
          <a:xfrm>
            <a:off x="4932360" y="393372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13112011276"/>
          <p:cNvPicPr/>
          <p:nvPr/>
        </p:nvPicPr>
        <p:blipFill>
          <a:blip r:embed="rId2"/>
          <a:stretch/>
        </p:blipFill>
        <p:spPr>
          <a:xfrm>
            <a:off x="4859280" y="1413000"/>
            <a:ext cx="38210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узей истории города Иркут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9" descr="SAM_2419"/>
          <p:cNvPicPr/>
          <p:nvPr/>
        </p:nvPicPr>
        <p:blipFill>
          <a:blip r:embed="rId1"/>
          <a:stretch/>
        </p:blipFill>
        <p:spPr>
          <a:xfrm>
            <a:off x="611280" y="1052640"/>
            <a:ext cx="3538440" cy="2654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AM_2421"/>
          <p:cNvPicPr/>
          <p:nvPr/>
        </p:nvPicPr>
        <p:blipFill>
          <a:blip r:embed="rId2"/>
          <a:stretch/>
        </p:blipFill>
        <p:spPr>
          <a:xfrm>
            <a:off x="4932360" y="1125360"/>
            <a:ext cx="3538440" cy="2654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3938760"/>
            <a:ext cx="8785440" cy="27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кабрь 201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о – практическая конференция для школьников « Мой горо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лад на тем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ихаил Леонтьевич Миль- наш земля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ст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в номинаци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Проблемы изучения и популяризации памятников истории и архитектур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0:51:57Z</dcterms:created>
  <dc:creator>Admin</dc:creator>
  <dc:description/>
  <dc:language>en-US</dc:language>
  <cp:lastModifiedBy>User</cp:lastModifiedBy>
  <dcterms:modified xsi:type="dcterms:W3CDTF">2013-10-19T13:26:06Z</dcterms:modified>
  <cp:revision>14</cp:revision>
  <dc:subject/>
  <dc:title>Слайд 1</dc:title>
</cp:coreProperties>
</file>