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B4F-97F3-41E1-98E2-A9FD0E83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CB6-B4BD-4AF2-800B-B125189A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E31-2B9B-4DDC-9A15-82A169C0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389-B1C1-4CFB-B8B6-8A6C3A9B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DAF7-75B7-4784-B158-2C9A58C0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8E2A-B770-4F5A-882C-FE131AA3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F439-B0F0-4611-B0BF-74EA1C16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EA7C-3267-460A-BEA2-7D33F602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8D97-4AF6-4BF2-BF06-66994976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0C58-8C60-4328-B4EF-E5A5F244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6348-E90B-418C-80B7-86C802E4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866-1BF8-4489-A0BF-9E89E885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AD81-BACC-4B31-BD12-9AD7BD3B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6AF7-486D-4919-8425-8D15B5B7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9E83-F736-414C-8D77-40D579FE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95A1-9452-4FC1-ABD0-77A99F53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52BC-FEA5-4260-B8CE-6C0231EE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C24-FA76-4473-9816-1B1DE4D7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A82-2AD4-43A0-B2E0-92D79335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3BE-D7D8-4A52-96E7-172D1FA1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39A-957E-4CB1-826E-98212B1D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CE1-2523-494C-978C-32393851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592-3FA3-4B84-B884-82BD4C1D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3F1-5738-4209-8A03-4F1292E6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8DB8-FC61-4E0C-AA3E-F9BBE215D5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66B6-3020-41A6-88A9-48DFB786EC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80596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Организатор ЦМПО, на базе гимназии № 3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56880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нварь 2012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с «Свет книг не гаснет в нашем дом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формление читательского днев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з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номин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За книжными страницам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08012012346"/>
          <p:cNvPicPr/>
          <p:nvPr/>
        </p:nvPicPr>
        <p:blipFill>
          <a:blip r:embed="rId1"/>
          <a:stretch/>
        </p:blipFill>
        <p:spPr>
          <a:xfrm>
            <a:off x="250920" y="3573360"/>
            <a:ext cx="4032000" cy="3025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25012012397"/>
          <p:cNvPicPr/>
          <p:nvPr/>
        </p:nvPicPr>
        <p:blipFill>
          <a:blip r:embed="rId2"/>
          <a:stretch/>
        </p:blipFill>
        <p:spPr>
          <a:xfrm>
            <a:off x="6012000" y="2133720"/>
            <a:ext cx="28540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Областная библиотека имени Марка Сергеев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Picture 12" descr="22022012463"/>
          <p:cNvPicPr/>
          <p:nvPr/>
        </p:nvPicPr>
        <p:blipFill>
          <a:blip r:embed="rId1"/>
          <a:stretch/>
        </p:blipFill>
        <p:spPr>
          <a:xfrm>
            <a:off x="250920" y="3833640"/>
            <a:ext cx="4392360" cy="27608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38163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рт 2012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кторина по очерк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Г. Распути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 Твоя и моя Сибир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мес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9" descr="211020121114"/>
          <p:cNvPicPr/>
          <p:nvPr/>
        </p:nvPicPr>
        <p:blipFill>
          <a:blip r:embed="rId2"/>
          <a:stretch/>
        </p:blipFill>
        <p:spPr>
          <a:xfrm>
            <a:off x="5219640" y="1916280"/>
            <a:ext cx="34560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Фестиваль для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Arial"/>
              </a:rPr>
              <a:t>СТАРШЕКЛАССНИКОВ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«НЕДАРОМ ПОМНИТ ВСЯ   РОССИЯ…»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ОСТОЧНА СИБИРСКАЯ ГОСУДАРЧТВЕННАЯ АКАДЕМИЯ ОБРАЗОВАНИЯ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40000" y="2349360"/>
            <a:ext cx="41749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с творческих раб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историческое исслед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докла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Иркутский драгунский пол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плом участ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7" descr="08092012762-1"/>
          <p:cNvPicPr/>
          <p:nvPr/>
        </p:nvPicPr>
        <p:blipFill>
          <a:blip r:embed="rId1"/>
          <a:stretch/>
        </p:blipFill>
        <p:spPr>
          <a:xfrm>
            <a:off x="468360" y="1989000"/>
            <a:ext cx="26128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 научно – практическая конференция для школьников «Иркутск многонациональный»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усадьба В.П.Сукачев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2920" y="2708280"/>
            <a:ext cx="367344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ла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ихтинские                      голендр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мес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7" descr="141120121191"/>
          <p:cNvPicPr/>
          <p:nvPr/>
        </p:nvPicPr>
        <p:blipFill>
          <a:blip r:embed="rId1"/>
          <a:stretch/>
        </p:blipFill>
        <p:spPr>
          <a:xfrm>
            <a:off x="5003640" y="184464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00:51:57Z</dcterms:created>
  <dc:creator>Admin</dc:creator>
  <dc:description/>
  <dc:language>en-US</dc:language>
  <cp:lastModifiedBy>User</cp:lastModifiedBy>
  <dcterms:modified xsi:type="dcterms:W3CDTF">2013-10-19T13:26:50Z</dcterms:modified>
  <cp:revision>14</cp:revision>
  <dc:subject/>
  <dc:title>Слайд 1</dc:title>
</cp:coreProperties>
</file>