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492-DDF9-49CD-B7CD-60CC93C1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75B-B8B3-4C08-ABE0-A2C05EB2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F34-2AAC-42E2-874B-023F7433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89F-CB76-4E9F-BA6F-239E7BAD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C4B-E9FE-4D99-8B66-48453D6C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274C-2469-490C-9AED-89A431D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CD92-2E11-4B40-BFED-F283EAE0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762C-5781-43E4-83B1-248FCF3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481C-F656-4A0D-A05A-13B83C8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2644-D3D6-40CD-A4DD-F647889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68BC-4C39-40A1-9CF1-76C09C5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A71-800A-4E6C-8859-DF6E1D7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1DD-93E3-4F78-872F-03FABFC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C293-A576-42C6-AFB6-0BB53F6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EF2B-8C64-460F-95BE-79CD7CEB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8D89-B4D8-441D-9483-8B40DD47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E8F2-8FCB-4A88-827F-3DDB6E54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BB9-087F-431C-88F0-56B274A7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B03-047C-4DB8-B168-5A9F831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188-A7DA-4E0A-866F-1A316E7E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A2F-0CEC-4524-9B90-800C34A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F94-8A2D-4DD8-8C1D-E696F7EC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7DC-04E8-4631-8BBF-7645B14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047-1F71-4C45-9FC5-89252581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7CB-0388-4E72-BAE4-54250E6B6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A0DA-322A-4BA3-A098-85FEB967C8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0 ноября Пихтинс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9" descr="6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8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ОСТОЧНА СИБИРСКАЯ ГОСУДАРЧТВЕННАЯ АКАДЕМИЯ ОБРАЗ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ябрь 2012 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униципальная открытая научно-практическая конференция дл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ТАРШЕКЛАСС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ициатива. Ис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гражден сертификатом              участ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DSC05948"/>
          <p:cNvPicPr/>
          <p:nvPr/>
        </p:nvPicPr>
        <p:blipFill>
          <a:blip r:embed="rId1"/>
          <a:stretch/>
        </p:blipFill>
        <p:spPr>
          <a:xfrm>
            <a:off x="4356000" y="1341360"/>
            <a:ext cx="3408480" cy="255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DSC05825"/>
          <p:cNvPicPr/>
          <p:nvPr/>
        </p:nvPicPr>
        <p:blipFill>
          <a:blip r:embed="rId2"/>
          <a:stretch/>
        </p:blipFill>
        <p:spPr>
          <a:xfrm>
            <a:off x="5364000" y="407664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узей истории города Иркут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кабрь 2012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о – практическая конференция для шк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ой горо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гражден грамотой 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сек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емли Иркутской         славные сын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лад про Антона Антоновича Скал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0" descr="121220121215"/>
          <p:cNvPicPr/>
          <p:nvPr/>
        </p:nvPicPr>
        <p:blipFill>
          <a:blip r:embed="rId1"/>
          <a:stretch/>
        </p:blipFill>
        <p:spPr>
          <a:xfrm>
            <a:off x="826920" y="1557360"/>
            <a:ext cx="3587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ecff"/>
                </a:solidFill>
                <a:latin typeface="Arial"/>
              </a:rPr>
              <a:t>В настоящее время отправлены работы</a:t>
            </a:r>
            <a:r>
              <a:rPr b="0" lang="en-US" sz="3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узей-панорама «Бородинская битва» г.Моск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лиал музея г. Иркутс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Солдаты Отечеств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нкурс «Свет книг не гаснет в нашем доме» 2 раб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0:51:57Z</dcterms:created>
  <dc:creator>Admin</dc:creator>
  <dc:description/>
  <dc:language>en-US</dc:language>
  <cp:lastModifiedBy>User</cp:lastModifiedBy>
  <dcterms:modified xsi:type="dcterms:W3CDTF">2013-10-19T13:27:52Z</dcterms:modified>
  <cp:revision>14</cp:revision>
  <dc:subject/>
  <dc:title>Слайд 1</dc:title>
</cp:coreProperties>
</file>