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B02F-16C3-4FB4-8F59-6D3D1B51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B6DC-90BA-4491-9AE1-A0E3A25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B617-E586-4718-9B73-E976E05E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7404-9A9C-4E20-B34B-ECDDE740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F1AD-764B-475B-B7B7-D3756C37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F84-5152-4E59-AC20-1DD4291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DE85-0105-4764-906B-6C2670C4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8B92-9F9E-43D2-9E6C-FCF187EB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2FE1-07B6-4D93-A317-137FA51A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4400-7E51-4921-A999-5EE015B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41D1-BEA8-4152-8738-BB56C2E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880D-43BA-422E-9C2A-41D5B188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652B-D381-4B78-8F38-962364B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915B-A262-4BB1-B2FD-52E1C18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67D9-76DB-44B2-951C-4A206B6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E033-D1F3-4756-9C81-C775408F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7AA1-0C30-406A-BD6D-B65C7AE4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4CCD-3BAC-48D6-ABC5-10355AC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A0D5-95B2-4B9E-9166-8EF3FD9A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73FC-0FCA-4BFA-861A-C5B60C8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083B-CE52-4108-9A8E-92970F6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395C-1AEF-478A-80C8-533207A6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966F-0C5B-4348-9F63-E4C8FFE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4DA4-B650-4CAA-BF98-3FD1DE1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51A-53C1-486C-9800-B934E9A2AA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43AF-E72C-45B2-9BE0-A2BF6504FC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одобие в нашей жизн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5589360"/>
            <a:ext cx="4383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«Б» класса Горбунова Алё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6756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круг нас великое множество подобных фигур. Подобие нас окружает. Вот некоторые примеры из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pimg11307437803"/>
          <p:cNvPicPr/>
          <p:nvPr/>
        </p:nvPicPr>
        <p:blipFill>
          <a:blip r:embed="rId1"/>
          <a:stretch/>
        </p:blipFill>
        <p:spPr>
          <a:xfrm>
            <a:off x="4500720" y="1700280"/>
            <a:ext cx="4321080" cy="432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0005-005-Igrushki"/>
          <p:cNvPicPr/>
          <p:nvPr/>
        </p:nvPicPr>
        <p:blipFill>
          <a:blip r:embed="rId2"/>
          <a:stretch/>
        </p:blipFill>
        <p:spPr>
          <a:xfrm>
            <a:off x="539640" y="2060640"/>
            <a:ext cx="3330720" cy="3382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90429ada911b"/>
          <p:cNvPicPr/>
          <p:nvPr/>
        </p:nvPicPr>
        <p:blipFill>
          <a:blip r:embed="rId1"/>
          <a:stretch/>
        </p:blipFill>
        <p:spPr>
          <a:xfrm>
            <a:off x="4211640" y="2924280"/>
            <a:ext cx="4513320" cy="2993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birds_4_thumb"/>
          <p:cNvPicPr/>
          <p:nvPr/>
        </p:nvPicPr>
        <p:blipFill>
          <a:blip r:embed="rId2"/>
          <a:stretch/>
        </p:blipFill>
        <p:spPr>
          <a:xfrm>
            <a:off x="1042920" y="1844640"/>
            <a:ext cx="2799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b08606a7c1e212761e000169922e4f6"/>
          <p:cNvPicPr/>
          <p:nvPr/>
        </p:nvPicPr>
        <p:blipFill>
          <a:blip r:embed="rId1"/>
          <a:stretch/>
        </p:blipFill>
        <p:spPr>
          <a:xfrm>
            <a:off x="179280" y="2205000"/>
            <a:ext cx="3765600" cy="443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75940_3"/>
          <p:cNvPicPr/>
          <p:nvPr/>
        </p:nvPicPr>
        <p:blipFill>
          <a:blip r:embed="rId2"/>
          <a:stretch/>
        </p:blipFill>
        <p:spPr>
          <a:xfrm>
            <a:off x="4067280" y="2997360"/>
            <a:ext cx="4889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ногое друг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_13dda_caae5e40_XL"/>
          <p:cNvPicPr/>
          <p:nvPr/>
        </p:nvPicPr>
        <p:blipFill>
          <a:blip r:embed="rId1"/>
          <a:stretch/>
        </p:blipFill>
        <p:spPr>
          <a:xfrm>
            <a:off x="1692360" y="1052640"/>
            <a:ext cx="3529080" cy="309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0_13dda_caae5e40_XL"/>
          <p:cNvPicPr/>
          <p:nvPr/>
        </p:nvPicPr>
        <p:blipFill>
          <a:blip r:embed="rId2"/>
          <a:stretch/>
        </p:blipFill>
        <p:spPr>
          <a:xfrm>
            <a:off x="755640" y="1341360"/>
            <a:ext cx="1512720" cy="132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5EC74A53A335-22"/>
          <p:cNvPicPr/>
          <p:nvPr/>
        </p:nvPicPr>
        <p:blipFill>
          <a:blip r:embed="rId3"/>
          <a:srcRect l="0" t="0" r="0" b="18898"/>
          <a:stretch/>
        </p:blipFill>
        <p:spPr>
          <a:xfrm>
            <a:off x="5940360" y="1125360"/>
            <a:ext cx="2533680" cy="308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0011-011-Podobie-figur"/>
          <p:cNvPicPr/>
          <p:nvPr/>
        </p:nvPicPr>
        <p:blipFill>
          <a:blip r:embed="rId4"/>
          <a:stretch/>
        </p:blipFill>
        <p:spPr>
          <a:xfrm>
            <a:off x="6156360" y="443700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0a31985f158f25f73519ac56711756d7"/>
          <p:cNvPicPr/>
          <p:nvPr/>
        </p:nvPicPr>
        <p:blipFill>
          <a:blip r:embed="rId5"/>
          <a:stretch/>
        </p:blipFill>
        <p:spPr>
          <a:xfrm>
            <a:off x="3995640" y="4365720"/>
            <a:ext cx="1873440" cy="179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0013-013-Podobie-figur"/>
          <p:cNvPicPr/>
          <p:nvPr/>
        </p:nvPicPr>
        <p:blipFill>
          <a:blip r:embed="rId6"/>
          <a:stretch/>
        </p:blipFill>
        <p:spPr>
          <a:xfrm>
            <a:off x="395280" y="4005360"/>
            <a:ext cx="31608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20:08Z</dcterms:created>
  <dc:creator>User</dc:creator>
  <dc:description/>
  <dc:language>en-US</dc:language>
  <cp:lastModifiedBy>Admin</cp:lastModifiedBy>
  <dcterms:modified xsi:type="dcterms:W3CDTF">2013-10-19T17:14:43Z</dcterms:modified>
  <cp:revision>2</cp:revision>
  <dc:subject/>
  <dc:title>Подобие в нашей жизни.</dc:title>
</cp:coreProperties>
</file>