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9E31-A476-4DB8-8A2D-77B1E27A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4467-971B-4D15-AB2E-4DFB1210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D87F-EAC8-4977-9E88-FB320514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B305-9D58-43BE-85EE-F24AC653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ED70-DD62-4D07-AC8C-DB339E3C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0F0F-3050-4143-8062-0FE6535A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7BE9-C535-402E-ADB1-9999445B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4A65-4A0F-4EC3-BEB1-787C6FF5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2FAD-6624-497E-85D6-207F94CA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1EB3-3306-47D7-AD4E-F9808B2F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45DD-9AB3-42B1-96CF-EA9CD1F6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0E92-2B23-4496-A334-0C5724A5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F4A2-DF28-48AE-9C39-778D8EE5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6A12-6E12-4FF5-BDAC-94796214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989D-2895-4E11-BBDB-FFDBC1B0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278A-E3EE-4991-8AB1-6AFD33D0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5F01-F718-4CC0-8E81-A40FCA8F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A60C-B891-427A-BEF2-6B909517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6A53-D34C-4D6A-92C7-057080C6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111A-89BE-42DA-A6EF-7475F59F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C20E-01EB-480C-BD99-66C69E27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B5C9-9AE7-4634-B29F-4693ED5F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8EB5-755E-4099-8FA1-AD95ECF7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D44C-99E9-4FEE-902A-03254338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E963-5798-4D68-84F2-41A3137EF1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6CB3-BA54-499D-9677-6AA74E0137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ознавательный экспериментально - исследовательский проект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1844280"/>
            <a:ext cx="882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Чудо - огород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Участники проекта: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спитатель Ткаченко Мария Андреевна , дети младше - средней группы  и родит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оект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олгосроч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Тип проек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информационно – твор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оки реализации проекта: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февраля по октябрь 2013года.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втор : Ткаченко М.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Рассматривание иллюстраций  овощных    культур.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Picture 5" descr="Изображение 379"/>
          <p:cNvPicPr/>
          <p:nvPr/>
        </p:nvPicPr>
        <p:blipFill>
          <a:blip r:embed="rId1"/>
          <a:stretch/>
        </p:blipFill>
        <p:spPr>
          <a:xfrm>
            <a:off x="838080" y="2598840"/>
            <a:ext cx="3929040" cy="2803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Изображение 376"/>
          <p:cNvPicPr/>
          <p:nvPr/>
        </p:nvPicPr>
        <p:blipFill>
          <a:blip r:embed="rId2"/>
          <a:stretch/>
        </p:blipFill>
        <p:spPr>
          <a:xfrm>
            <a:off x="4916520" y="2598840"/>
            <a:ext cx="3929040" cy="2803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C:\Users\Маруся\Desktop\85881394_large_4337493_skanirovanie4.jpg"/>
          <p:cNvPicPr/>
          <p:nvPr/>
        </p:nvPicPr>
        <p:blipFill>
          <a:blip r:embed="rId3"/>
          <a:stretch/>
        </p:blipFill>
        <p:spPr>
          <a:xfrm>
            <a:off x="214200" y="4857840"/>
            <a:ext cx="2857680" cy="1714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:\Users\Маруся\Desktop\85881389_4337488_skanirovanie0002.jpg"/>
          <p:cNvPicPr/>
          <p:nvPr/>
        </p:nvPicPr>
        <p:blipFill>
          <a:blip r:embed="rId4"/>
          <a:stretch/>
        </p:blipFill>
        <p:spPr>
          <a:xfrm>
            <a:off x="6572160" y="1643040"/>
            <a:ext cx="2357640" cy="1785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C:\Users\Маруся\Desktop\85881390_4337489_skanirovanie2.jpg"/>
          <p:cNvPicPr/>
          <p:nvPr/>
        </p:nvPicPr>
        <p:blipFill>
          <a:blip r:embed="rId5"/>
          <a:stretch/>
        </p:blipFill>
        <p:spPr>
          <a:xfrm>
            <a:off x="4572000" y="4929120"/>
            <a:ext cx="257184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делала подборку детских презентац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Загадки вокруг нас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/и «Фрукты, овощи и ягод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2" descr="http://bazaovoshey.ru/content/category/23/vegetables_origin.jpg"/>
          <p:cNvPicPr/>
          <p:nvPr/>
        </p:nvPicPr>
        <p:blipFill>
          <a:blip r:embed="rId1"/>
          <a:stretch/>
        </p:blipFill>
        <p:spPr>
          <a:xfrm>
            <a:off x="731880" y="2405160"/>
            <a:ext cx="3492360" cy="3492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Users\Маруся\Desktop\1281632117_ov3.jpg"/>
          <p:cNvPicPr/>
          <p:nvPr/>
        </p:nvPicPr>
        <p:blipFill>
          <a:blip r:embed="rId2"/>
          <a:stretch/>
        </p:blipFill>
        <p:spPr>
          <a:xfrm>
            <a:off x="4714920" y="2214720"/>
            <a:ext cx="40417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II. ПОЗНАВАТЕЛЬНО-ИССЛЕДОВАТЕЛЬСКИЙ ЭТА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42472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Познание</a:t>
            </a: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Были проведены следующие опыты: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- наблюдения за ростом корневой системы лука в воде;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- проращивание семян гороха, в вате.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Дети наблюдали за ростом растений, вели дневник,  делали зарисовки. 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Ознакомление с окружающим миром: «Чудо - овощи», «Что можно приготовить из овощей»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Конструирование из бумаги: «Корзинка для овощей и фруктов»(ср.гр.)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Формирование элементарных математических представлений: «Поездка на дачу», «Сбор урожая овощей».</a:t>
            </a:r>
            <a:br>
              <a:rPr sz="20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400"/>
            </a:b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Социализация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Д/и: «Ботаническое лото», «Найди овощ по описанию»,  «Что растет на огороде», «Чудесный мешочек» 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(овощи и фрукты).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«Отгадай по вкусу»  «Сложи картинку» 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Сюжетно-ролевая игра «Овощной магазин»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501040" cy="589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b7"/>
                </a:solidFill>
                <a:uFillTx/>
                <a:latin typeface="Arial Black"/>
              </a:rPr>
              <a:t>Коммуникация,</a:t>
            </a: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Развитие речи «Загадки на грядке»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	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Беседы по теме: «Какой вырос урожай»,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«Что растет  у вас на огороде»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Составление описательного рассказа на тему: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«Как мы растили овощи»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Составление рассказа «Мои любимые овощи»</a:t>
            </a:r>
            <a:br>
              <a:rPr sz="2400"/>
            </a:br>
            <a:br>
              <a:rPr sz="2400"/>
            </a:br>
            <a:r>
              <a:rPr b="1" lang="ru-RU" sz="2800" spc="-1" strike="noStrike" u="sng">
                <a:solidFill>
                  <a:srgbClr val="ffffb7"/>
                </a:solidFill>
                <a:uFillTx/>
                <a:latin typeface="Arial Black"/>
              </a:rPr>
              <a:t>Чтение художественной литературы </a:t>
            </a: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Украинская сказка «Пых»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Я.Тайц «Послушный дождик»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Ю.Тувим «Овощи»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В.Сутеев «Яблоко»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b7"/>
                </a:solidFill>
                <a:uFillTx/>
                <a:latin typeface="Arial Black"/>
              </a:rPr>
              <a:t>Художественно-творческая деятельность</a:t>
            </a:r>
            <a:br>
              <a:rPr sz="2800"/>
            </a:b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Рисование: : «Однажды хозяйка с базара пришла… » (с использованием трафаретов)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Аппликация: : «Бедный зайчик заболел – Ничего с утра не ел… », «Консервируем овощи».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Лепка: «Овощи большие и маленькие».</a:t>
            </a:r>
            <a:br>
              <a:rPr sz="2400"/>
            </a:br>
            <a:br>
              <a:rPr sz="2400"/>
            </a:br>
            <a:r>
              <a:rPr b="1" lang="ru-RU" sz="2800" spc="-1" strike="noStrike" u="sng">
                <a:solidFill>
                  <a:srgbClr val="ffffb7"/>
                </a:solidFill>
                <a:uFillTx/>
                <a:latin typeface="Arial Black"/>
              </a:rPr>
              <a:t>Музыка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- Инсценирование песни «Огородная-хороводная»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-песня «Урожайная»</a:t>
            </a:r>
            <a:br>
              <a:rPr sz="20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b7"/>
                </a:solidFill>
                <a:uFillTx/>
                <a:latin typeface="Arial Black"/>
              </a:rPr>
              <a:t>Трудовая деятельность</a:t>
            </a:r>
            <a:r>
              <a:rPr b="1" lang="ru-RU" sz="2800" spc="-1" strike="noStrike" u="sng">
                <a:solidFill>
                  <a:srgbClr val="ffffb7"/>
                </a:solidFill>
                <a:uFillTx/>
                <a:latin typeface="Arial Black"/>
              </a:rPr>
              <a:t>	</a:t>
            </a:r>
            <a:br>
              <a:rPr sz="20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Уход за растениями в огороде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Сбор семян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Сбор урожая на огороде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Приготовление « Витаминного салата»</a:t>
            </a:r>
            <a:br>
              <a:rPr sz="2000"/>
            </a:br>
            <a:br>
              <a:rPr sz="2000"/>
            </a:br>
            <a:r>
              <a:rPr b="1" lang="ru-RU" sz="2800" spc="-1" strike="noStrike" u="sng">
                <a:solidFill>
                  <a:srgbClr val="ffffb7"/>
                </a:solidFill>
                <a:uFillTx/>
                <a:latin typeface="Arial Black"/>
              </a:rPr>
              <a:t>Развивающая среда</a:t>
            </a:r>
            <a:r>
              <a:rPr b="1" lang="ru-RU" sz="2800" spc="-1" strike="noStrike" u="sng">
                <a:solidFill>
                  <a:srgbClr val="ffffb7"/>
                </a:solidFill>
                <a:uFillTx/>
                <a:latin typeface="Arial Black"/>
              </a:rPr>
              <a:t>	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Трафареты овощей, муляжи  овощей и фруктов.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Иллюстрации, изображающие труд людей по выращиванию овощей и фруктов.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Книжки-раскраски на тему: «Овощи»,  «Мы растили огород».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Альбом для рассматривания «Овощи»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Репродукции с картин: И.Репина «Яблоки», А.Лентунова «Овощи», И.Михайлова «Овощи»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  <a:ea typeface="Arial"/>
              </a:rPr>
              <a:t>III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. ЗАКЛЮЧИТЕЛЬНЫЙ ЭТАП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*Дети с большим удовольствием попробовали овощи и зелень выращенные своими руками.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*Была организована выставка детских работ.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*Совместно с музыкальным руководителем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провели досуг « Наш весёлый огород». Вместе с детьми приготовили «Витаминный» салат  из овощей и угостили всех гостей.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*Мной создана презентация «Чудо-огород»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357120" y="0"/>
            <a:ext cx="8286840" cy="65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b7"/>
                </a:solidFill>
                <a:uFillTx/>
                <a:latin typeface="Arial"/>
              </a:rPr>
              <a:t>Ожидаемые результа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1. Дети получат знания о том, что растения живые, их поливают, сажают, выращивают из семя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2. Дети получат представления о труде взрослых, научатся правильно называть трудовые действ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3. Проводимая работа позволит  воспитать трудолюбие, бережное отношение к растения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4. Все участники проекта (дети, воспитатели, родители) получат положительные эмоции от полученных результатов. (урожа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428760" y="58680"/>
            <a:ext cx="8358120" cy="64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Используемая литератур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ртемова Л. В. «Окружающий мир в дидактических играх дошкольников» М. ; Просвещение, 199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лчкова В. Н., Степанова Н. В. «Развитие и воспитание детей младшего дошкольного возраста» - Воронеж: ТЦ «Учитель»,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ронкевич О. А. «Добро пожаловать в экологию! » Часть1 СПб. : «ДЕТСТВО – ПРЕСС»,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тство: Программа развития и воспитания детей в детском саду Под ред. Т. И. Бабаевой, З. А. Михайловой, Л. М. Гурович СП б. : Детство – Пресс,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марова Т. С. «Занятия по изобразительной деятельности в детском саду» -М. : Просвещение, 19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орукова П. Г. «Методика ознакомления детей с природой в детском саду» М. ; Просвещение, 199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орыгина Т. А. «Овощи. Какие они? » М. : Издательство ГНОМ и Д, 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тернет ресур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ктуальность  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 направлен на расширение и обобщение знаний о культурных огородных растениях, формирование знаний об уходе за растениями, на осознание детьми значимости овощей в жизнедеятельности челове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07280" cy="35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пасибо за внимание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Цель 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условий  в группе для развития познавательного интереса  и экспериментальной -   исследовательской деятельности, раскрытие творческого и интеллектуального потенциала дошкольников, вовлечение детей в практическую деятельность по выращиванию культурных огородных раст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214200" y="500040"/>
            <a:ext cx="864396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8b"/>
                </a:solidFill>
                <a:latin typeface="Arial Black"/>
              </a:rPr>
              <a:t>Проблем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и младшего дошкольного возраста в недостаточной степени имеют представления о растениях, о том, где они растут, о необходимых условиях их роста, их интерес к познавательн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следовательской деятельности недостаточно разви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этому основн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ча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а будут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Задачи: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6760" y="1285920"/>
            <a:ext cx="8559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. Дать знания, что растения живые, их поливают, сажают, выращивают из семян. Расширить знания и представления детей о полезных свойствах овощей (лука, перца и т.др. их строении и условиях, необходимых для их рост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. Уточнить представления о труде взрослых, учить детей правильно называть трудовые действи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. Воспитывать трудолюбие, бережное отношение к растения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4. Получить положительные эмоции от полученных результато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5. Обогащать словарный запас, развивать связную речь дете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6. Создать условия для участия родителей в образовательном процесс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ектная идея: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создать в группе детского сада огород на окне. Получить урожай зелени, помидоров и перцев, капусты, свеклы, моркови выращенных самими дошкольниками в сотрудничестве с воспитателем и родителями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I.ПОДГОТОВИТЕЛЬНЫЙ ЭТА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 помощью родителей собрали коллекцию семян.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3" descr="Изображение 383"/>
          <p:cNvPicPr/>
          <p:nvPr/>
        </p:nvPicPr>
        <p:blipFill>
          <a:blip r:embed="rId1"/>
          <a:stretch/>
        </p:blipFill>
        <p:spPr>
          <a:xfrm>
            <a:off x="971640" y="2214720"/>
            <a:ext cx="3456000" cy="3714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Изображение 386"/>
          <p:cNvPicPr/>
          <p:nvPr/>
        </p:nvPicPr>
        <p:blipFill>
          <a:blip r:embed="rId2"/>
          <a:stretch/>
        </p:blipFill>
        <p:spPr>
          <a:xfrm>
            <a:off x="5076720" y="2286000"/>
            <a:ext cx="352764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Сделали подборку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идактических игр ,  стихов и загадок о овощах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5" descr="Изображение 503"/>
          <p:cNvPicPr/>
          <p:nvPr/>
        </p:nvPicPr>
        <p:blipFill>
          <a:blip r:embed="rId1"/>
          <a:stretch/>
        </p:blipFill>
        <p:spPr>
          <a:xfrm>
            <a:off x="838080" y="2598840"/>
            <a:ext cx="3929040" cy="2803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Изображение 505"/>
          <p:cNvPicPr/>
          <p:nvPr/>
        </p:nvPicPr>
        <p:blipFill>
          <a:blip r:embed="rId2"/>
          <a:stretch/>
        </p:blipFill>
        <p:spPr>
          <a:xfrm>
            <a:off x="5672160" y="2463840"/>
            <a:ext cx="2860560" cy="3632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Users\Маруся\Desktop\06560.jpg"/>
          <p:cNvPicPr/>
          <p:nvPr/>
        </p:nvPicPr>
        <p:blipFill>
          <a:blip r:embed="rId3"/>
          <a:stretch/>
        </p:blipFill>
        <p:spPr>
          <a:xfrm>
            <a:off x="0" y="4714920"/>
            <a:ext cx="2381400" cy="1838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C:\Users\Маруся\Desktop\img864394.png"/>
          <p:cNvPicPr/>
          <p:nvPr/>
        </p:nvPicPr>
        <p:blipFill>
          <a:blip r:embed="rId4"/>
          <a:stretch/>
        </p:blipFill>
        <p:spPr>
          <a:xfrm>
            <a:off x="6500880" y="285840"/>
            <a:ext cx="2381040" cy="1428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C:\Users\Маруся\Desktop\4f8dfe372e9ee3c8a3e188246ff9f343-2.jpg"/>
          <p:cNvPicPr/>
          <p:nvPr/>
        </p:nvPicPr>
        <p:blipFill>
          <a:blip r:embed="rId5"/>
          <a:stretch/>
        </p:blipFill>
        <p:spPr>
          <a:xfrm>
            <a:off x="3000240" y="485784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:\Users\Маруся\Desktop\b635b.jpg"/>
          <p:cNvPicPr/>
          <p:nvPr/>
        </p:nvPicPr>
        <p:blipFill>
          <a:blip r:embed="rId6"/>
          <a:stretch/>
        </p:blipFill>
        <p:spPr>
          <a:xfrm>
            <a:off x="7451640" y="5143680"/>
            <a:ext cx="1692360" cy="1714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2:48:57Z</dcterms:created>
  <dc:creator>парфёнова</dc:creator>
  <dc:description/>
  <dc:language>en-US</dc:language>
  <cp:lastModifiedBy>Маруся</cp:lastModifiedBy>
  <dcterms:modified xsi:type="dcterms:W3CDTF">2013-10-19T06:49:58Z</dcterms:modified>
  <cp:revision>31</cp:revision>
  <dc:subject/>
  <dc:title>Познавательно - исследовательский проект</dc:title>
</cp:coreProperties>
</file>