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8D4A-D715-4ED2-AFFD-EF5F4FB26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6BDA-5D6C-4096-A893-36C62F512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1F5D-69D5-4D84-88FE-345ED3CE4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D1FC-DA85-4C9C-9434-5C057E6A5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4E7F-7D40-4895-AEE0-F740F3EFF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6734-D37F-4B22-BDBB-731E038D9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B7BB-6C3F-4314-AB4D-A8D6C7E15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171B-18D1-4761-8150-3FAAC3550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5863-87D9-4AAC-8241-32169F4EA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239E-D123-4762-92E7-129D5B0C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DCC7-2CBE-47E8-8D0D-086CA518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6292-A2C0-4A60-8A61-1F55D109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7BE91-290B-4A2F-83D8-DEEF0F517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Present Tens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3628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We use the Present Perfect Simple to talk abo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omething that happened in the past but we don’t know w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She has lost her front door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Have they finished their projec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omething that happened in the past but is important 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He’s broken his arm so he can’t play tenn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omething that started in the past but continues 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I have known him for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omething that has just happ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He has just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They’ve just told me the 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0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3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6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9" dur="1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2" dur="1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5" dur="10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8" dur="10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1" dur="10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4" dur="1000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7" dur="1000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0" dur="1000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Time Expressions with the Present Perfect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already              never            so f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ever                   once             this 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r                     recently        lat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r ages            since 1995     today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just                   since June      y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0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2000"/>
                            </p:stCondLst>
                            <p:childTnLst>
                              <p:par>
                                <p:cTn id="5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3000"/>
                            </p:stCondLst>
                            <p:childTnLst>
                              <p:par>
                                <p:cTn id="5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4000"/>
                            </p:stCondLst>
                            <p:childTnLst>
                              <p:par>
                                <p:cTn id="5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000"/>
                            </p:stCondLst>
                            <p:childTnLst>
                              <p:par>
                                <p:cTn id="54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6000"/>
                            </p:stCondLst>
                            <p:childTnLst>
                              <p:par>
                                <p:cTn id="55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480960" y="2565360"/>
            <a:ext cx="2352600" cy="210564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ffirm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I/you have b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pla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he/she/it has b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pla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we/you/they have b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pla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3216240" y="2565360"/>
            <a:ext cx="2644920" cy="210564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I/you have not b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  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pla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he/she/it has not b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  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pla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we/you/they have not b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  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pla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6529680" y="2565360"/>
            <a:ext cx="2402640" cy="210564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Have I/you b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play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Has he/she/it b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play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Have we/you/they b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play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7"/>
          <p:cNvSpPr/>
          <p:nvPr/>
        </p:nvSpPr>
        <p:spPr>
          <a:xfrm flipH="1">
            <a:off x="1402920" y="1268280"/>
            <a:ext cx="865080" cy="10083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8"/>
          <p:cNvSpPr/>
          <p:nvPr/>
        </p:nvSpPr>
        <p:spPr>
          <a:xfrm>
            <a:off x="4356000" y="1268280"/>
            <a:ext cx="0" cy="10810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9"/>
          <p:cNvSpPr/>
          <p:nvPr/>
        </p:nvSpPr>
        <p:spPr>
          <a:xfrm>
            <a:off x="6227640" y="1268280"/>
            <a:ext cx="1008360" cy="9367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0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2700"/>
                            </p:stCondLst>
                            <p:childTnLst>
                              <p:par>
                                <p:cTn id="57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We use the Present Perfect Continuous to talk abou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omething that started in the past and has happened repeatedly or has continued until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I have been trying to repair the car all mo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omething that happened repeatedly in the past and that may have finished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I’ve been waiting for you for an hour. Come 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0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2000"/>
                            </p:stCondLst>
                            <p:childTnLst>
                              <p:par>
                                <p:cTn id="6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2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2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2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6000"/>
                            </p:stCondLst>
                            <p:childTnLst>
                              <p:par>
                                <p:cTn id="61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2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8000"/>
                            </p:stCondLst>
                            <p:childTnLst>
                              <p:par>
                                <p:cTn id="62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2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2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2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63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2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2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2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2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Time Expressions with the Present Perfect Continu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880920" y="2389320"/>
            <a:ext cx="121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1044720" y="4508640"/>
            <a:ext cx="13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ll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5436720" y="2133720"/>
            <a:ext cx="228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or a long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5437440" y="3213000"/>
            <a:ext cx="152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or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2"/>
          <p:cNvSpPr/>
          <p:nvPr/>
        </p:nvSpPr>
        <p:spPr>
          <a:xfrm>
            <a:off x="3133080" y="2349360"/>
            <a:ext cx="99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i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3"/>
          <p:cNvSpPr/>
          <p:nvPr/>
        </p:nvSpPr>
        <p:spPr>
          <a:xfrm>
            <a:off x="5652360" y="508464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rec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04360" y="5300640"/>
            <a:ext cx="97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l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04720" y="3789360"/>
            <a:ext cx="151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how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0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2000"/>
                            </p:stCondLst>
                            <p:childTnLst>
                              <p:par>
                                <p:cTn id="64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Present Simp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482400" y="2565360"/>
            <a:ext cx="1765800" cy="12826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ffirm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I/you 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he/she/it pl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we/you/they 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216600" y="2565360"/>
            <a:ext cx="2402640" cy="12826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I/you do not 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he/she/it does not 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we/you/they do not 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6530400" y="2565360"/>
            <a:ext cx="2204640" cy="12826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Do I/you pla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Does he/she/it pla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Do we/you/they pla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8"/>
          <p:cNvSpPr/>
          <p:nvPr/>
        </p:nvSpPr>
        <p:spPr>
          <a:xfrm flipH="1">
            <a:off x="1402920" y="1268280"/>
            <a:ext cx="865080" cy="10083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9"/>
          <p:cNvSpPr/>
          <p:nvPr/>
        </p:nvSpPr>
        <p:spPr>
          <a:xfrm>
            <a:off x="4356000" y="1268280"/>
            <a:ext cx="0" cy="10810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0"/>
          <p:cNvSpPr/>
          <p:nvPr/>
        </p:nvSpPr>
        <p:spPr>
          <a:xfrm>
            <a:off x="6227640" y="1268280"/>
            <a:ext cx="1008360" cy="9367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700"/>
                            </p:stCondLst>
                            <p:childTnLst>
                              <p:par>
                                <p:cTn id="2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Present Simp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We use the Present Simple to talk ab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hab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He gets up early every mo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She doesn’t buy magazines of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ngs that are true in ge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Water boils at 100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º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pemanent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My mother works as a teacher at a nursery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6000"/>
                            </p:stCondLst>
                            <p:childTnLst>
                              <p:par>
                                <p:cTn id="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7000"/>
                            </p:stCondLst>
                            <p:childTnLst>
                              <p:par>
                                <p:cTn id="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8000"/>
                            </p:stCondLst>
                            <p:childTnLst>
                              <p:par>
                                <p:cTn id="9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Time Expressions with the Present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40388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every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every we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every 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every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every sum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at the week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in the mo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in Janu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on Tues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on Friday morn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three times a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once a we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twice a 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usu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of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alw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780000" y="1628640"/>
            <a:ext cx="496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ime expressions usually come at the end of a sentence. We put them at the beginning of a sentence when we want to emphasise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He brushes his teeth three times a 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On Wednesday evenings I visit my brother and his fami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8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8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900"/>
                            </p:stCondLst>
                            <p:childTnLst>
                              <p:par>
                                <p:cTn id="13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6900"/>
                            </p:stCondLst>
                            <p:childTnLst>
                              <p:par>
                                <p:cTn id="13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7900"/>
                            </p:stCondLst>
                            <p:childTnLst>
                              <p:par>
                                <p:cTn id="14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8900"/>
                            </p:stCondLst>
                            <p:childTnLst>
                              <p:par>
                                <p:cTn id="14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9900"/>
                            </p:stCondLst>
                            <p:childTnLst>
                              <p:par>
                                <p:cTn id="15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900"/>
                            </p:stCondLst>
                            <p:childTnLst>
                              <p:par>
                                <p:cTn id="16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1900"/>
                            </p:stCondLst>
                            <p:childTnLst>
                              <p:par>
                                <p:cTn id="1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2900"/>
                            </p:stCondLst>
                            <p:childTnLst>
                              <p:par>
                                <p:cTn id="1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3900"/>
                            </p:stCondLst>
                            <p:childTnLst>
                              <p:par>
                                <p:cTn id="1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4900"/>
                            </p:stCondLst>
                            <p:childTnLst>
                              <p:par>
                                <p:cTn id="1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5900"/>
                            </p:stCondLst>
                            <p:childTnLst>
                              <p:par>
                                <p:cTn id="1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6900"/>
                            </p:stCondLst>
                            <p:childTnLst>
                              <p:par>
                                <p:cTn id="19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7900"/>
                            </p:stCondLst>
                            <p:childTnLst>
                              <p:par>
                                <p:cTn id="20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Present Continuou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192240" y="2565360"/>
            <a:ext cx="2396520" cy="15570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ffirm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I am pla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you are pla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he/she/it is pla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we/you/they are pla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3006000" y="2565360"/>
            <a:ext cx="2957400" cy="15570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 am not pla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you are  not pla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e/she/it is not pla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we/you/they are not pla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6314040" y="2565360"/>
            <a:ext cx="2561040" cy="15570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Am I play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Are you play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Is he/she/it play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Are we/you/they play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7"/>
          <p:cNvSpPr/>
          <p:nvPr/>
        </p:nvSpPr>
        <p:spPr>
          <a:xfrm flipH="1">
            <a:off x="1402920" y="1268280"/>
            <a:ext cx="865080" cy="10083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8"/>
          <p:cNvSpPr/>
          <p:nvPr/>
        </p:nvSpPr>
        <p:spPr>
          <a:xfrm>
            <a:off x="4427640" y="1197000"/>
            <a:ext cx="0" cy="12240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9"/>
          <p:cNvSpPr/>
          <p:nvPr/>
        </p:nvSpPr>
        <p:spPr>
          <a:xfrm>
            <a:off x="6443640" y="1268280"/>
            <a:ext cx="865080" cy="10810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700"/>
                            </p:stCondLst>
                            <p:childTnLst>
                              <p:par>
                                <p:cTn id="24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Present Continuou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We use the Present Continuous to talk ab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Actions in progress at the time of spe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They are sitting in the kitchen at the mo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Is she reading a book n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Actions in progress around the time of spe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He is working abroad this 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I am studying English at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47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7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7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7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7">
                                  <p:stCondLst>
                                    <p:cond delay="61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47">
                                  <p:stCondLst>
                                    <p:cond delay="69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Time Expressions with the Present Continu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92360" y="18446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860360" y="3645000"/>
            <a:ext cx="160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nowa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42560" y="443700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on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219640" y="515772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t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309440" y="4365720"/>
            <a:ext cx="9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o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932720" y="1989000"/>
            <a:ext cx="19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t these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104560" y="3182760"/>
            <a:ext cx="221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t the mo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85080" y="5373720"/>
            <a:ext cx="155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t 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Stative Verb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2296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We don’t usually use stative verbs in the Present Continuous. Stative verbs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Times New Roman"/>
              </a:rPr>
              <a:t>Verbs of sens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feel, hear, see, smell, sound, ta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The carry tastes wonder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Times New Roman"/>
              </a:rPr>
              <a:t>Verbs of emo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dislike, hate, like, love, need, prefer, w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She wants to go home 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Times New Roman"/>
              </a:rPr>
              <a:t>Verbs of understanding and opin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appear, believe, forget, hope, know, remember, think, underst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I remember his name 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Times New Roman"/>
              </a:rPr>
              <a:t>Verbs of possess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belong to, 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They own some land in the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3000"/>
                            </p:stCondLst>
                            <p:childTnLst>
                              <p:par>
                                <p:cTn id="37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4000"/>
                            </p:stCondLst>
                            <p:childTnLst>
                              <p:par>
                                <p:cTn id="37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0"/>
                            </p:stCondLst>
                            <p:childTnLst>
                              <p:par>
                                <p:cTn id="38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6000"/>
                            </p:stCondLst>
                            <p:childTnLst>
                              <p:par>
                                <p:cTn id="39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7000"/>
                            </p:stCondLst>
                            <p:childTnLst>
                              <p:par>
                                <p:cTn id="39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8000"/>
                            </p:stCondLst>
                            <p:childTnLst>
                              <p:par>
                                <p:cTn id="40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9000"/>
                            </p:stCondLst>
                            <p:childTnLst>
                              <p:par>
                                <p:cTn id="40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1000"/>
                            </p:stCondLst>
                            <p:childTnLst>
                              <p:par>
                                <p:cTn id="42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3000"/>
                            </p:stCondLst>
                            <p:childTnLst>
                              <p:par>
                                <p:cTn id="43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4000"/>
                            </p:stCondLst>
                            <p:childTnLst>
                              <p:par>
                                <p:cTn id="43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481320" y="2565360"/>
            <a:ext cx="2472840" cy="12826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ffirm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I/you have pla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he/she/it has pla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we/you/they have pla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3215880" y="2565360"/>
            <a:ext cx="2823480" cy="12826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I/you have not pla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he/she/it has not pla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we/you/they have not pla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6313680" y="2565360"/>
            <a:ext cx="2625120" cy="12826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Have I/you play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Has he/she/it play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Have we/you/they play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7"/>
          <p:cNvSpPr/>
          <p:nvPr/>
        </p:nvSpPr>
        <p:spPr>
          <a:xfrm flipH="1">
            <a:off x="1402920" y="1268280"/>
            <a:ext cx="865080" cy="10083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8"/>
          <p:cNvSpPr/>
          <p:nvPr/>
        </p:nvSpPr>
        <p:spPr>
          <a:xfrm>
            <a:off x="4356000" y="1268280"/>
            <a:ext cx="0" cy="10810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9"/>
          <p:cNvSpPr/>
          <p:nvPr/>
        </p:nvSpPr>
        <p:spPr>
          <a:xfrm>
            <a:off x="6227640" y="1268280"/>
            <a:ext cx="1008360" cy="9367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700"/>
                            </p:stCondLst>
                            <p:childTnLst>
                              <p:par>
                                <p:cTn id="46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3T19:07:09Z</dcterms:created>
  <dc:creator>Татьяна</dc:creator>
  <dc:description/>
  <dc:language>en-US</dc:language>
  <cp:lastModifiedBy>Татьяна</cp:lastModifiedBy>
  <dcterms:modified xsi:type="dcterms:W3CDTF">2013-10-18T04:05:05Z</dcterms:modified>
  <cp:revision>17</cp:revision>
  <dc:subject/>
  <dc:title>Present Tenses</dc:title>
</cp:coreProperties>
</file>