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C15A-59AF-4584-BBE3-7485C0DBFCE9}" type="slidenum"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A8F2-1C5C-419E-AD05-A640160D9B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инский архитектор Пхилон описывал его так: «Я видел стены и Висячие Сады Вавилона, Статую Зевса на Олимпе, Колосса Родосского и гробницы Фараонов, но когда я увидел храм в Эфесе, возвышающийся до облаков, то понял, что все прочие чудеса померкли в его тен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C971-1DEF-477F-8B36-DB8F9A57A45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D567-6CD5-41BD-841B-11175961F0A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3533-33A1-406C-9359-66F7A49A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B5D5-6431-4518-96EB-A8885C50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E1B-0E95-41FB-AE84-0F28BDD8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877-6E7E-4AB9-9CD0-0C3BDACA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C916A-8D07-425D-BFF6-EB13E889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E44F9-5C16-4818-B919-D2D7CCF1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324F2-CAC7-4336-A913-6700D338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8C3F0-76DD-4FD0-9A27-29C0672F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6BA8B-6218-4B4E-95CF-2F146731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58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BA4A0-1523-44B5-99ED-0234730E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AD18C-9A5D-45A3-A995-6D7A1342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BD0-03C8-42DC-9864-4C14F8E4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2EE22-54AD-4C8E-82B2-8B57A190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F41C0-34AA-47E3-82C5-ACCE198F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25302-0ECC-4D47-BBBB-99DCAEA8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6BD04-13D9-462C-9DB0-BB9F0196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A3F21-D555-4107-9400-8D09B278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600-64EF-47A3-94D3-197D9316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E80-EFF1-4FF6-99F0-102BF984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90C-0F25-4F88-BB03-B05DB148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58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D85E-0CDB-4410-90E4-538401E9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ECB-D622-400F-A7CD-8DEF310A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571-0F34-4B48-ABEB-DF568B65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AA2-AFD7-45D2-990E-389F6795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5.p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image6.pn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F6A3-59FF-4779-8BC5-A54C1E03F1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5.p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image6.pn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image1.jpg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image2.png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image3.png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image4.png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5F70-525A-4A02-9056-6E284F3818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om-netword.com/chudesa.php" TargetMode="External"/><Relationship Id="rId2" Type="http://schemas.openxmlformats.org/officeDocument/2006/relationships/hyperlink" Target="http://ctoday.ru/article/history_construction/14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56920" y="5308560"/>
            <a:ext cx="6194520" cy="15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09520" y="213840"/>
            <a:ext cx="6462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orbel"/>
              </a:rPr>
              <a:t>        </a:t>
            </a:r>
            <a:r>
              <a:rPr b="1" i="1" lang="ru-RU" sz="3200" spc="-1" strike="noStrike">
                <a:solidFill>
                  <a:srgbClr val="c0504d"/>
                </a:solidFill>
                <a:latin typeface="Corbel"/>
              </a:rPr>
              <a:t>СЕМЬ  ЧУДЕС  СВЕ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9" name="Рисунок 3" descr="колосс-111.jpg"/>
          <p:cNvPicPr/>
          <p:nvPr/>
        </p:nvPicPr>
        <p:blipFill>
          <a:blip r:embed="rId1"/>
          <a:stretch/>
        </p:blipFill>
        <p:spPr>
          <a:xfrm>
            <a:off x="214200" y="0"/>
            <a:ext cx="1785960" cy="30002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112.jpg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2357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ttp://s59.radikal.ru/i163/0812/74/a5c5f62c9437x.jpg"/>
          <p:cNvPicPr/>
          <p:nvPr/>
        </p:nvPicPr>
        <p:blipFill>
          <a:blip r:embed="rId3"/>
          <a:stretch/>
        </p:blipFill>
        <p:spPr>
          <a:xfrm>
            <a:off x="6500880" y="1214280"/>
            <a:ext cx="1928880" cy="257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Храм Артемиды Эфесской"/>
          <p:cNvPicPr/>
          <p:nvPr/>
        </p:nvPicPr>
        <p:blipFill>
          <a:blip r:embed="rId4"/>
          <a:stretch/>
        </p:blipFill>
        <p:spPr>
          <a:xfrm>
            <a:off x="1214280" y="1571760"/>
            <a:ext cx="2643480" cy="3071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Египетские Пирамиды"/>
          <p:cNvPicPr/>
          <p:nvPr/>
        </p:nvPicPr>
        <p:blipFill>
          <a:blip r:embed="rId5"/>
          <a:stretch/>
        </p:blipFill>
        <p:spPr>
          <a:xfrm>
            <a:off x="2286000" y="3286080"/>
            <a:ext cx="2071800" cy="2643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2" descr="Висячие Сады Семирамиды"/>
          <p:cNvPicPr/>
          <p:nvPr/>
        </p:nvPicPr>
        <p:blipFill>
          <a:blip r:embed="rId6"/>
          <a:stretch/>
        </p:blipFill>
        <p:spPr>
          <a:xfrm>
            <a:off x="5643720" y="3071880"/>
            <a:ext cx="2143080" cy="2500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4" descr="http://ctoday.ru/images/article/19/2.jpg"/>
          <p:cNvPicPr/>
          <p:nvPr/>
        </p:nvPicPr>
        <p:blipFill>
          <a:blip r:embed="rId7"/>
          <a:stretch/>
        </p:blipFill>
        <p:spPr>
          <a:xfrm>
            <a:off x="4071960" y="4214880"/>
            <a:ext cx="2143080" cy="2428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0" y="600084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полнила: Бекетова  Т.А., учитель  истории МОУ «СОШ с.Кутьино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2010 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Галикарнас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– столица   Карийского царства, удобный  порт, родина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8000" indent="-2880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еродота. Именно в этом,  сейчас уже несуществующем государстве, в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8000" indent="-2880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V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. до н.э. правил царь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Мавсол,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славившийся  в веках прежде всего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8000" indent="-2880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воей гробницей – мавзолее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8000" indent="-288000" algn="just">
              <a:lnSpc>
                <a:spcPct val="8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рхитекторы построили усыпальницу галикарнасскому тирану в виде почти квадратного здания, первый этаж которого был  усыпальницей Мавсола и Артемиссии. Снаружи эта громадная погребальная камера, площадью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5000 кв. метров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 высотой около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20 метров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была обложена плитами белого мрамора, отёсанными и отполированными н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8000" indent="-2880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ерсидский манер. По верху первого этажа шё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8000" indent="-288000" algn="just">
              <a:lnSpc>
                <a:spcPct val="8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риз - битва эллинов с амазонками - "Амазономахия"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8000" indent="-288000" algn="just">
              <a:lnSpc>
                <a:spcPct val="8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боты великого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копас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Кроме Скопаса там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8000" indent="-288000" algn="just">
              <a:lnSpc>
                <a:spcPct val="8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ботали, по словам Плиния,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Леохар, Бриаксид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8000" indent="-288000" algn="just">
              <a:lnSpc>
                <a:spcPct val="8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имофей. Во втором этаже, окруженном  колоннадой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8000" indent="-288000" algn="just">
              <a:lnSpc>
                <a:spcPct val="8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хранились жертвоприношения, крышей же мавзолея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8000" indent="-288000" algn="just">
              <a:lnSpc>
                <a:spcPct val="8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лужила пирамида, увенчанная мраморной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8000" indent="-288000" algn="just">
              <a:lnSpc>
                <a:spcPct val="8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вадригой:  в колеснице, запряжённой четвёркой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8000" indent="-288000" algn="just">
              <a:lnSpc>
                <a:spcPct val="8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ней, стояли  статуи Мавсола и Артемиссии. Вокруг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8000" indent="-288000" algn="just">
              <a:lnSpc>
                <a:spcPct val="8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робницы  располагались статуи львов и скачущих всадник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rbel"/>
              </a:rPr>
              <a:t>ГАЛИКАРНАССКИЙ     МАВЗОЛ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0" name="Picture 2" descr="Галикарнасский Мавзолей"/>
          <p:cNvPicPr/>
          <p:nvPr/>
        </p:nvPicPr>
        <p:blipFill>
          <a:blip r:embed="rId1"/>
          <a:stretch/>
        </p:blipFill>
        <p:spPr>
          <a:xfrm>
            <a:off x="142920" y="3357720"/>
            <a:ext cx="2928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35892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ВИСЯЧИЕ  САДЫ СЕМИРАМИД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3" name="Рисунок 3" descr="Висячие Сады Семирамиды"/>
          <p:cNvPicPr/>
          <p:nvPr/>
        </p:nvPicPr>
        <p:blipFill>
          <a:blip r:embed="rId1"/>
          <a:stretch/>
        </p:blipFill>
        <p:spPr>
          <a:xfrm>
            <a:off x="285840" y="1428840"/>
            <a:ext cx="8286840" cy="4714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Висячие Сады Семирамиды"/>
          <p:cNvPicPr/>
          <p:nvPr/>
        </p:nvPicPr>
        <p:blipFill>
          <a:blip r:embed="rId2"/>
          <a:stretch/>
        </p:blipFill>
        <p:spPr>
          <a:xfrm>
            <a:off x="438120" y="1581120"/>
            <a:ext cx="82868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28400" y="928800"/>
            <a:ext cx="825804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исячие Сады Семирамиды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известные так же под названием Висячие сады Вавилона, являются одним из семи Чудес Света. К сожалению, это дивное архитектурное творение не дошло до наших дне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 algn="just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Этот шедевр построили по велению Вавилонского правителя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авуходоносора II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который жил в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VI веке до нашей эры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Он отдал приказ лучшим инженерам, математикам и изобретателям создать диво дивное на радость своей жене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Амитис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Супруга правителя была родом из Мидии, земли наполненной ароматом цветущих садов и зеленых холмов. В душном, пыльном и смрадном Вавилоне она задыхалась и тосковала по родным краям.  Навуходоносор из любви к жене, а также,    из-за собственного   тщеславия, решил  разбить не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ычный    парк, а сказочный.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Эти сады размещались на широкой четырех-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ярусной башне. Внутри яруса были сделан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репкие кирпичные своды, опиравшиеся н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ощные, высокие колонны. Сверху кирпич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ыли прикрыты свинцовыми пластинами, для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держания воды и широкий слой земли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Висячие Сады Семирамид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7" name="Picture 2" descr="Висячие Сады Семирамиды"/>
          <p:cNvPicPr/>
          <p:nvPr/>
        </p:nvPicPr>
        <p:blipFill>
          <a:blip r:embed="rId1"/>
          <a:stretch/>
        </p:blipFill>
        <p:spPr>
          <a:xfrm>
            <a:off x="0" y="4786200"/>
            <a:ext cx="3357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rbel"/>
              </a:rPr>
              <a:t>ХРАМ    АРТЕМИДЫ   ЭФЕССКО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9" name="Picture 4" descr="Храм Артемиды Эфесской"/>
          <p:cNvPicPr/>
          <p:nvPr/>
        </p:nvPicPr>
        <p:blipFill>
          <a:blip r:embed="rId1"/>
          <a:stretch/>
        </p:blipFill>
        <p:spPr>
          <a:xfrm>
            <a:off x="214200" y="2071800"/>
            <a:ext cx="8643960" cy="44290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214200" y="1000080"/>
            <a:ext cx="864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Храм Артемид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строился многократно. Но ранние деревянные здания приходили в ветхость, сгорали или гибли от нередких здесь землетрясений, и поэтому в середине VI века до нашей эры было решено построить, не жалея средств и времени, великолепное жилище для богини-покровительницы, тем более что удалось заручиться обещанием соседних городов и государств участвовать в столь солидном предприятии. Плиний в своем описании храма, сделанном, правда, через несколько столетий после его постройки, говорит, в частности: "...его окружают сто двадцать семь колонн, подаренных таким  же количеством царей"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 algn="just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троительство  храма  было завершено в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550 г. до н.э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 algn="just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сооружении храма принимали участие несколько архитекторов: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Харсифрон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который создал проект, его сын –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Метаген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достроил верх здания,  последний штрих выпал на долю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Деметрия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еонит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 algn="just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нутреннее помещение сооружения – святилище – в длину составляло 110 м, а в ширину - - 55 м. Около двухсот стройных колонн доходили в высоту до 18 м.  Четыре угла крыши были украшены мраморными статуями  быков, а на  фасаде высилась  скульптура раненой амазонк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 algn="just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Храм простоял около 100 лет. В  356 г. До н.э. житель Эфеса поджег храм. Здание было сильно повреждено: рухнула крыша, обгорели стены, колонны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21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rbel"/>
              </a:rPr>
              <a:t>ХРАМ  АРТЕМИДЫ  ЭФЕССКО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алакина Е.Н., Аксенова С.В. Чудеса света.-М.: ОЛМА Медиа Групп, 2010. – 432 с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еверина О.А. История древнего мира.5 класс. Поурочные планы по учебнику «История древнего мира.5 класс.» Вигасина А.А. част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 Волгоград, 2003. – 143 с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ttp://www.com-netword.com/chudesa.php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://ctoday.ru/article/history_construction/14/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35892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rbel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« Их краса подобна солнцу 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слепляет своим светом настолько,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то не позволяет обращат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нимание на другие предметы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Филон Византийск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(древний философ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132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ы – усыпальницы египетских фараоно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й древней является ступенчатая пирамида фарао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се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5000 лет тому назад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большая из сохранившихся пирамид - пирамид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опс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сота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, длина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, занимаемая  площадь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00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.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ее постройк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овалос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300 0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ов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ивших о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делалось с помощью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й человеческой сил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99720" y="358560"/>
            <a:ext cx="70722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ЕГИПЕТСКИЕ    ПИРАМИД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1" name="Picture 2" descr="Египетские Пирамиды"/>
          <p:cNvPicPr/>
          <p:nvPr/>
        </p:nvPicPr>
        <p:blipFill>
          <a:blip r:embed="rId1"/>
          <a:stretch/>
        </p:blipFill>
        <p:spPr>
          <a:xfrm>
            <a:off x="0" y="3286080"/>
            <a:ext cx="37148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 свою историю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3 г. до н.э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 располагался на остров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рос.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як был построен по велению египетского цар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олеме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олжен был олицетворять силу, величие и непобедимость его государств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елем   его стал греческий зодчий по имен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рат Книдский.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была 3-этажная башня высотой окол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р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ижний этаж имел квадратную форму. Его стороны были обращены к четырем сторонам света - на север, восток, юг и запад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троительства был использован мрамор, гранит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як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ружение заканчивалось статуей бог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йдона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ышавшейся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м, где зажигался необходимый морякам маяк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третий этаж. Там находился огромный бронзовый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уд, в котором  разводили огон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я система зеркальных поверхностей усиливал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до такой степени, что горящая точка была видна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ь вокруг. В течен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 помогал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якам, а затем был разобран на кам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500120" y="142920"/>
            <a:ext cx="61437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Corbel"/>
              </a:rPr>
              <a:t>Александрийский   мая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4" name="Picture 2" descr="Александрийский Маяк"/>
          <p:cNvPicPr/>
          <p:nvPr/>
        </p:nvPicPr>
        <p:blipFill>
          <a:blip r:embed="rId1"/>
          <a:stretch/>
        </p:blipFill>
        <p:spPr>
          <a:xfrm>
            <a:off x="357120" y="3000240"/>
            <a:ext cx="27147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714760" y="1500120"/>
            <a:ext cx="621504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ревнегреческое предание гласит, что остров Родос в стародавние времена лежал на дне моря, а Гелиос поднял его на поверхность и попросил богов отдать ему. В память этого события жители острова воздвигли огромную статую, называемую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Колоссом Родосски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just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 одной версии 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Гелиоса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зображали стоящим. В левой руке он держал ниспадающее до земли покрывало, правую приложил ко лбу, вглядываясь в даль. Правда, такая поза не соответствовала канонам, но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Харес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понимал, что колосс не удержится, если бог протянет руку вперёд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orbel"/>
              </a:rPr>
              <a:t>КОЛОСС    РОДОССК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7" name="Рисунок 3" descr="колосс-111.jpg"/>
          <p:cNvPicPr/>
          <p:nvPr/>
        </p:nvPicPr>
        <p:blipFill>
          <a:blip r:embed="rId1"/>
          <a:stretch/>
        </p:blipFill>
        <p:spPr>
          <a:xfrm>
            <a:off x="0" y="1643040"/>
            <a:ext cx="27147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54720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втором Колосса стал скульптор по имени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Харес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который руководил всеми работами. Он изобразил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Гелиос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(бога Солнца) высоким и стройным юношей с лучистым венцом на голове. Бог стоял во весь рост, слегка отклонившись назад, в его руке был факе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 algn="just">
              <a:lnSpc>
                <a:spcPct val="9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Колосс Родосский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озвышался н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30 – 35 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 algn="just">
              <a:lnSpc>
                <a:spcPct val="9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Гигантская статуя росла постепенно: сначала были установлены ноги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Гелиос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а затем были водружены все остальные ча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 algn="just">
              <a:lnSpc>
                <a:spcPct val="9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Фигур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Колосс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была бронзовой и очень тяжелой. Она стояла на мраморном постаменте, к которому были надежно привинчены её ступн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 algn="just">
              <a:lnSpc>
                <a:spcPct val="9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татуя сооружалась в течение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2 лет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но простояла совсем недолго, примерно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50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т. В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225 г. до н.э.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на согнулась пополам из-за землетряс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КОЛОСС  РОДОССК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0" name="Picture 2" descr=" Фото 13. Колосс родосский. ок.290 до н.э. "/>
          <p:cNvPicPr/>
          <p:nvPr/>
        </p:nvPicPr>
        <p:blipFill>
          <a:blip r:embed="rId1"/>
          <a:stretch/>
        </p:blipFill>
        <p:spPr>
          <a:xfrm>
            <a:off x="5929200" y="1285920"/>
            <a:ext cx="28958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Главной святыней Олимпии был великолепный храм Зевса со статуей верховного бога, созданной гениальным скульптором Греции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Фидием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змеры статуи по описанию очевидцев впечатляли –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4метров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в высоту (а по некоторым данным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7 метров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, кроме того Зевс находился на возвышении высотой, примерно, в 1 метр и шириной в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.5 метров. В итоге скульптура божеств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оответствовала размерам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4-х этажного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дания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тория  статуи Зевса началась в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776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году до нашей  эры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когда впервые в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Храм, построенный в его честь, прибыл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частники Олимпийских игр со всей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круги – из Малой Азии, Сирии,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ицилии, Египта, и, конечно, Эллады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ервое Святилище возвели на западном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бережье Греции примерно в 150 км. от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фин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358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orbel"/>
              </a:rPr>
              <a:t>СТАТУЯ   ЗЕВСА  ОЛИМПИЙСКОГ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3" name="Picture 2" descr="http://ctoday.ru/images/article/19/2.jpg"/>
          <p:cNvPicPr/>
          <p:nvPr/>
        </p:nvPicPr>
        <p:blipFill>
          <a:blip r:embed="rId1"/>
          <a:stretch/>
        </p:blipFill>
        <p:spPr>
          <a:xfrm>
            <a:off x="214200" y="3000240"/>
            <a:ext cx="35006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Царь богов  восседал на троне, который был изготовлен из кедрового и черного дерева, а также отделан золотом. Престол украшала резьба, изображавшая сюжеты, прославлявшие Громовержца, героев мифов и богов греческого пантеона. На ножках гигантского кресла были вырезаны четыре изображения богини победы Ники. Кроме того, трон инкрустировали слоновой костью и драгоценными каменья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 algn="just">
              <a:lnSpc>
                <a:spcPct val="8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аму фигуру Зевс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Фидий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выполнил из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олота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лоновой кост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Борода, волосы, накидка и сандалии Зевса были золотыми, на голове красовался оливковый венок. По пояс обнаженное тело, лицо, руки и ноги сотворены из отшлифованной до блеска слоновой кости высочайшего качества. В правой руке громовержец держал статую богини Ники (также золотая), в левой скипетр с орлом наверху. На верхушке скипетра восседал орел, который был вырезан из слоновой кости в натуральную величину – он символизировал господство Зевса над всем сущим. Ноги Зевса опирались на скамеечку, стоявшую подле трона, ее охраняли два золотых льв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358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orbel"/>
              </a:rPr>
              <a:t>СТАТУЯ  ЗЕВСА  ОЛИМПИЙСКОГ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58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ГАЛИКАРНАССКИЙ   МАВЗОЛЕ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7" name="Picture 2" descr="Галикарнасский Мавзолей"/>
          <p:cNvPicPr/>
          <p:nvPr/>
        </p:nvPicPr>
        <p:blipFill>
          <a:blip r:embed="rId1"/>
          <a:stretch/>
        </p:blipFill>
        <p:spPr>
          <a:xfrm>
            <a:off x="571680" y="1285920"/>
            <a:ext cx="78580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0:18:00Z</dcterms:created>
  <dc:creator/>
  <dc:description/>
  <dc:language>en-US</dc:language>
  <cp:lastModifiedBy/>
  <dcterms:modified xsi:type="dcterms:W3CDTF">2010-12-06T10:34:4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9</vt:lpwstr>
  </property>
  <property fmtid="{D5CDD505-2E9C-101B-9397-08002B2CF9AE}" pid="3" name="_TemplateID">
    <vt:lpwstr>TC100738461049</vt:lpwstr>
  </property>
</Properties>
</file>