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7.png" ContentType="image/png"/>
  <Override PartName="/ppt/media/image32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applause.wav" ContentType="audio/x-wav"/>
  <Override PartName="/ppt/media/image12.png" ContentType="image/png"/>
  <Override PartName="/ppt/media/image8.png" ContentType="image/png"/>
  <Override PartName="/ppt/media/image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3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4.wmf" ContentType="image/x-wmf"/>
  <Override PartName="/ppt/media/image13.gif" ContentType="image/gif"/>
  <Override PartName="/ppt/media/image14.gif" ContentType="image/gif"/>
  <Override PartName="/ppt/media/image17.png" ContentType="image/png"/>
  <Override PartName="/ppt/media/image15.gif" ContentType="image/gif"/>
  <Override PartName="/ppt/media/image18.png" ContentType="image/png"/>
  <Override PartName="/ppt/media/image20.png" ContentType="image/png"/>
  <Override PartName="/ppt/media/image16.gif" ContentType="image/gif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A95E-4A07-4DC9-88E4-2272571D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18B1-DD9A-469B-A5B7-DF977462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2A49-4D31-41D6-B9A1-6867A0D8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3859-6F66-44C9-993C-DE42F997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EF57F-5438-4507-A7B4-A151A59F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BE0D8-3994-4BB6-9C99-68A1BEA2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864D0-F06A-4F32-9FA8-FDD6B736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2E55D-5D14-4016-B523-61947FD0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D56F5-8424-4090-A12D-5329EF98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8BD81-C64C-4E27-A54C-8247E3CD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EC902-BC51-4BA2-871A-32550BCE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9CF5-DB34-49AF-B345-4CA00759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1A1F8-AE2F-49C3-A36D-5B313D49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7DF81-2D6C-4ED0-8C23-5F3C8E28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2A0E8-FE64-43B4-A9FC-470E4967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BA30D-3766-4EE1-AC38-695F4BB7E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CD7FC-28A9-4C90-B812-68B04543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A36C-68B7-4468-8AF8-115DB7B0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24AF-33D6-4724-971B-736058E6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0EB0-1CAA-4F2D-85E6-FEA86A39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7DB-74FE-4FCA-8A81-BAE9507A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7204-B78F-4470-B83E-D9644D45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39C4-6871-4E2B-8E2C-3E201B20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60B4-85D7-4D44-BDD8-962864FB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173B-5584-4143-B99E-DC578B2203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8758-9E39-4603-A578-70589C80EBD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Я и мир професси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3" descr="j0195812"/>
          <p:cNvPicPr/>
          <p:nvPr/>
        </p:nvPicPr>
        <p:blipFill>
          <a:blip r:embed="rId1"/>
          <a:stretch/>
        </p:blipFill>
        <p:spPr>
          <a:xfrm>
            <a:off x="2182680" y="1906560"/>
            <a:ext cx="4951440" cy="421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Функциональное разделение труда. Профессии и специа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449360"/>
            <a:ext cx="914400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обходимо различать понятия «профессия» и «специальность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b0f0"/>
                </a:solidFill>
                <a:latin typeface="Tahoma"/>
              </a:rPr>
              <a:t>Профессия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 род трудовой деятельности, требующий специальных знаний и опыта и обеспечивающий условия существования челове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b0f0"/>
                </a:solidFill>
                <a:latin typeface="Tahoma"/>
              </a:rPr>
              <a:t>Специальность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-  более узкая область приложения физических и духовных сил человека в рамках той или иной професс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482760" y="3859200"/>
            <a:ext cx="82944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3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8700"/>
                            </p:stCondLst>
                            <p:childTnLst>
                              <p:par>
                                <p:cTn id="32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9400"/>
                            </p:stCondLst>
                            <p:childTnLst>
                              <p:par>
                                <p:cTn id="3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6720" y="212400"/>
            <a:ext cx="8229600" cy="17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Игра – дискуссия “Кто нужен нашему городу”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вайте представим, что мы (класс) – это город. Кем бы вы хотели стать в этом городе, какую бы вы выбрали профессию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06440" y="2413080"/>
            <a:ext cx="4038480" cy="23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300"/>
                </a:solidFill>
                <a:latin typeface="Tahoma"/>
              </a:rPr>
              <a:t>1. Обсуждени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может ли жить и процветать наш город с таким набором профессий? Почему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165200" y="2341440"/>
            <a:ext cx="459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300"/>
                </a:solidFill>
                <a:latin typeface="Tahoma"/>
              </a:rPr>
              <a:t>2. Выводы жителей горо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роду нужны разные профессии и специалисты разных уровней из всех сфер общественного производ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стижность профессии зависит от человека, от его способностей, возможностей и умения реализовать себя, добиться успеха в професс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233360" y="4871880"/>
            <a:ext cx="12319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1676520" y="487440"/>
            <a:ext cx="58323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ahoma"/>
              </a:rPr>
              <a:t>«Угадай профессию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бирает и анализирует сведения о погодных явлениях; даёт краткосрочный и долгосрочный прогнозы погоды, изучает климат, составляет карты пог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2286000" y="92880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одит обучение учеников, студентов, используя эффективные формы, методы и средства обуч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1544760" y="838080"/>
            <a:ext cx="5932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рабатывает танцевальные движения, организует перемещения танцоров в пространстве сцены, определяет музыку, грим, костюмы, выбирает декорации, создавая единый образ тан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1909800" y="885960"/>
            <a:ext cx="5548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товит лекарства по рецептам врачей, обеспечивает хранение медикаментов, отпускает готовые лекарства без рецептов, оказывает доврачебную помощ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1463760" y="936720"/>
            <a:ext cx="5729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рвирует стол, встречает посетителей, знакомит их с меню, принимает и выполняет заказы, производит расчёт, собирает использованную посу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1604880" y="838080"/>
            <a:ext cx="5751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6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равляет транспортом, устраняет мелкие неисправности, контролирует соблюдение пассажирами правил проезда, посадки и высадки, правильность крепления груза в кузо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1676520" y="625320"/>
            <a:ext cx="55972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ует работу и эффективное взаимодействие сотрудников, решает все вопросы в пределах предоставленных ему прав и поручает выполнение отдельных функций своим подчинённ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1544760" y="1731960"/>
            <a:ext cx="608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станавливает и группирует факты, ищет их объяснения, изучает жизнь человече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6560" y="-360"/>
            <a:ext cx="82296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начение цвета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6560" y="1163520"/>
            <a:ext cx="822960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ff"/>
                </a:solidFill>
                <a:latin typeface="Tahoma"/>
              </a:rPr>
              <a:t>– </a:t>
            </a:r>
            <a:r>
              <a:rPr b="1" i="1" lang="ru-RU" sz="2400" spc="-1" strike="noStrike" u="sng">
                <a:solidFill>
                  <a:srgbClr val="2929ff"/>
                </a:solidFill>
                <a:uFillTx/>
                <a:latin typeface="Tahoma"/>
              </a:rPr>
              <a:t>синий цвет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чувствительные и впечатлительные люди, спокойные и уравновешенные, они отличаются утончённостью и хорошим эстетическим развитие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507960" y="2446200"/>
            <a:ext cx="800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9500"/>
                </a:solidFill>
                <a:uFillTx/>
                <a:latin typeface="Tahoma"/>
              </a:rPr>
              <a:t>– </a:t>
            </a:r>
            <a:r>
              <a:rPr b="1" i="1" lang="ru-RU" sz="2400" spc="-1" strike="noStrike" u="sng">
                <a:solidFill>
                  <a:srgbClr val="009500"/>
                </a:solidFill>
                <a:uFillTx/>
                <a:latin typeface="Tahoma"/>
              </a:rPr>
              <a:t>зелёный цвет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испытывают потребность в похвале, хотят быть лучше всех, имеют высокий уровень притязаний, озабочены собственным статусом в коллектив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588960" y="4016520"/>
            <a:ext cx="764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– </a:t>
            </a: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жёлтый цвет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мечтательны с богатым воображением, любят мечтать, фантазировать, но не готовы активно действовать, живут больше в будущем, чем в настояще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669960" y="5613480"/>
            <a:ext cx="736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–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красный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активные, энергичные, деятельные, напористые, шумны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1819440" y="1589040"/>
            <a:ext cx="5841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9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храняет лес, участвует во всех лесохозяйственных работах, контролирует качество этих рабо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2"/>
          <p:cNvSpPr/>
          <p:nvPr/>
        </p:nvSpPr>
        <p:spPr>
          <a:xfrm>
            <a:off x="1494000" y="1170000"/>
            <a:ext cx="6227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1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нимает, обрабатывает и выдаёт письма, бандероли, посылки, телеграммы, деньги по переводам, выплачивает пенсии и пособия, организует работу почтальон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гровая разминка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«Придумай профессию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5712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думать профессии и специальности, начинающиеся со следующих букв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                           Р                         Ф                         П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33520" y="2247840"/>
          <a:ext cx="8229600" cy="43164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34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нтрол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иноарти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ановщ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чега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иномеха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смонав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бельщ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овельщ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менщ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утюрь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ндит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ндуктор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ведч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ыба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дакт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диоведущ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нтгеноло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ди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порт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резеровщ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отогра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игури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армацев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тизиат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окус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отомод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отокорреспонден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вод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от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ило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жар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ицей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яр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гранич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ч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иротех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ва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ка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ртн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арашюти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Игра «САМАЯ – САМАЯ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1840" y="15289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ая зеле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ая слад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ая денеж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ая волосат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ая детс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ая смеш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ая общитель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ая серьез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ая опас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ая бумаж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5" descr="485"/>
          <p:cNvPicPr/>
          <p:nvPr/>
        </p:nvPicPr>
        <p:blipFill>
          <a:blip r:embed="rId1"/>
          <a:stretch/>
        </p:blipFill>
        <p:spPr>
          <a:xfrm>
            <a:off x="4287960" y="4089240"/>
            <a:ext cx="2435040" cy="248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AG00013_"/>
          <p:cNvPicPr/>
          <p:nvPr/>
        </p:nvPicPr>
        <p:blipFill>
          <a:blip r:embed="rId2"/>
          <a:stretch/>
        </p:blipFill>
        <p:spPr>
          <a:xfrm>
            <a:off x="6665760" y="1865160"/>
            <a:ext cx="1630440" cy="1509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AG00019_"/>
          <p:cNvPicPr/>
          <p:nvPr/>
        </p:nvPicPr>
        <p:blipFill>
          <a:blip r:embed="rId3"/>
          <a:stretch/>
        </p:blipFill>
        <p:spPr>
          <a:xfrm>
            <a:off x="4632480" y="2897280"/>
            <a:ext cx="1409400" cy="1305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AG00352_"/>
          <p:cNvPicPr/>
          <p:nvPr/>
        </p:nvPicPr>
        <p:blipFill>
          <a:blip r:embed="rId4"/>
          <a:stretch/>
        </p:blipFill>
        <p:spPr>
          <a:xfrm>
            <a:off x="6858000" y="4100400"/>
            <a:ext cx="1482840" cy="14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9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4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9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4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9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4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9" dur="1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4" dur="1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9" dur="1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4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онкурс «ПРОФГОЛОВОЛОМКИ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047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-15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50840" indent="-15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50840" indent="-15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50840" indent="-15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10160" y="4724280"/>
            <a:ext cx="453384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этих ребусах зашифрованы профессии. Расшифруйте и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0" y="-527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0" y="-5273640"/>
          <a:ext cx="208080" cy="1428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12"/>
          <p:cNvSpPr/>
          <p:nvPr/>
        </p:nvSpPr>
        <p:spPr>
          <a:xfrm>
            <a:off x="0" y="-3844440"/>
            <a:ext cx="5688360" cy="21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4773600" tIns="914040" bIns="457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1800" y="-131616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-360" y="1005840"/>
            <a:ext cx="382212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2907360" tIns="914040" bIns="457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0" y="-527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3260880"/>
          <a:ext cx="208080" cy="16570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6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23"/>
          <p:cNvSpPr/>
          <p:nvPr/>
        </p:nvSpPr>
        <p:spPr>
          <a:xfrm>
            <a:off x="1800" y="4917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24"/>
          <p:cNvSpPr/>
          <p:nvPr/>
        </p:nvSpPr>
        <p:spPr>
          <a:xfrm>
            <a:off x="0" y="-527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5834160"/>
          <a:ext cx="208080" cy="2182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31"/>
          <p:cNvSpPr/>
          <p:nvPr/>
        </p:nvSpPr>
        <p:spPr>
          <a:xfrm>
            <a:off x="-360" y="8253360"/>
            <a:ext cx="38221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2907360" tIns="914040" bIns="457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32"/>
          <p:cNvSpPr/>
          <p:nvPr/>
        </p:nvSpPr>
        <p:spPr>
          <a:xfrm>
            <a:off x="0" y="-527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-5273640"/>
          <a:ext cx="208080" cy="1428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39"/>
          <p:cNvSpPr/>
          <p:nvPr/>
        </p:nvSpPr>
        <p:spPr>
          <a:xfrm>
            <a:off x="0" y="-3844440"/>
            <a:ext cx="5688360" cy="21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4773600" tIns="914040" bIns="457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40"/>
          <p:cNvSpPr/>
          <p:nvPr/>
        </p:nvSpPr>
        <p:spPr>
          <a:xfrm>
            <a:off x="1800" y="-131616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41"/>
          <p:cNvSpPr/>
          <p:nvPr/>
        </p:nvSpPr>
        <p:spPr>
          <a:xfrm>
            <a:off x="-360" y="1005840"/>
            <a:ext cx="382212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2907360" tIns="914040" bIns="457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42"/>
          <p:cNvSpPr/>
          <p:nvPr/>
        </p:nvSpPr>
        <p:spPr>
          <a:xfrm>
            <a:off x="0" y="-527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0" y="3260880"/>
          <a:ext cx="208080" cy="16570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6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Rectangle 49"/>
          <p:cNvSpPr/>
          <p:nvPr/>
        </p:nvSpPr>
        <p:spPr>
          <a:xfrm>
            <a:off x="1800" y="4917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50"/>
          <p:cNvSpPr/>
          <p:nvPr/>
        </p:nvSpPr>
        <p:spPr>
          <a:xfrm>
            <a:off x="0" y="-527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5834160"/>
          <a:ext cx="208080" cy="2182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Rectangle 57"/>
          <p:cNvSpPr/>
          <p:nvPr/>
        </p:nvSpPr>
        <p:spPr>
          <a:xfrm>
            <a:off x="-360" y="8253360"/>
            <a:ext cx="38221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2907360" tIns="914040" bIns="457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58" descr=""/>
          <p:cNvPicPr/>
          <p:nvPr/>
        </p:nvPicPr>
        <p:blipFill>
          <a:blip r:embed="rId1"/>
          <a:stretch/>
        </p:blipFill>
        <p:spPr>
          <a:xfrm>
            <a:off x="912960" y="1633680"/>
            <a:ext cx="1420560" cy="1145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9" descr=""/>
          <p:cNvPicPr/>
          <p:nvPr/>
        </p:nvPicPr>
        <p:blipFill>
          <a:blip r:embed="rId2"/>
          <a:stretch/>
        </p:blipFill>
        <p:spPr>
          <a:xfrm>
            <a:off x="457200" y="3352680"/>
            <a:ext cx="1828800" cy="1333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0" descr=""/>
          <p:cNvPicPr/>
          <p:nvPr/>
        </p:nvPicPr>
        <p:blipFill>
          <a:blip r:embed="rId3"/>
          <a:stretch/>
        </p:blipFill>
        <p:spPr>
          <a:xfrm>
            <a:off x="2819520" y="3086280"/>
            <a:ext cx="1612800" cy="1765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1" descr=""/>
          <p:cNvPicPr/>
          <p:nvPr/>
        </p:nvPicPr>
        <p:blipFill>
          <a:blip r:embed="rId4"/>
          <a:stretch/>
        </p:blipFill>
        <p:spPr>
          <a:xfrm>
            <a:off x="762120" y="5168880"/>
            <a:ext cx="3327120" cy="1346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2" descr=""/>
          <p:cNvPicPr/>
          <p:nvPr/>
        </p:nvPicPr>
        <p:blipFill>
          <a:blip r:embed="rId5"/>
          <a:stretch/>
        </p:blipFill>
        <p:spPr>
          <a:xfrm>
            <a:off x="6248520" y="3200400"/>
            <a:ext cx="2108160" cy="120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3" descr=""/>
          <p:cNvPicPr/>
          <p:nvPr/>
        </p:nvPicPr>
        <p:blipFill>
          <a:blip r:embed="rId6"/>
          <a:stretch/>
        </p:blipFill>
        <p:spPr>
          <a:xfrm>
            <a:off x="3467160" y="1574640"/>
            <a:ext cx="1244520" cy="1231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4" descr=""/>
          <p:cNvPicPr/>
          <p:nvPr/>
        </p:nvPicPr>
        <p:blipFill>
          <a:blip r:embed="rId7"/>
          <a:stretch/>
        </p:blipFill>
        <p:spPr>
          <a:xfrm>
            <a:off x="4737240" y="1596960"/>
            <a:ext cx="1041120" cy="1219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5" descr=""/>
          <p:cNvPicPr/>
          <p:nvPr/>
        </p:nvPicPr>
        <p:blipFill>
          <a:blip r:embed="rId8"/>
          <a:stretch/>
        </p:blipFill>
        <p:spPr>
          <a:xfrm>
            <a:off x="6934320" y="1523880"/>
            <a:ext cx="1231920" cy="1346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6" descr=""/>
          <p:cNvPicPr/>
          <p:nvPr/>
        </p:nvPicPr>
        <p:blipFill>
          <a:blip r:embed="rId9"/>
          <a:stretch/>
        </p:blipFill>
        <p:spPr>
          <a:xfrm>
            <a:off x="8191440" y="1523880"/>
            <a:ext cx="546120" cy="1333800"/>
          </a:xfrm>
          <a:prstGeom prst="rect">
            <a:avLst/>
          </a:prstGeom>
          <a:ln w="0">
            <a:noFill/>
          </a:ln>
        </p:spPr>
      </p:pic>
      <p:sp>
        <p:nvSpPr>
          <p:cNvPr id="181" name="WordArt 67"/>
          <p:cNvSpPr txBox="1"/>
          <p:nvPr/>
        </p:nvSpPr>
        <p:spPr>
          <a:xfrm>
            <a:off x="5257800" y="3238560"/>
            <a:ext cx="977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4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Угадайте пословиц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25520" y="1308240"/>
            <a:ext cx="8292960" cy="49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Расшифруйте поговорк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379440" y="1295280"/>
            <a:ext cx="83818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9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20520" y="11458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пасибо за участие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3828960"/>
            <a:ext cx="802944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Большого вам плавания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8" descr=""/>
          <p:cNvPicPr/>
          <p:nvPr/>
        </p:nvPicPr>
        <p:blipFill>
          <a:blip r:embed="rId1"/>
          <a:stretch/>
        </p:blipFill>
        <p:spPr>
          <a:xfrm>
            <a:off x="6919920" y="4471920"/>
            <a:ext cx="1407960" cy="1371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"/>
          <p:cNvPicPr/>
          <p:nvPr/>
        </p:nvPicPr>
        <p:blipFill>
          <a:blip r:embed="rId2"/>
          <a:stretch/>
        </p:blipFill>
        <p:spPr>
          <a:xfrm>
            <a:off x="3638520" y="2408400"/>
            <a:ext cx="835200" cy="1603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"/>
          <p:cNvPicPr/>
          <p:nvPr/>
        </p:nvPicPr>
        <p:blipFill>
          <a:blip r:embed="rId3"/>
          <a:stretch/>
        </p:blipFill>
        <p:spPr>
          <a:xfrm>
            <a:off x="-135000" y="311040"/>
            <a:ext cx="1811520" cy="1712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"/>
          <p:cNvPicPr/>
          <p:nvPr/>
        </p:nvPicPr>
        <p:blipFill>
          <a:blip r:embed="rId4"/>
          <a:stretch/>
        </p:blipFill>
        <p:spPr>
          <a:xfrm>
            <a:off x="463680" y="4832280"/>
            <a:ext cx="1427040" cy="1427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4" descr=""/>
          <p:cNvPicPr/>
          <p:nvPr/>
        </p:nvPicPr>
        <p:blipFill>
          <a:blip r:embed="rId5"/>
          <a:stretch/>
        </p:blipFill>
        <p:spPr>
          <a:xfrm>
            <a:off x="7932600" y="2286000"/>
            <a:ext cx="1017720" cy="1432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"/>
          <p:cNvPicPr/>
          <p:nvPr/>
        </p:nvPicPr>
        <p:blipFill>
          <a:blip r:embed="rId6"/>
          <a:stretch/>
        </p:blipFill>
        <p:spPr>
          <a:xfrm>
            <a:off x="6932520" y="270000"/>
            <a:ext cx="11700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06080" y="4013280"/>
            <a:ext cx="834084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dventure"/>
              </a:rPr>
              <a:t>МИР ПРОФЕССИЙ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1219320" y="215424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ИРМСПФРСЕОЙ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lang="ru-RU" sz="4000" spc="-1" strike="noStrike">
                <a:solidFill>
                  <a:srgbClr val="38ff38"/>
                </a:solidFill>
                <a:latin typeface="Tahoma"/>
              </a:rPr>
              <a:t>Кто я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033200"/>
            <a:ext cx="6059520" cy="52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поисках ответа на вопрос «Кто я?» мы сравниваем себя с другими людьми (родителями, друзьями, знакомыми), героями литературных произвед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утем сравнения увиденных в другом человеке качеств со своими, происходит процесс самопознания, узнавания, выделения собственного «Я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ким образом, познавая людей, мы познаем себ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6100920" y="2117880"/>
            <a:ext cx="2722320" cy="35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рофессиональный пла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964880"/>
            <a:ext cx="601488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бор профессии – сложный и ответственный шаг в жизни каждого человека. От продуманного выбора профессии во многом зависит будущая судьба. Правильно выбрать профессию – значит найти свое место в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j0240719"/>
          <p:cNvPicPr/>
          <p:nvPr/>
        </p:nvPicPr>
        <p:blipFill>
          <a:blip r:embed="rId1"/>
          <a:stretch/>
        </p:blipFill>
        <p:spPr>
          <a:xfrm>
            <a:off x="6064200" y="1909800"/>
            <a:ext cx="25351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3520" y="237600"/>
            <a:ext cx="888048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 составлении профессионального плана следует определять главную цель: чем заниматься, кем быть; объективно проанализировать и оценить свои возможности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Профессиональный план можно представить схематично в виде трех составляющих: «хочу», «могу», «надо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0" name="Diagram 3"/>
          <p:cNvGrpSpPr/>
          <p:nvPr/>
        </p:nvGrpSpPr>
        <p:grpSpPr>
          <a:xfrm>
            <a:off x="1677960" y="2901960"/>
            <a:ext cx="5705280" cy="3039840"/>
            <a:chOff x="1677960" y="2901960"/>
            <a:chExt cx="5705280" cy="3039840"/>
          </a:xfrm>
        </p:grpSpPr>
        <p:sp>
          <p:nvSpPr>
            <p:cNvPr id="101" name="_s1028"/>
            <p:cNvSpPr/>
            <p:nvPr/>
          </p:nvSpPr>
          <p:spPr>
            <a:xfrm>
              <a:off x="3759120" y="3441600"/>
              <a:ext cx="1542960" cy="1542960"/>
            </a:xfrm>
            <a:prstGeom prst="ellipse">
              <a:avLst/>
            </a:prstGeom>
            <a:solidFill>
              <a:srgbClr val="00c600">
                <a:alpha val="50000"/>
              </a:srgbClr>
            </a:solidFill>
            <a:ln w="468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_s1029"/>
            <p:cNvSpPr/>
            <p:nvPr/>
          </p:nvSpPr>
          <p:spPr>
            <a:xfrm>
              <a:off x="3759120" y="2901960"/>
              <a:ext cx="15429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МОГУ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1030"/>
            <p:cNvSpPr/>
            <p:nvPr/>
          </p:nvSpPr>
          <p:spPr>
            <a:xfrm>
              <a:off x="4267080" y="4322520"/>
              <a:ext cx="1542960" cy="154332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46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_s1031"/>
            <p:cNvSpPr/>
            <p:nvPr/>
          </p:nvSpPr>
          <p:spPr>
            <a:xfrm>
              <a:off x="5840280" y="5556240"/>
              <a:ext cx="15429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НАДО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_s1032"/>
            <p:cNvSpPr/>
            <p:nvPr/>
          </p:nvSpPr>
          <p:spPr>
            <a:xfrm>
              <a:off x="3249360" y="4321080"/>
              <a:ext cx="1543320" cy="1542960"/>
            </a:xfrm>
            <a:prstGeom prst="ellipse">
              <a:avLst/>
            </a:prstGeom>
            <a:solidFill>
              <a:srgbClr val="6699ff">
                <a:alpha val="50000"/>
              </a:srgbClr>
            </a:solidFill>
            <a:ln w="46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_s1033"/>
            <p:cNvSpPr/>
            <p:nvPr/>
          </p:nvSpPr>
          <p:spPr>
            <a:xfrm>
              <a:off x="1677960" y="5556240"/>
              <a:ext cx="15429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ХОЧУ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9120"/>
                            </p:stCondLst>
                            <p:childTnLst>
                              <p:par>
                                <p:cTn id="17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9620"/>
                            </p:stCondLst>
                            <p:childTnLst>
                              <p:par>
                                <p:cTn id="17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4326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нтересы и склонности в профессиональном выборе («ХОЧУ»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722240"/>
            <a:ext cx="471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ежду интересами и склонностями  много общего, но есть и свои различия. Как правило, интересы означают «ХОЧУ ЗНАТЬ», а склонности – «ХОЧУ ДЕЛАТЬ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тимальный вариант в ситуации профессионального выбора – когда интересы и склонности согласованы между собой и дополняют друг друга по их предметной соотнесенности, широте содержания, устойчивости, силе, дли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5694480" y="1905120"/>
          <a:ext cx="19447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4480" y="1905120"/>
                    <a:ext cx="19447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Picture 5" descr=""/>
          <p:cNvPicPr/>
          <p:nvPr/>
        </p:nvPicPr>
        <p:blipFill>
          <a:blip r:embed="rId3"/>
          <a:stretch/>
        </p:blipFill>
        <p:spPr>
          <a:xfrm>
            <a:off x="4675320" y="1677960"/>
            <a:ext cx="4203720" cy="225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4"/>
          <a:stretch/>
        </p:blipFill>
        <p:spPr>
          <a:xfrm>
            <a:off x="4651200" y="4119480"/>
            <a:ext cx="420372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7600" y="291960"/>
            <a:ext cx="89060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озможности личности в профессиональной деятельности («МОГУ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746360"/>
            <a:ext cx="47401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аждая профессия имеет специфические сложности, которые необходимо знать, усваивать и выполнять. Эти особенности называются требованиями, предъявляемыми профессией к челове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74640" y="1905120"/>
            <a:ext cx="486900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Если они совпадают с личными качествами человека, его индивидуально-психологическими особенностями и возможностями, то тогда говорят о профессиональной пригодности челове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4653000" y="1514520"/>
            <a:ext cx="4037040" cy="2216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2"/>
          <a:stretch/>
        </p:blipFill>
        <p:spPr>
          <a:xfrm>
            <a:off x="515880" y="4141800"/>
            <a:ext cx="37688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4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385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385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8" dur="385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0" dur="385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85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" dur="385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5" dur="385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7" dur="385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4320" y="291600"/>
            <a:ext cx="8869320" cy="8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Многообразие мира професс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1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мире насчитывается более 10 тысяч профессий, а включая специальности, специализации, квалификации – свыше 50 тысяч. Действительно, целое море возможностей и вариантов. В современном обществе человек может найти приложение всем своим силам, реализовать себ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915840" y="1135080"/>
            <a:ext cx="746604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2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4:32:34Z</dcterms:created>
  <dc:creator>Рифат</dc:creator>
  <dc:description/>
  <dc:language>en-US</dc:language>
  <cp:lastModifiedBy>6417</cp:lastModifiedBy>
  <dcterms:modified xsi:type="dcterms:W3CDTF">2013-10-17T19:37:11Z</dcterms:modified>
  <cp:revision>28</cp:revision>
  <dc:subject/>
  <dc:title>Я и мир профессий</dc:title>
</cp:coreProperties>
</file>