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785-648A-4CE0-8940-C163A935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214-B7E2-4470-AFDE-3F4261F0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3F4-1F37-43B5-BC82-8B4A187E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B0B-7F5B-47A2-9880-926BF5F1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E478-D0BD-44EF-8C6C-B1E2F337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FFD0-A411-47E6-AF79-5B37548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4168-D746-4C59-9EA6-4F339C15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6CC3-C035-4C17-A6D5-00286BC8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0DF3-658F-46E9-B0F9-B9233C1E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1397-DDE3-4C68-B00A-B91EA71B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3F4A-AFFB-4723-99E6-A5F8C772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EAC-9F07-45C5-A5F8-FE292F84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644A-F4AE-4FFB-8806-6610CEA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71E4-019B-4CF0-9633-2698EAE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C243-76A2-4392-BE41-C8A05FD4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723B-71DF-4A18-AFDE-ABA259D9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D80D-1622-4D0F-A240-B485F7AC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96F-05A0-49B3-9A3C-B9854C4B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C40-4FB7-4A4C-B124-8C40F1A4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A39-1069-4123-82D6-846E8113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FD0-9F98-48FE-88EA-2117688D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B57-7480-42B9-A25E-52C123D6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E97-E85B-4469-8E41-87BECFE1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04B-CADC-41EA-B760-2DC1DE81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838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24E5-4809-4797-8FED-9356A721BF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60A4-5EC0-47C9-ACB0-99E5E89704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5" descr=""/>
          <p:cNvPicPr/>
          <p:nvPr/>
        </p:nvPicPr>
        <p:blipFill>
          <a:blip r:embed="rId1"/>
          <a:stretch/>
        </p:blipFill>
        <p:spPr>
          <a:xfrm>
            <a:off x="1676520" y="1609560"/>
            <a:ext cx="6845040" cy="259092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2771640" y="558972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 u="sng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uFillTx/>
                <a:latin typeface="Times New Roman"/>
              </a:rPr>
              <a:t> </a:t>
            </a:r>
            <a:endParaRPr b="0" lang="en-US" sz="2400" spc="1" strike="noStrike" u="sng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uFillTx/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3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71640" y="1773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 треугольнике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NK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известны длина стороны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и величина угла К. Чтобы найти сторону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K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, необходимо зн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А. величину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&lt;M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. длину стороны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K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. значение периметра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NK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Овал 14"/>
          <p:cNvSpPr/>
          <p:nvPr/>
        </p:nvSpPr>
        <p:spPr>
          <a:xfrm>
            <a:off x="1042920" y="98100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9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0" name="Овал 14"/>
          <p:cNvSpPr/>
          <p:nvPr/>
        </p:nvSpPr>
        <p:spPr>
          <a:xfrm>
            <a:off x="1042920" y="98100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1293120" y="1916280"/>
            <a:ext cx="67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треугольнике АВС АВ=6см, ВС=2см. Найти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тношение синуса угла А к синусу угла С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42" name="Group 32"/>
          <p:cNvGrpSpPr/>
          <p:nvPr/>
        </p:nvGrpSpPr>
        <p:grpSpPr>
          <a:xfrm>
            <a:off x="4932000" y="3715560"/>
            <a:ext cx="2591280" cy="1600920"/>
            <a:chOff x="4932000" y="3715560"/>
            <a:chExt cx="2591280" cy="1600920"/>
          </a:xfrm>
        </p:grpSpPr>
        <p:cxnSp>
          <p:nvCxnSpPr>
            <p:cNvPr id="243" name="AutoShape 26"/>
            <p:cNvCxnSpPr/>
            <p:nvPr/>
          </p:nvCxnSpPr>
          <p:spPr>
            <a:xfrm flipV="1">
              <a:off x="4932000" y="3715920"/>
              <a:ext cx="1753560" cy="158184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244" name="AutoShape 28"/>
            <p:cNvCxnSpPr/>
            <p:nvPr/>
          </p:nvCxnSpPr>
          <p:spPr>
            <a:xfrm flipH="1" flipV="1">
              <a:off x="6684840" y="3715560"/>
              <a:ext cx="838800" cy="16009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</a:ln>
          </p:spPr>
        </p:cxnSp>
        <p:sp>
          <p:nvSpPr>
            <p:cNvPr id="245" name="Line 31"/>
            <p:cNvSpPr/>
            <p:nvPr/>
          </p:nvSpPr>
          <p:spPr>
            <a:xfrm>
              <a:off x="4932360" y="5316480"/>
              <a:ext cx="2590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46" name="TextBox 12"/>
          <p:cNvSpPr/>
          <p:nvPr/>
        </p:nvSpPr>
        <p:spPr>
          <a:xfrm>
            <a:off x="4719240" y="522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7352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752724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Содержимое 15"/>
              <p:cNvSpPr txBox="1"/>
              <p:nvPr/>
            </p:nvSpPr>
            <p:spPr>
              <a:xfrm>
                <a:off x="1763640" y="3429000"/>
                <a:ext cx="828720" cy="24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2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3" name="Овал 14"/>
          <p:cNvSpPr/>
          <p:nvPr/>
        </p:nvSpPr>
        <p:spPr>
          <a:xfrm>
            <a:off x="1042920" y="98100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1195920" y="1916280"/>
            <a:ext cx="47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йти угол А, если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nA=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0,3256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Содержимое 15"/>
              <p:cNvSpPr txBox="1"/>
              <p:nvPr/>
            </p:nvSpPr>
            <p:spPr>
              <a:xfrm>
                <a:off x="2050920" y="3141720"/>
                <a:ext cx="24368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1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16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1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и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Овал 15"/>
          <p:cNvSpPr/>
          <p:nvPr/>
        </p:nvSpPr>
        <p:spPr>
          <a:xfrm>
            <a:off x="1547640" y="3068640"/>
            <a:ext cx="576360" cy="576360"/>
          </a:xfrm>
          <a:prstGeom prst="ellipse">
            <a:avLst/>
          </a:prstGeom>
          <a:solidFill>
            <a:srgbClr val="fae7d5"/>
          </a:solidFill>
          <a:ln w="38160">
            <a:solidFill>
              <a:srgbClr val="f3c4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57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510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58920" y="17002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реугольника АВС справедливо равенств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Объект 9"/>
              <p:cNvSpPr txBox="1"/>
              <p:nvPr/>
            </p:nvSpPr>
            <p:spPr>
              <a:xfrm>
                <a:off x="1619280" y="3068640"/>
                <a:ext cx="682632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ВСА</m:t>
                        </m:r>
                      </m:e>
                      <m:e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e>
                      <m:e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АС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2" name="Group 32"/>
          <p:cNvGrpSpPr/>
          <p:nvPr/>
        </p:nvGrpSpPr>
        <p:grpSpPr>
          <a:xfrm>
            <a:off x="3131640" y="4966560"/>
            <a:ext cx="2591280" cy="1600920"/>
            <a:chOff x="3131640" y="4966560"/>
            <a:chExt cx="2591280" cy="1600920"/>
          </a:xfrm>
        </p:grpSpPr>
        <p:cxnSp>
          <p:nvCxnSpPr>
            <p:cNvPr id="263" name="AutoShape 26"/>
            <p:cNvCxnSpPr/>
            <p:nvPr/>
          </p:nvCxnSpPr>
          <p:spPr>
            <a:xfrm flipV="1">
              <a:off x="3131640" y="4966920"/>
              <a:ext cx="1753560" cy="158184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264" name="AutoShape 28"/>
            <p:cNvCxnSpPr/>
            <p:nvPr/>
          </p:nvCxnSpPr>
          <p:spPr>
            <a:xfrm flipH="1" flipV="1">
              <a:off x="4884480" y="4966560"/>
              <a:ext cx="838800" cy="160092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</a:ln>
          </p:spPr>
        </p:cxnSp>
        <p:sp>
          <p:nvSpPr>
            <p:cNvPr id="265" name="Line 31"/>
            <p:cNvSpPr/>
            <p:nvPr/>
          </p:nvSpPr>
          <p:spPr>
            <a:xfrm>
              <a:off x="3132000" y="6567480"/>
              <a:ext cx="259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66" name="Text Box 14"/>
          <p:cNvSpPr/>
          <p:nvPr/>
        </p:nvSpPr>
        <p:spPr>
          <a:xfrm>
            <a:off x="2751120" y="6162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4419720" y="47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5722920" y="6110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9" name="Овал 16"/>
          <p:cNvSpPr/>
          <p:nvPr/>
        </p:nvSpPr>
        <p:spPr>
          <a:xfrm>
            <a:off x="971640" y="126828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Овал 15"/>
          <p:cNvSpPr/>
          <p:nvPr/>
        </p:nvSpPr>
        <p:spPr>
          <a:xfrm>
            <a:off x="3276720" y="4149720"/>
            <a:ext cx="574560" cy="574560"/>
          </a:xfrm>
          <a:prstGeom prst="ellipse">
            <a:avLst/>
          </a:prstGeom>
          <a:solidFill>
            <a:srgbClr val="fae7d5"/>
          </a:solidFill>
          <a:ln w="38160">
            <a:solidFill>
              <a:srgbClr val="f3c4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71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Объект 9"/>
              <p:cNvSpPr txBox="1"/>
              <p:nvPr/>
            </p:nvSpPr>
            <p:spPr>
              <a:xfrm>
                <a:off x="3419640" y="2133720"/>
                <a:ext cx="3450960" cy="27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С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С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E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С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6" name="Group 32"/>
          <p:cNvGrpSpPr/>
          <p:nvPr/>
        </p:nvGrpSpPr>
        <p:grpSpPr>
          <a:xfrm>
            <a:off x="3131640" y="4966560"/>
            <a:ext cx="2591280" cy="1600920"/>
            <a:chOff x="3131640" y="4966560"/>
            <a:chExt cx="2591280" cy="1600920"/>
          </a:xfrm>
        </p:grpSpPr>
        <p:cxnSp>
          <p:nvCxnSpPr>
            <p:cNvPr id="277" name="AutoShape 26"/>
            <p:cNvCxnSpPr/>
            <p:nvPr/>
          </p:nvCxnSpPr>
          <p:spPr>
            <a:xfrm flipV="1">
              <a:off x="3131640" y="4966920"/>
              <a:ext cx="1753560" cy="158184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278" name="AutoShape 28"/>
            <p:cNvCxnSpPr/>
            <p:nvPr/>
          </p:nvCxnSpPr>
          <p:spPr>
            <a:xfrm flipH="1" flipV="1">
              <a:off x="4884480" y="4966560"/>
              <a:ext cx="838800" cy="160092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</a:ln>
          </p:spPr>
        </p:cxnSp>
        <p:sp>
          <p:nvSpPr>
            <p:cNvPr id="279" name="Line 31"/>
            <p:cNvSpPr/>
            <p:nvPr/>
          </p:nvSpPr>
          <p:spPr>
            <a:xfrm>
              <a:off x="3132000" y="6567480"/>
              <a:ext cx="259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80" name="Text Box 14"/>
          <p:cNvSpPr/>
          <p:nvPr/>
        </p:nvSpPr>
        <p:spPr>
          <a:xfrm>
            <a:off x="2751120" y="6162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5003640" y="4797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5722920" y="6110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3" name="Овал 16"/>
          <p:cNvSpPr/>
          <p:nvPr/>
        </p:nvSpPr>
        <p:spPr>
          <a:xfrm>
            <a:off x="1116000" y="105264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2142360" y="1628640"/>
            <a:ext cx="63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реугольника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праведливо равенство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Овал 10"/>
          <p:cNvSpPr/>
          <p:nvPr/>
        </p:nvSpPr>
        <p:spPr>
          <a:xfrm>
            <a:off x="826920" y="3141720"/>
            <a:ext cx="576360" cy="574560"/>
          </a:xfrm>
          <a:prstGeom prst="ellipse">
            <a:avLst/>
          </a:prstGeom>
          <a:solidFill>
            <a:srgbClr val="fae7d5"/>
          </a:solidFill>
          <a:ln w="38160">
            <a:solidFill>
              <a:srgbClr val="f3c4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86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8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реугольнике АВС  длины сторон равны 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Чтобы най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&lt;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до воспользоваться формуло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Объект 1"/>
              <p:cNvSpPr txBox="1"/>
              <p:nvPr/>
            </p:nvSpPr>
            <p:spPr>
              <a:xfrm>
                <a:off x="1042920" y="2924280"/>
                <a:ext cx="35416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Объект 3"/>
              <p:cNvSpPr txBox="1"/>
              <p:nvPr/>
            </p:nvSpPr>
            <p:spPr>
              <a:xfrm>
                <a:off x="1042920" y="3933720"/>
                <a:ext cx="339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Объект 4"/>
              <p:cNvSpPr txBox="1"/>
              <p:nvPr/>
            </p:nvSpPr>
            <p:spPr>
              <a:xfrm>
                <a:off x="1128600" y="5084640"/>
                <a:ext cx="32990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Овал 16"/>
          <p:cNvSpPr/>
          <p:nvPr/>
        </p:nvSpPr>
        <p:spPr>
          <a:xfrm>
            <a:off x="971640" y="98100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Овал 7"/>
          <p:cNvSpPr/>
          <p:nvPr/>
        </p:nvSpPr>
        <p:spPr>
          <a:xfrm>
            <a:off x="993600" y="3141720"/>
            <a:ext cx="576360" cy="574560"/>
          </a:xfrm>
          <a:prstGeom prst="ellipse">
            <a:avLst/>
          </a:prstGeom>
          <a:solidFill>
            <a:srgbClr val="fae7d5"/>
          </a:solidFill>
          <a:ln w="38160">
            <a:solidFill>
              <a:srgbClr val="f3c4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96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76400" y="18651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 треугольнике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NK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известны длина стороны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и величина угла К. Чтобы найти сторону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K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, необходимо зн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А. величину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&lt;M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. длину стороны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K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. значение периметра 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NK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Овал 14"/>
          <p:cNvSpPr/>
          <p:nvPr/>
        </p:nvSpPr>
        <p:spPr>
          <a:xfrm>
            <a:off x="1042920" y="98100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Объект 1"/>
              <p:cNvSpPr txBox="1"/>
              <p:nvPr/>
            </p:nvSpPr>
            <p:spPr>
              <a:xfrm>
                <a:off x="5435640" y="4292640"/>
                <a:ext cx="288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Овал 14"/>
          <p:cNvSpPr/>
          <p:nvPr/>
        </p:nvSpPr>
        <p:spPr>
          <a:xfrm>
            <a:off x="1692360" y="3645000"/>
            <a:ext cx="576000" cy="576000"/>
          </a:xfrm>
          <a:prstGeom prst="ellipse">
            <a:avLst/>
          </a:prstGeom>
          <a:solidFill>
            <a:srgbClr val="fae7d5"/>
          </a:solidFill>
          <a:ln w="38160">
            <a:solidFill>
              <a:srgbClr val="f3c4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04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7" name="Овал 14"/>
          <p:cNvSpPr/>
          <p:nvPr/>
        </p:nvSpPr>
        <p:spPr>
          <a:xfrm>
            <a:off x="1042920" y="98100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1293120" y="1916280"/>
            <a:ext cx="67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треугольнике АВС АВ=6см, ВС=2см. Найти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тношение синуса угла А к синусу угла С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4933440" y="3642480"/>
            <a:ext cx="2591280" cy="1600920"/>
            <a:chOff x="4933440" y="3642480"/>
            <a:chExt cx="2591280" cy="1600920"/>
          </a:xfrm>
        </p:grpSpPr>
        <p:cxnSp>
          <p:nvCxnSpPr>
            <p:cNvPr id="310" name="AutoShape 26"/>
            <p:cNvCxnSpPr/>
            <p:nvPr/>
          </p:nvCxnSpPr>
          <p:spPr>
            <a:xfrm flipV="1">
              <a:off x="4933440" y="3642840"/>
              <a:ext cx="1753560" cy="158184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11" name="AutoShape 28"/>
            <p:cNvCxnSpPr/>
            <p:nvPr/>
          </p:nvCxnSpPr>
          <p:spPr>
            <a:xfrm flipH="1" flipV="1">
              <a:off x="6686280" y="3642480"/>
              <a:ext cx="838800" cy="16009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</a:ln>
          </p:spPr>
        </p:cxnSp>
        <p:sp>
          <p:nvSpPr>
            <p:cNvPr id="312" name="Line 31"/>
            <p:cNvSpPr/>
            <p:nvPr/>
          </p:nvSpPr>
          <p:spPr>
            <a:xfrm>
              <a:off x="4933800" y="5243400"/>
              <a:ext cx="2590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313" name="TextBox 12"/>
          <p:cNvSpPr/>
          <p:nvPr/>
        </p:nvSpPr>
        <p:spPr>
          <a:xfrm>
            <a:off x="4719240" y="522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4" name="TextBox 13"/>
          <p:cNvSpPr/>
          <p:nvPr/>
        </p:nvSpPr>
        <p:spPr>
          <a:xfrm>
            <a:off x="67352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752724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Содержимое 15"/>
              <p:cNvSpPr txBox="1"/>
              <p:nvPr/>
            </p:nvSpPr>
            <p:spPr>
              <a:xfrm>
                <a:off x="1763640" y="3429000"/>
                <a:ext cx="828720" cy="24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Овал 7"/>
          <p:cNvSpPr/>
          <p:nvPr/>
        </p:nvSpPr>
        <p:spPr>
          <a:xfrm>
            <a:off x="2050920" y="4724280"/>
            <a:ext cx="576360" cy="576360"/>
          </a:xfrm>
          <a:prstGeom prst="ellipse">
            <a:avLst/>
          </a:prstGeom>
          <a:solidFill>
            <a:srgbClr val="fae7d5"/>
          </a:solidFill>
          <a:ln w="38160">
            <a:solidFill>
              <a:srgbClr val="f3c4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18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0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1" name="Овал 14"/>
          <p:cNvSpPr/>
          <p:nvPr/>
        </p:nvSpPr>
        <p:spPr>
          <a:xfrm>
            <a:off x="1042920" y="98100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195920" y="1916280"/>
            <a:ext cx="47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йти угол А, если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nA=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0,3256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Содержимое 15"/>
              <p:cNvSpPr txBox="1"/>
              <p:nvPr/>
            </p:nvSpPr>
            <p:spPr>
              <a:xfrm>
                <a:off x="2050920" y="3141720"/>
                <a:ext cx="24368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1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16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1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и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WordArt 2" descr=""/>
          <p:cNvPicPr/>
          <p:nvPr/>
        </p:nvPicPr>
        <p:blipFill>
          <a:blip r:embed="rId1"/>
          <a:stretch/>
        </p:blipFill>
        <p:spPr>
          <a:xfrm>
            <a:off x="1060560" y="378000"/>
            <a:ext cx="7632720" cy="11523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"/>
          <p:cNvSpPr/>
          <p:nvPr/>
        </p:nvSpPr>
        <p:spPr>
          <a:xfrm>
            <a:off x="1135440" y="2788560"/>
            <a:ext cx="758124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3838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верно выполненных заданий- «5»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4 верно выполненных заданий- «4»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верно выполненных задания- «3»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WordArt 2" descr=""/>
          <p:cNvPicPr/>
          <p:nvPr/>
        </p:nvPicPr>
        <p:blipFill>
          <a:blip r:embed="rId1"/>
          <a:stretch/>
        </p:blipFill>
        <p:spPr>
          <a:xfrm>
            <a:off x="2322360" y="536400"/>
            <a:ext cx="4883400" cy="9511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Прямоугольник 35"/>
          <p:cNvSpPr/>
          <p:nvPr/>
        </p:nvSpPr>
        <p:spPr>
          <a:xfrm>
            <a:off x="1042920" y="170028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формулировать теорему косинусов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формулировать теорему синусов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ак найти угол А  треугольника АВС, если сторона АВ=с, АС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С=а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Чему равен синус тупого угла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Чему равен косинус тупого угла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колько углов соответствует значению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Что позволяет найти теорема косинусов и при каких условиях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Что позволяет найти теорема синусов и при каких условиях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WordArt 2" descr=""/>
          <p:cNvPicPr/>
          <p:nvPr/>
        </p:nvPicPr>
        <p:blipFill>
          <a:blip r:embed="rId1"/>
          <a:stretch/>
        </p:blipFill>
        <p:spPr>
          <a:xfrm>
            <a:off x="1584360" y="596880"/>
            <a:ext cx="6688080" cy="9698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7"/>
          <p:cNvSpPr/>
          <p:nvPr/>
        </p:nvSpPr>
        <p:spPr>
          <a:xfrm>
            <a:off x="1668600" y="4437000"/>
            <a:ext cx="21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.М.Бради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890-1975г.г.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28" name="Рисунок 5" descr="Файл:Bradis.jpg"/>
          <p:cNvPicPr/>
          <p:nvPr/>
        </p:nvPicPr>
        <p:blipFill>
          <a:blip r:embed="rId2"/>
          <a:stretch/>
        </p:blipFill>
        <p:spPr>
          <a:xfrm>
            <a:off x="1547640" y="184464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6" descr="http://shkolazhizni.ru/img/content/i84/84080.jpg"/>
          <p:cNvPicPr/>
          <p:nvPr/>
        </p:nvPicPr>
        <p:blipFill>
          <a:blip r:embed="rId3"/>
          <a:stretch/>
        </p:blipFill>
        <p:spPr>
          <a:xfrm>
            <a:off x="4140360" y="4508640"/>
            <a:ext cx="4074840" cy="1873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Брадис В.М. Четырехзначные математические таблицы для средней школы"/>
          <p:cNvPicPr/>
          <p:nvPr/>
        </p:nvPicPr>
        <p:blipFill>
          <a:blip r:embed="rId4"/>
          <a:stretch/>
        </p:blipFill>
        <p:spPr>
          <a:xfrm>
            <a:off x="5364000" y="1700280"/>
            <a:ext cx="1716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WordArt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7832880" cy="109836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38">
            <a:hlinkClick r:id="" action="ppaction://hlinkshowjump?jump=nex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3" name="Text Box 39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4" name="Text Box 79"/>
          <p:cNvSpPr/>
          <p:nvPr/>
        </p:nvSpPr>
        <p:spPr>
          <a:xfrm>
            <a:off x="5003640" y="443700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35" name="Group 98"/>
          <p:cNvGrpSpPr/>
          <p:nvPr/>
        </p:nvGrpSpPr>
        <p:grpSpPr>
          <a:xfrm>
            <a:off x="1186920" y="2133720"/>
            <a:ext cx="1676880" cy="2794320"/>
            <a:chOff x="1186920" y="2133720"/>
            <a:chExt cx="1676880" cy="2794320"/>
          </a:xfrm>
        </p:grpSpPr>
        <p:sp>
          <p:nvSpPr>
            <p:cNvPr id="336" name="Line 81"/>
            <p:cNvSpPr/>
            <p:nvPr/>
          </p:nvSpPr>
          <p:spPr>
            <a:xfrm flipV="1">
              <a:off x="1187280" y="2152440"/>
              <a:ext cx="527040" cy="275580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337" name="AutoShape 82"/>
            <p:cNvCxnSpPr>
              <a:stCxn id="336" idx="0"/>
            </p:cNvCxnSpPr>
            <p:nvPr/>
          </p:nvCxnSpPr>
          <p:spPr>
            <a:xfrm>
              <a:off x="1186920" y="4927320"/>
              <a:ext cx="1677240" cy="108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</a:ln>
          </p:spPr>
        </p:cxnSp>
        <p:cxnSp>
          <p:nvCxnSpPr>
            <p:cNvPr id="338" name="AutoShape 83"/>
            <p:cNvCxnSpPr>
              <a:stCxn id="336" idx="1"/>
            </p:cNvCxnSpPr>
            <p:nvPr/>
          </p:nvCxnSpPr>
          <p:spPr>
            <a:xfrm>
              <a:off x="1712520" y="2133720"/>
              <a:ext cx="1151640" cy="2788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339" name="Text Box 85"/>
          <p:cNvSpPr/>
          <p:nvPr/>
        </p:nvSpPr>
        <p:spPr>
          <a:xfrm>
            <a:off x="5076720" y="335772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0" name="Text Box 86"/>
          <p:cNvSpPr/>
          <p:nvPr/>
        </p:nvSpPr>
        <p:spPr>
          <a:xfrm>
            <a:off x="1187280" y="45086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1" name="Text Box 87"/>
          <p:cNvSpPr/>
          <p:nvPr/>
        </p:nvSpPr>
        <p:spPr>
          <a:xfrm>
            <a:off x="450216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2" name="Text Box 91"/>
          <p:cNvSpPr/>
          <p:nvPr/>
        </p:nvSpPr>
        <p:spPr>
          <a:xfrm>
            <a:off x="4284720" y="249228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3" name="Text Box 96"/>
          <p:cNvSpPr/>
          <p:nvPr/>
        </p:nvSpPr>
        <p:spPr>
          <a:xfrm>
            <a:off x="370944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2916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1258920" y="198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971640" y="486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1042920" y="3357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1763640" y="4941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49" name="Group 98"/>
          <p:cNvGrpSpPr/>
          <p:nvPr/>
        </p:nvGrpSpPr>
        <p:grpSpPr>
          <a:xfrm>
            <a:off x="3850920" y="2133720"/>
            <a:ext cx="1676880" cy="2794320"/>
            <a:chOff x="3850920" y="2133720"/>
            <a:chExt cx="1676880" cy="2794320"/>
          </a:xfrm>
        </p:grpSpPr>
        <p:sp>
          <p:nvSpPr>
            <p:cNvPr id="350" name="Line 81"/>
            <p:cNvSpPr/>
            <p:nvPr/>
          </p:nvSpPr>
          <p:spPr>
            <a:xfrm flipV="1">
              <a:off x="3851280" y="2152440"/>
              <a:ext cx="527040" cy="27558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351" name="AutoShape 82"/>
            <p:cNvCxnSpPr>
              <a:stCxn id="350" idx="0"/>
            </p:cNvCxnSpPr>
            <p:nvPr/>
          </p:nvCxnSpPr>
          <p:spPr>
            <a:xfrm>
              <a:off x="3850920" y="4927320"/>
              <a:ext cx="1677240" cy="108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  <p:cxnSp>
          <p:nvCxnSpPr>
            <p:cNvPr id="352" name="AutoShape 83"/>
            <p:cNvCxnSpPr>
              <a:stCxn id="350" idx="1"/>
            </p:cNvCxnSpPr>
            <p:nvPr/>
          </p:nvCxnSpPr>
          <p:spPr>
            <a:xfrm>
              <a:off x="4376520" y="2133720"/>
              <a:ext cx="1151640" cy="278856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</p:grpSp>
      <p:sp>
        <p:nvSpPr>
          <p:cNvPr id="353" name="Text Box 19"/>
          <p:cNvSpPr/>
          <p:nvPr/>
        </p:nvSpPr>
        <p:spPr>
          <a:xfrm>
            <a:off x="3492360" y="465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3924360" y="20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5580000" y="4581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6" name="Text Box 46"/>
          <p:cNvSpPr/>
          <p:nvPr/>
        </p:nvSpPr>
        <p:spPr>
          <a:xfrm>
            <a:off x="234252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7" name="Text Box 46"/>
          <p:cNvSpPr/>
          <p:nvPr/>
        </p:nvSpPr>
        <p:spPr>
          <a:xfrm>
            <a:off x="162252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8" name="Text Box 46"/>
          <p:cNvSpPr/>
          <p:nvPr/>
        </p:nvSpPr>
        <p:spPr>
          <a:xfrm>
            <a:off x="24138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9" name="Text Box 86"/>
          <p:cNvSpPr/>
          <p:nvPr/>
        </p:nvSpPr>
        <p:spPr>
          <a:xfrm>
            <a:off x="3924360" y="443700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918000" y="1268280"/>
            <a:ext cx="30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звестны 2 стороны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 угол  между ними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1" name="TextBox 34"/>
          <p:cNvSpPr/>
          <p:nvPr/>
        </p:nvSpPr>
        <p:spPr>
          <a:xfrm>
            <a:off x="2941560" y="187488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звестны 3 стороны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2" name="TextBox 34"/>
          <p:cNvSpPr/>
          <p:nvPr/>
        </p:nvSpPr>
        <p:spPr>
          <a:xfrm>
            <a:off x="5867280" y="1268280"/>
            <a:ext cx="31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звестны  сторона и  два угла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63" name="Group 98"/>
          <p:cNvGrpSpPr/>
          <p:nvPr/>
        </p:nvGrpSpPr>
        <p:grpSpPr>
          <a:xfrm>
            <a:off x="7020000" y="2205000"/>
            <a:ext cx="1676520" cy="2794320"/>
            <a:chOff x="7020000" y="2205000"/>
            <a:chExt cx="1676520" cy="2794320"/>
          </a:xfrm>
        </p:grpSpPr>
        <p:sp>
          <p:nvSpPr>
            <p:cNvPr id="364" name="Line 81"/>
            <p:cNvSpPr/>
            <p:nvPr/>
          </p:nvSpPr>
          <p:spPr>
            <a:xfrm flipV="1">
              <a:off x="7020000" y="2223720"/>
              <a:ext cx="526680" cy="275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365" name="AutoShape 82"/>
            <p:cNvCxnSpPr>
              <a:stCxn id="364" idx="0"/>
            </p:cNvCxnSpPr>
            <p:nvPr/>
          </p:nvCxnSpPr>
          <p:spPr>
            <a:xfrm>
              <a:off x="7020000" y="4998600"/>
              <a:ext cx="1676880" cy="108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  <p:cxnSp>
          <p:nvCxnSpPr>
            <p:cNvPr id="366" name="AutoShape 83"/>
            <p:cNvCxnSpPr>
              <a:stCxn id="364" idx="1"/>
            </p:cNvCxnSpPr>
            <p:nvPr/>
          </p:nvCxnSpPr>
          <p:spPr>
            <a:xfrm>
              <a:off x="7545240" y="2205000"/>
              <a:ext cx="1151280" cy="2788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367" name="Text Box 86"/>
          <p:cNvSpPr/>
          <p:nvPr/>
        </p:nvSpPr>
        <p:spPr>
          <a:xfrm>
            <a:off x="7093080" y="4508640"/>
            <a:ext cx="3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8196120" y="4545000"/>
                <a:ext cx="247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Text Box 19"/>
          <p:cNvSpPr/>
          <p:nvPr/>
        </p:nvSpPr>
        <p:spPr>
          <a:xfrm>
            <a:off x="6659640" y="486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7093080" y="21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8388360" y="508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2" name="Text Box 87"/>
          <p:cNvSpPr/>
          <p:nvPr/>
        </p:nvSpPr>
        <p:spPr>
          <a:xfrm>
            <a:off x="774252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3" name="Text Box 46"/>
          <p:cNvSpPr/>
          <p:nvPr/>
        </p:nvSpPr>
        <p:spPr>
          <a:xfrm>
            <a:off x="68781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4" name="Text Box 46"/>
          <p:cNvSpPr/>
          <p:nvPr/>
        </p:nvSpPr>
        <p:spPr>
          <a:xfrm>
            <a:off x="81036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WordArt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7832880" cy="109836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38">
            <a:hlinkClick r:id="" action="ppaction://hlinkshowjump?jump=nex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7" name="Text Box 39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78" name="Group 98"/>
          <p:cNvGrpSpPr/>
          <p:nvPr/>
        </p:nvGrpSpPr>
        <p:grpSpPr>
          <a:xfrm>
            <a:off x="1186920" y="2133720"/>
            <a:ext cx="1676880" cy="2794320"/>
            <a:chOff x="1186920" y="2133720"/>
            <a:chExt cx="1676880" cy="2794320"/>
          </a:xfrm>
        </p:grpSpPr>
        <p:sp>
          <p:nvSpPr>
            <p:cNvPr id="379" name="Line 81"/>
            <p:cNvSpPr/>
            <p:nvPr/>
          </p:nvSpPr>
          <p:spPr>
            <a:xfrm flipV="1">
              <a:off x="1187280" y="2152440"/>
              <a:ext cx="527040" cy="275580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380" name="AutoShape 82"/>
            <p:cNvCxnSpPr>
              <a:stCxn id="379" idx="0"/>
            </p:cNvCxnSpPr>
            <p:nvPr/>
          </p:nvCxnSpPr>
          <p:spPr>
            <a:xfrm>
              <a:off x="1186920" y="4927320"/>
              <a:ext cx="1677240" cy="108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</a:ln>
          </p:spPr>
        </p:cxnSp>
        <p:cxnSp>
          <p:nvCxnSpPr>
            <p:cNvPr id="381" name="AutoShape 83"/>
            <p:cNvCxnSpPr>
              <a:stCxn id="379" idx="1"/>
            </p:cNvCxnSpPr>
            <p:nvPr/>
          </p:nvCxnSpPr>
          <p:spPr>
            <a:xfrm>
              <a:off x="1712520" y="2133720"/>
              <a:ext cx="1151640" cy="2788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382" name="Text Box 86"/>
          <p:cNvSpPr/>
          <p:nvPr/>
        </p:nvSpPr>
        <p:spPr>
          <a:xfrm>
            <a:off x="1187280" y="45086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2916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4" name="Text Box 19"/>
          <p:cNvSpPr/>
          <p:nvPr/>
        </p:nvSpPr>
        <p:spPr>
          <a:xfrm>
            <a:off x="1258920" y="198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971640" y="486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1042920" y="3357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1763640" y="4941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234252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162252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0" name="Text Box 46"/>
          <p:cNvSpPr/>
          <p:nvPr/>
        </p:nvSpPr>
        <p:spPr>
          <a:xfrm>
            <a:off x="24138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Объект 9"/>
              <p:cNvSpPr txBox="1"/>
              <p:nvPr/>
            </p:nvSpPr>
            <p:spPr>
              <a:xfrm>
                <a:off x="4048200" y="2444760"/>
                <a:ext cx="3905280" cy="21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2" name="TextBox 1"/>
          <p:cNvSpPr/>
          <p:nvPr/>
        </p:nvSpPr>
        <p:spPr>
          <a:xfrm>
            <a:off x="1187280" y="126828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звестны 2 стороны и угол между ними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3" name="Прямоугольник 19"/>
          <p:cNvSpPr/>
          <p:nvPr/>
        </p:nvSpPr>
        <p:spPr>
          <a:xfrm>
            <a:off x="3333600" y="2255760"/>
            <a:ext cx="5256360" cy="70344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4" name="Прямоугольник 20"/>
          <p:cNvSpPr/>
          <p:nvPr/>
        </p:nvSpPr>
        <p:spPr>
          <a:xfrm>
            <a:off x="3386160" y="3141720"/>
            <a:ext cx="5262480" cy="80784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5" name="Прямоугольник 21"/>
          <p:cNvSpPr/>
          <p:nvPr/>
        </p:nvSpPr>
        <p:spPr>
          <a:xfrm>
            <a:off x="3392640" y="4094280"/>
            <a:ext cx="5256000" cy="70308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WordArt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7832880" cy="109836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38">
            <a:hlinkClick r:id="" action="ppaction://hlinkshowjump?jump=nex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9" name="Text Box 79"/>
          <p:cNvSpPr/>
          <p:nvPr/>
        </p:nvSpPr>
        <p:spPr>
          <a:xfrm>
            <a:off x="2627280" y="414972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0" name="Text Box 85"/>
          <p:cNvSpPr/>
          <p:nvPr/>
        </p:nvSpPr>
        <p:spPr>
          <a:xfrm>
            <a:off x="2771640" y="30686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1" name="Text Box 87"/>
          <p:cNvSpPr/>
          <p:nvPr/>
        </p:nvSpPr>
        <p:spPr>
          <a:xfrm>
            <a:off x="212580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2" name="Text Box 91"/>
          <p:cNvSpPr/>
          <p:nvPr/>
        </p:nvSpPr>
        <p:spPr>
          <a:xfrm>
            <a:off x="1908000" y="22766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3" name="Text Box 96"/>
          <p:cNvSpPr/>
          <p:nvPr/>
        </p:nvSpPr>
        <p:spPr>
          <a:xfrm>
            <a:off x="140472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04" name="Group 98"/>
          <p:cNvGrpSpPr/>
          <p:nvPr/>
        </p:nvGrpSpPr>
        <p:grpSpPr>
          <a:xfrm>
            <a:off x="1476000" y="1844640"/>
            <a:ext cx="1676880" cy="2794320"/>
            <a:chOff x="1476000" y="1844640"/>
            <a:chExt cx="1676880" cy="2794320"/>
          </a:xfrm>
        </p:grpSpPr>
        <p:sp>
          <p:nvSpPr>
            <p:cNvPr id="405" name="Line 81"/>
            <p:cNvSpPr/>
            <p:nvPr/>
          </p:nvSpPr>
          <p:spPr>
            <a:xfrm flipV="1">
              <a:off x="1476360" y="1863360"/>
              <a:ext cx="527040" cy="27558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406" name="AutoShape 82"/>
            <p:cNvCxnSpPr>
              <a:stCxn id="405" idx="0"/>
            </p:cNvCxnSpPr>
            <p:nvPr/>
          </p:nvCxnSpPr>
          <p:spPr>
            <a:xfrm>
              <a:off x="1476000" y="4638240"/>
              <a:ext cx="1677240" cy="108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  <p:cxnSp>
          <p:nvCxnSpPr>
            <p:cNvPr id="407" name="AutoShape 83"/>
            <p:cNvCxnSpPr>
              <a:stCxn id="405" idx="1"/>
            </p:cNvCxnSpPr>
            <p:nvPr/>
          </p:nvCxnSpPr>
          <p:spPr>
            <a:xfrm>
              <a:off x="2001600" y="1844640"/>
              <a:ext cx="1151640" cy="278856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</p:grpSp>
      <p:sp>
        <p:nvSpPr>
          <p:cNvPr id="408" name="Text Box 19"/>
          <p:cNvSpPr/>
          <p:nvPr/>
        </p:nvSpPr>
        <p:spPr>
          <a:xfrm>
            <a:off x="1187280" y="465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9" name="Text Box 19"/>
          <p:cNvSpPr/>
          <p:nvPr/>
        </p:nvSpPr>
        <p:spPr>
          <a:xfrm>
            <a:off x="1547640" y="148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3203640" y="465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1547640" y="414972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4235400" y="1955880"/>
                <a:ext cx="2976480" cy="29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TextBox 34"/>
          <p:cNvSpPr/>
          <p:nvPr/>
        </p:nvSpPr>
        <p:spPr>
          <a:xfrm>
            <a:off x="2771640" y="126828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звестны 3 стороны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4" name="Прямоугольник 19"/>
          <p:cNvSpPr/>
          <p:nvPr/>
        </p:nvSpPr>
        <p:spPr>
          <a:xfrm>
            <a:off x="3584520" y="1916280"/>
            <a:ext cx="5019840" cy="115236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5" name="Прямоугольник 20"/>
          <p:cNvSpPr/>
          <p:nvPr/>
        </p:nvSpPr>
        <p:spPr>
          <a:xfrm>
            <a:off x="3576600" y="3097080"/>
            <a:ext cx="5019840" cy="115272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6" name="Прямоугольник 21"/>
          <p:cNvSpPr/>
          <p:nvPr/>
        </p:nvSpPr>
        <p:spPr>
          <a:xfrm>
            <a:off x="3627360" y="4305240"/>
            <a:ext cx="5019840" cy="115272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WordArt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7832880" cy="109836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38">
            <a:hlinkClick r:id="" action="ppaction://hlinkshowjump?jump=nex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9" name="Text Box 39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0" name="TextBox 34"/>
          <p:cNvSpPr/>
          <p:nvPr/>
        </p:nvSpPr>
        <p:spPr>
          <a:xfrm>
            <a:off x="1835280" y="1268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звестны  сторона и  два угла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1" name="Text Box 86"/>
          <p:cNvSpPr/>
          <p:nvPr/>
        </p:nvSpPr>
        <p:spPr>
          <a:xfrm>
            <a:off x="2124000" y="458136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3373560" y="4689360"/>
                <a:ext cx="245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Объект 9"/>
              <p:cNvSpPr txBox="1"/>
              <p:nvPr/>
            </p:nvSpPr>
            <p:spPr>
              <a:xfrm>
                <a:off x="5724360" y="2060640"/>
                <a:ext cx="2455920" cy="39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С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4" name="Group 98"/>
          <p:cNvGrpSpPr/>
          <p:nvPr/>
        </p:nvGrpSpPr>
        <p:grpSpPr>
          <a:xfrm>
            <a:off x="1979280" y="2276640"/>
            <a:ext cx="1677240" cy="2733480"/>
            <a:chOff x="1979280" y="2276640"/>
            <a:chExt cx="1677240" cy="2733480"/>
          </a:xfrm>
        </p:grpSpPr>
        <p:sp>
          <p:nvSpPr>
            <p:cNvPr id="425" name="Line 81"/>
            <p:cNvSpPr/>
            <p:nvPr/>
          </p:nvSpPr>
          <p:spPr>
            <a:xfrm flipV="1">
              <a:off x="1979640" y="2276640"/>
              <a:ext cx="1322280" cy="27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426" name="AutoShape 82"/>
            <p:cNvCxnSpPr>
              <a:stCxn id="425" idx="0"/>
            </p:cNvCxnSpPr>
            <p:nvPr/>
          </p:nvCxnSpPr>
          <p:spPr>
            <a:xfrm>
              <a:off x="1979280" y="4990680"/>
              <a:ext cx="1677240" cy="1980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</a:ln>
          </p:spPr>
        </p:cxnSp>
        <p:cxnSp>
          <p:nvCxnSpPr>
            <p:cNvPr id="427" name="AutoShape 83"/>
            <p:cNvCxnSpPr/>
            <p:nvPr/>
          </p:nvCxnSpPr>
          <p:spPr>
            <a:xfrm>
              <a:off x="3301920" y="2347920"/>
              <a:ext cx="354960" cy="26568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428" name="Text Box 46"/>
          <p:cNvSpPr/>
          <p:nvPr/>
        </p:nvSpPr>
        <p:spPr>
          <a:xfrm>
            <a:off x="3494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9" name="Text Box 46"/>
          <p:cNvSpPr/>
          <p:nvPr/>
        </p:nvSpPr>
        <p:spPr>
          <a:xfrm>
            <a:off x="306180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0" name="Text Box 46"/>
          <p:cNvSpPr/>
          <p:nvPr/>
        </p:nvSpPr>
        <p:spPr>
          <a:xfrm>
            <a:off x="219816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1" name="TextBox 49"/>
          <p:cNvSpPr/>
          <p:nvPr/>
        </p:nvSpPr>
        <p:spPr>
          <a:xfrm>
            <a:off x="162288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2" name="TextBox 50"/>
          <p:cNvSpPr/>
          <p:nvPr/>
        </p:nvSpPr>
        <p:spPr>
          <a:xfrm>
            <a:off x="284688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3" name="TextBox 51"/>
          <p:cNvSpPr/>
          <p:nvPr/>
        </p:nvSpPr>
        <p:spPr>
          <a:xfrm>
            <a:off x="3710880" y="47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4" name="TextBox 52"/>
          <p:cNvSpPr/>
          <p:nvPr/>
        </p:nvSpPr>
        <p:spPr>
          <a:xfrm>
            <a:off x="2702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5" name="Прямоугольник 19"/>
          <p:cNvSpPr/>
          <p:nvPr/>
        </p:nvSpPr>
        <p:spPr>
          <a:xfrm>
            <a:off x="4140360" y="2060640"/>
            <a:ext cx="4535280" cy="122400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6" name="Прямоугольник 20"/>
          <p:cNvSpPr/>
          <p:nvPr/>
        </p:nvSpPr>
        <p:spPr>
          <a:xfrm>
            <a:off x="4140360" y="3332160"/>
            <a:ext cx="4535280" cy="88884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7" name="Прямоугольник 21"/>
          <p:cNvSpPr/>
          <p:nvPr/>
        </p:nvSpPr>
        <p:spPr>
          <a:xfrm>
            <a:off x="4140360" y="4251240"/>
            <a:ext cx="4535280" cy="78732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8" name="Прямоугольник 22"/>
          <p:cNvSpPr/>
          <p:nvPr/>
        </p:nvSpPr>
        <p:spPr>
          <a:xfrm>
            <a:off x="4140360" y="5038560"/>
            <a:ext cx="4535280" cy="1224000"/>
          </a:xfrm>
          <a:prstGeom prst="rect">
            <a:avLst/>
          </a:prstGeom>
          <a:solidFill>
            <a:srgbClr val="f3c49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WordArt 2" descr=""/>
          <p:cNvPicPr/>
          <p:nvPr/>
        </p:nvPicPr>
        <p:blipFill>
          <a:blip r:embed="rId1"/>
          <a:stretch/>
        </p:blipFill>
        <p:spPr>
          <a:xfrm>
            <a:off x="1584360" y="596880"/>
            <a:ext cx="6688080" cy="969840"/>
          </a:xfrm>
          <a:prstGeom prst="rect">
            <a:avLst/>
          </a:prstGeom>
          <a:ln w="0">
            <a:noFill/>
          </a:ln>
        </p:spPr>
      </p:pic>
      <p:sp>
        <p:nvSpPr>
          <p:cNvPr id="440" name="TextBox 7"/>
          <p:cNvSpPr/>
          <p:nvPr/>
        </p:nvSpPr>
        <p:spPr>
          <a:xfrm>
            <a:off x="3274200" y="1844640"/>
            <a:ext cx="284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ь треугольник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403280" y="2895480"/>
          <a:ext cx="5937480" cy="305460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9240"/>
                <a:gridCol w="847800"/>
                <a:gridCol w="847800"/>
                <a:gridCol w="849240"/>
                <a:gridCol w="847800"/>
              </a:tblGrid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°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°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°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086a5"/>
                      </a:solidFill>
                    </a:lnL>
                    <a:lnR w="5760">
                      <a:solidFill>
                        <a:srgbClr val="3086a5"/>
                      </a:solidFill>
                    </a:lnR>
                    <a:lnT w="5760">
                      <a:solidFill>
                        <a:srgbClr val="3086a5"/>
                      </a:solidFill>
                    </a:lnT>
                    <a:lnB w="5760">
                      <a:solidFill>
                        <a:srgbClr val="3086a5"/>
                      </a:solidFill>
                    </a:lnB>
                    <a:solidFill>
                      <a:srgbClr val="e8edf0"/>
                    </a:solidFill>
                  </a:tcPr>
                </a:tc>
              </a:tr>
            </a:tbl>
          </a:graphicData>
        </a:graphic>
      </p:graphicFrame>
      <p:pic>
        <p:nvPicPr>
          <p:cNvPr id="442" name="приложение 2.mp3" descr=""/>
          <p:cNvPicPr/>
          <p:nvPr/>
        </p:nvPicPr>
        <p:blipFill>
          <a:blip r:embed="rId2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311177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64"/>
          <p:cNvGrpSpPr/>
          <p:nvPr/>
        </p:nvGrpSpPr>
        <p:grpSpPr>
          <a:xfrm>
            <a:off x="3110760" y="3084480"/>
            <a:ext cx="426600" cy="334800"/>
            <a:chOff x="3110760" y="3084480"/>
            <a:chExt cx="426600" cy="334800"/>
          </a:xfrm>
        </p:grpSpPr>
        <p:sp>
          <p:nvSpPr>
            <p:cNvPr id="444" name="Arc 47"/>
            <p:cNvSpPr/>
            <p:nvPr/>
          </p:nvSpPr>
          <p:spPr>
            <a:xfrm rot="15019800">
              <a:off x="3276000" y="3130560"/>
              <a:ext cx="171360" cy="311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600" h="27535">
                  <a:moveTo>
                    <a:pt x="5832" y="0"/>
                  </a:moveTo>
                  <a:cubicBezTo>
                    <a:pt x="15156" y="2615"/>
                    <a:pt x="21600" y="11115"/>
                    <a:pt x="21600" y="20798"/>
                  </a:cubicBezTo>
                  <a:cubicBezTo>
                    <a:pt x="21600" y="23086"/>
                    <a:pt x="21236" y="25360"/>
                    <a:pt x="20522" y="27535"/>
                  </a:cubicBezTo>
                </a:path>
                <a:path stroke="0" w="21600" h="27535">
                  <a:moveTo>
                    <a:pt x="5832" y="0"/>
                  </a:moveTo>
                  <a:cubicBezTo>
                    <a:pt x="15156" y="2615"/>
                    <a:pt x="21600" y="11115"/>
                    <a:pt x="21600" y="20798"/>
                  </a:cubicBezTo>
                  <a:cubicBezTo>
                    <a:pt x="21600" y="23086"/>
                    <a:pt x="21236" y="25360"/>
                    <a:pt x="20522" y="27535"/>
                  </a:cubicBezTo>
                  <a:lnTo>
                    <a:pt x="0" y="20798"/>
                  </a:lnTo>
                  <a:lnTo>
                    <a:pt x="5832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445" name="Arc 61"/>
            <p:cNvSpPr/>
            <p:nvPr/>
          </p:nvSpPr>
          <p:spPr>
            <a:xfrm rot="15019800">
              <a:off x="3222000" y="3050640"/>
              <a:ext cx="189000" cy="36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fill="none" w="23723" h="32952">
                  <a:moveTo>
                    <a:pt x="-1" y="104"/>
                  </a:moveTo>
                  <a:cubicBezTo>
                    <a:pt x="705" y="34"/>
                    <a:pt x="1414" y="-1"/>
                    <a:pt x="2123" y="0"/>
                  </a:cubicBezTo>
                  <a:cubicBezTo>
                    <a:pt x="14052" y="0"/>
                    <a:pt x="23723" y="9670"/>
                    <a:pt x="23723" y="21600"/>
                  </a:cubicBezTo>
                  <a:cubicBezTo>
                    <a:pt x="23723" y="25609"/>
                    <a:pt x="22606" y="29540"/>
                    <a:pt x="20499" y="32952"/>
                  </a:cubicBezTo>
                </a:path>
                <a:path stroke="0" w="23723" h="32952">
                  <a:moveTo>
                    <a:pt x="-1" y="104"/>
                  </a:moveTo>
                  <a:cubicBezTo>
                    <a:pt x="705" y="34"/>
                    <a:pt x="1414" y="-1"/>
                    <a:pt x="2123" y="0"/>
                  </a:cubicBezTo>
                  <a:cubicBezTo>
                    <a:pt x="14052" y="0"/>
                    <a:pt x="23723" y="9670"/>
                    <a:pt x="23723" y="21600"/>
                  </a:cubicBezTo>
                  <a:cubicBezTo>
                    <a:pt x="23723" y="25609"/>
                    <a:pt x="22606" y="29540"/>
                    <a:pt x="20499" y="32952"/>
                  </a:cubicBezTo>
                  <a:lnTo>
                    <a:pt x="2123" y="21600"/>
                  </a:lnTo>
                  <a:lnTo>
                    <a:pt x="-1" y="104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446" name="Group 50"/>
          <p:cNvGrpSpPr/>
          <p:nvPr/>
        </p:nvGrpSpPr>
        <p:grpSpPr>
          <a:xfrm>
            <a:off x="2548800" y="1551960"/>
            <a:ext cx="533520" cy="688680"/>
            <a:chOff x="2548800" y="1551960"/>
            <a:chExt cx="533520" cy="688680"/>
          </a:xfrm>
        </p:grpSpPr>
        <p:sp>
          <p:nvSpPr>
            <p:cNvPr id="447" name="Arc 51"/>
            <p:cNvSpPr/>
            <p:nvPr/>
          </p:nvSpPr>
          <p:spPr>
            <a:xfrm rot="8457600">
              <a:off x="2640960" y="1851120"/>
              <a:ext cx="381240" cy="3031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21600" h="21524">
                  <a:moveTo>
                    <a:pt x="1807" y="-1"/>
                  </a:moveTo>
                  <a:cubicBezTo>
                    <a:pt x="12996" y="939"/>
                    <a:pt x="21600" y="10295"/>
                    <a:pt x="21600" y="21524"/>
                  </a:cubicBezTo>
                </a:path>
                <a:path stroke="0" w="21600" h="21524">
                  <a:moveTo>
                    <a:pt x="1807" y="-1"/>
                  </a:moveTo>
                  <a:cubicBezTo>
                    <a:pt x="12996" y="939"/>
                    <a:pt x="21600" y="10295"/>
                    <a:pt x="21600" y="21524"/>
                  </a:cubicBezTo>
                  <a:lnTo>
                    <a:pt x="0" y="21524"/>
                  </a:lnTo>
                  <a:lnTo>
                    <a:pt x="1807" y="-1"/>
                  </a:lnTo>
                  <a:close/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448" name="Arc 52"/>
            <p:cNvSpPr/>
            <p:nvPr/>
          </p:nvSpPr>
          <p:spPr>
            <a:xfrm rot="8457600">
              <a:off x="2626560" y="1628280"/>
              <a:ext cx="377640" cy="38124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fill="none" w="19163" h="20432">
                  <a:moveTo>
                    <a:pt x="7006" y="0"/>
                  </a:moveTo>
                  <a:cubicBezTo>
                    <a:pt x="12251" y="1798"/>
                    <a:pt x="16603" y="5545"/>
                    <a:pt x="19162" y="10464"/>
                  </a:cubicBezTo>
                </a:path>
                <a:path stroke="0" w="19163" h="20432">
                  <a:moveTo>
                    <a:pt x="7006" y="0"/>
                  </a:moveTo>
                  <a:cubicBezTo>
                    <a:pt x="12251" y="1798"/>
                    <a:pt x="16603" y="5545"/>
                    <a:pt x="19162" y="10464"/>
                  </a:cubicBezTo>
                  <a:lnTo>
                    <a:pt x="0" y="20432"/>
                  </a:lnTo>
                  <a:lnTo>
                    <a:pt x="7006" y="0"/>
                  </a:lnTo>
                  <a:close/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449" name="Arc 53"/>
            <p:cNvSpPr/>
            <p:nvPr/>
          </p:nvSpPr>
          <p:spPr>
            <a:xfrm rot="8457600">
              <a:off x="2643120" y="1775880"/>
              <a:ext cx="366480" cy="30024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fill="none" w="20786" h="21221">
                  <a:moveTo>
                    <a:pt x="4028" y="-1"/>
                  </a:moveTo>
                  <a:cubicBezTo>
                    <a:pt x="12071" y="1526"/>
                    <a:pt x="18560" y="7469"/>
                    <a:pt x="20786" y="15347"/>
                  </a:cubicBezTo>
                </a:path>
                <a:path stroke="0" w="20786" h="21221">
                  <a:moveTo>
                    <a:pt x="4028" y="-1"/>
                  </a:moveTo>
                  <a:cubicBezTo>
                    <a:pt x="12071" y="1526"/>
                    <a:pt x="18560" y="7469"/>
                    <a:pt x="20786" y="15347"/>
                  </a:cubicBezTo>
                  <a:lnTo>
                    <a:pt x="0" y="21221"/>
                  </a:lnTo>
                  <a:lnTo>
                    <a:pt x="4028" y="-1"/>
                  </a:lnTo>
                  <a:close/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450" name="Arc 37"/>
          <p:cNvSpPr/>
          <p:nvPr/>
        </p:nvSpPr>
        <p:spPr>
          <a:xfrm>
            <a:off x="1332000" y="3068640"/>
            <a:ext cx="228600" cy="303120"/>
          </a:xfrm>
          <a:custGeom>
            <a:avLst/>
            <a:gdLst>
              <a:gd name="textAreaLeft" fmla="*/ 0 w 228600"/>
              <a:gd name="textAreaRight" fmla="*/ 228960 w 2286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21600" h="2858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976"/>
                  <a:pt x="21207" y="26336"/>
                  <a:pt x="20439" y="28585"/>
                </a:cubicBezTo>
              </a:path>
              <a:path stroke="0" w="21600" h="2858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976"/>
                  <a:pt x="21207" y="26336"/>
                  <a:pt x="20439" y="2858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1" name="Text Box 57"/>
          <p:cNvSpPr/>
          <p:nvPr/>
        </p:nvSpPr>
        <p:spPr>
          <a:xfrm>
            <a:off x="1042920" y="5229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n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 / sin 75°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,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0,966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,6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52" name="WordArt 4" descr=""/>
          <p:cNvPicPr/>
          <p:nvPr/>
        </p:nvPicPr>
        <p:blipFill>
          <a:blip r:embed="rId1"/>
          <a:stretch/>
        </p:blipFill>
        <p:spPr>
          <a:xfrm>
            <a:off x="2041560" y="212760"/>
            <a:ext cx="5389560" cy="9698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745720" y="11430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задач - пример № 1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7812000" y="1844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ано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7524720" y="364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йти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3995640" y="1773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7696080" y="22766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 см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116000" y="5661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; 17,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14,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7924680" y="4005360"/>
            <a:ext cx="121932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?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?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?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3492360" y="22766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 - (β +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3419640" y="278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 -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)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3564000" y="3933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 / sin γ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63" name="Group 63"/>
          <p:cNvGrpSpPr/>
          <p:nvPr/>
        </p:nvGrpSpPr>
        <p:grpSpPr>
          <a:xfrm>
            <a:off x="899640" y="1699920"/>
            <a:ext cx="2667600" cy="1695960"/>
            <a:chOff x="899640" y="1699920"/>
            <a:chExt cx="2667600" cy="1695960"/>
          </a:xfrm>
        </p:grpSpPr>
        <p:sp>
          <p:nvSpPr>
            <p:cNvPr id="464" name="Line 34"/>
            <p:cNvSpPr/>
            <p:nvPr/>
          </p:nvSpPr>
          <p:spPr>
            <a:xfrm flipV="1">
              <a:off x="900000" y="1719360"/>
              <a:ext cx="198144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465" name="AutoShape 35"/>
            <p:cNvCxnSpPr/>
            <p:nvPr/>
          </p:nvCxnSpPr>
          <p:spPr>
            <a:xfrm>
              <a:off x="899640" y="3395160"/>
              <a:ext cx="26679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466" name="AutoShape 36"/>
            <p:cNvCxnSpPr>
              <a:stCxn id="464" idx="0"/>
            </p:cNvCxnSpPr>
            <p:nvPr/>
          </p:nvCxnSpPr>
          <p:spPr>
            <a:xfrm>
              <a:off x="2879640" y="1699920"/>
              <a:ext cx="687960" cy="169596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</p:grpSp>
      <p:sp>
        <p:nvSpPr>
          <p:cNvPr id="467" name="Text Box 38"/>
          <p:cNvSpPr/>
          <p:nvPr/>
        </p:nvSpPr>
        <p:spPr>
          <a:xfrm>
            <a:off x="2195640" y="3357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8" name="Text Box 40"/>
          <p:cNvSpPr/>
          <p:nvPr/>
        </p:nvSpPr>
        <p:spPr>
          <a:xfrm>
            <a:off x="2484360" y="1341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9" name="Text Box 48"/>
          <p:cNvSpPr/>
          <p:nvPr/>
        </p:nvSpPr>
        <p:spPr>
          <a:xfrm>
            <a:off x="298764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0" name="Text Box 49"/>
          <p:cNvSpPr/>
          <p:nvPr/>
        </p:nvSpPr>
        <p:spPr>
          <a:xfrm>
            <a:off x="97164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1" name="Text Box 55"/>
          <p:cNvSpPr/>
          <p:nvPr/>
        </p:nvSpPr>
        <p:spPr>
          <a:xfrm>
            <a:off x="1042920" y="4365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 / si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°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0,966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,9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2" name="Text Box 56"/>
          <p:cNvSpPr/>
          <p:nvPr/>
        </p:nvSpPr>
        <p:spPr>
          <a:xfrm>
            <a:off x="1042920" y="4797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n γ / sin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3" name="Text Box 59"/>
          <p:cNvSpPr/>
          <p:nvPr/>
        </p:nvSpPr>
        <p:spPr>
          <a:xfrm>
            <a:off x="3489840" y="335772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/ sin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4" name="Rectangle 65"/>
          <p:cNvSpPr/>
          <p:nvPr/>
        </p:nvSpPr>
        <p:spPr>
          <a:xfrm>
            <a:off x="7620120" y="270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°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5" name="Rectangle 66"/>
          <p:cNvSpPr/>
          <p:nvPr/>
        </p:nvSpPr>
        <p:spPr>
          <a:xfrm>
            <a:off x="7595640" y="3213000"/>
            <a:ext cx="12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6" name="Text Box 38"/>
          <p:cNvSpPr/>
          <p:nvPr/>
        </p:nvSpPr>
        <p:spPr>
          <a:xfrm>
            <a:off x="1692360" y="1916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7" name="Text Box 38"/>
          <p:cNvSpPr/>
          <p:nvPr/>
        </p:nvSpPr>
        <p:spPr>
          <a:xfrm rot="4363800">
            <a:off x="2982960" y="21308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 см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2771640" y="2781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9" name="Прямоугольник 44"/>
          <p:cNvSpPr/>
          <p:nvPr/>
        </p:nvSpPr>
        <p:spPr>
          <a:xfrm>
            <a:off x="1405800" y="29242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°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0" name="Прямоугольник 45"/>
          <p:cNvSpPr/>
          <p:nvPr/>
        </p:nvSpPr>
        <p:spPr>
          <a:xfrm>
            <a:off x="2486160" y="21337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rc 40"/>
          <p:cNvSpPr/>
          <p:nvPr/>
        </p:nvSpPr>
        <p:spPr>
          <a:xfrm flipH="1">
            <a:off x="2770920" y="2781360"/>
            <a:ext cx="287640" cy="392040"/>
          </a:xfrm>
          <a:custGeom>
            <a:avLst/>
            <a:gdLst>
              <a:gd name="textAreaLeft" fmla="*/ -360 w 287640"/>
              <a:gd name="textAreaRight" fmla="*/ 287640 w 2876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fill="none" w="21600" h="2861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985"/>
                  <a:pt x="21204" y="26355"/>
                  <a:pt x="20430" y="28612"/>
                </a:cubicBezTo>
              </a:path>
              <a:path stroke="0" w="21600" h="2861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985"/>
                  <a:pt x="21204" y="26355"/>
                  <a:pt x="20430" y="2861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82" name="Group 51"/>
          <p:cNvGrpSpPr/>
          <p:nvPr/>
        </p:nvGrpSpPr>
        <p:grpSpPr>
          <a:xfrm>
            <a:off x="1137960" y="2868120"/>
            <a:ext cx="317160" cy="536760"/>
            <a:chOff x="1137960" y="2868120"/>
            <a:chExt cx="317160" cy="536760"/>
          </a:xfrm>
        </p:grpSpPr>
        <p:sp>
          <p:nvSpPr>
            <p:cNvPr id="483" name="Arc 52"/>
            <p:cNvSpPr/>
            <p:nvPr/>
          </p:nvSpPr>
          <p:spPr>
            <a:xfrm flipH="1" flipV="1" rot="8457600">
              <a:off x="1258200" y="2853000"/>
              <a:ext cx="70560" cy="3322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-360 h 332280"/>
                <a:gd name="textAreaBottom" fmla="*/ 332280 h 332280"/>
              </a:gdLst>
              <a:ahLst/>
              <a:rect l="textAreaLeft" t="textAreaTop" r="textAreaRight" b="textAreaBottom"/>
              <a:pathLst>
                <a:path fill="none" w="21600" h="21524">
                  <a:moveTo>
                    <a:pt x="1807" y="-1"/>
                  </a:moveTo>
                  <a:cubicBezTo>
                    <a:pt x="12996" y="939"/>
                    <a:pt x="21600" y="10295"/>
                    <a:pt x="21600" y="21524"/>
                  </a:cubicBezTo>
                </a:path>
                <a:path stroke="0" w="21600" h="21524">
                  <a:moveTo>
                    <a:pt x="1807" y="-1"/>
                  </a:moveTo>
                  <a:cubicBezTo>
                    <a:pt x="12996" y="939"/>
                    <a:pt x="21600" y="10295"/>
                    <a:pt x="21600" y="21524"/>
                  </a:cubicBezTo>
                  <a:lnTo>
                    <a:pt x="0" y="21524"/>
                  </a:lnTo>
                  <a:lnTo>
                    <a:pt x="1807" y="-1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484" name="Arc 53"/>
            <p:cNvSpPr/>
            <p:nvPr/>
          </p:nvSpPr>
          <p:spPr>
            <a:xfrm flipH="1" flipV="1" rot="8457600">
              <a:off x="1261080" y="3010680"/>
              <a:ext cx="69840" cy="417960"/>
            </a:xfrm>
            <a:custGeom>
              <a:avLst/>
              <a:gdLst>
                <a:gd name="textAreaLeft" fmla="*/ 360 w 69840"/>
                <a:gd name="textAreaRight" fmla="*/ 70560 w 69840"/>
                <a:gd name="textAreaTop" fmla="*/ -360 h 417960"/>
                <a:gd name="textAreaBottom" fmla="*/ 417960 h 417960"/>
              </a:gdLst>
              <a:ahLst/>
              <a:rect l="textAreaLeft" t="textAreaTop" r="textAreaRight" b="textAreaBottom"/>
              <a:pathLst>
                <a:path fill="none" w="19163" h="20432">
                  <a:moveTo>
                    <a:pt x="7006" y="0"/>
                  </a:moveTo>
                  <a:cubicBezTo>
                    <a:pt x="12251" y="1798"/>
                    <a:pt x="16603" y="5545"/>
                    <a:pt x="19162" y="10464"/>
                  </a:cubicBezTo>
                </a:path>
                <a:path stroke="0" w="19163" h="20432">
                  <a:moveTo>
                    <a:pt x="7006" y="0"/>
                  </a:moveTo>
                  <a:cubicBezTo>
                    <a:pt x="12251" y="1798"/>
                    <a:pt x="16603" y="5545"/>
                    <a:pt x="19162" y="10464"/>
                  </a:cubicBezTo>
                  <a:lnTo>
                    <a:pt x="0" y="20432"/>
                  </a:lnTo>
                  <a:lnTo>
                    <a:pt x="7006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485" name="Arc 54"/>
            <p:cNvSpPr/>
            <p:nvPr/>
          </p:nvSpPr>
          <p:spPr>
            <a:xfrm flipH="1" flipV="1" rot="8457600">
              <a:off x="1260360" y="2937960"/>
              <a:ext cx="67680" cy="328680"/>
            </a:xfrm>
            <a:custGeom>
              <a:avLst/>
              <a:gdLst>
                <a:gd name="textAreaLeft" fmla="*/ 360 w 67680"/>
                <a:gd name="textAreaRight" fmla="*/ 68400 w 67680"/>
                <a:gd name="textAreaTop" fmla="*/ -36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fill="none" w="20786" h="21221">
                  <a:moveTo>
                    <a:pt x="4028" y="-1"/>
                  </a:moveTo>
                  <a:cubicBezTo>
                    <a:pt x="12071" y="1526"/>
                    <a:pt x="18560" y="7469"/>
                    <a:pt x="20786" y="15347"/>
                  </a:cubicBezTo>
                </a:path>
                <a:path stroke="0" w="20786" h="21221">
                  <a:moveTo>
                    <a:pt x="4028" y="-1"/>
                  </a:moveTo>
                  <a:cubicBezTo>
                    <a:pt x="12071" y="1526"/>
                    <a:pt x="18560" y="7469"/>
                    <a:pt x="20786" y="15347"/>
                  </a:cubicBezTo>
                  <a:lnTo>
                    <a:pt x="0" y="21221"/>
                  </a:lnTo>
                  <a:lnTo>
                    <a:pt x="4028" y="-1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486" name="Group 68"/>
          <p:cNvGrpSpPr/>
          <p:nvPr/>
        </p:nvGrpSpPr>
        <p:grpSpPr>
          <a:xfrm>
            <a:off x="1710000" y="1858680"/>
            <a:ext cx="310320" cy="326520"/>
            <a:chOff x="1710000" y="1858680"/>
            <a:chExt cx="310320" cy="326520"/>
          </a:xfrm>
        </p:grpSpPr>
        <p:sp>
          <p:nvSpPr>
            <p:cNvPr id="487" name="Arc 47"/>
            <p:cNvSpPr/>
            <p:nvPr/>
          </p:nvSpPr>
          <p:spPr>
            <a:xfrm rot="7231200">
              <a:off x="1787040" y="1915560"/>
              <a:ext cx="155520" cy="26856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fill="none" w="21600" h="3085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800"/>
                    <a:pt x="20888" y="27960"/>
                    <a:pt x="19518" y="30852"/>
                  </a:cubicBezTo>
                </a:path>
                <a:path stroke="0" w="21600" h="3085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800"/>
                    <a:pt x="20888" y="27960"/>
                    <a:pt x="19518" y="3085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488" name="Arc 48"/>
            <p:cNvSpPr/>
            <p:nvPr/>
          </p:nvSpPr>
          <p:spPr>
            <a:xfrm rot="7231200">
              <a:off x="1774800" y="1866240"/>
              <a:ext cx="150840" cy="2318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fill="none" w="31653" h="26706">
                  <a:moveTo>
                    <a:pt x="0" y="2482"/>
                  </a:moveTo>
                  <a:cubicBezTo>
                    <a:pt x="3100" y="851"/>
                    <a:pt x="6550" y="-1"/>
                    <a:pt x="10053" y="0"/>
                  </a:cubicBezTo>
                  <a:cubicBezTo>
                    <a:pt x="21982" y="0"/>
                    <a:pt x="31653" y="9670"/>
                    <a:pt x="31653" y="21600"/>
                  </a:cubicBezTo>
                  <a:cubicBezTo>
                    <a:pt x="31653" y="23320"/>
                    <a:pt x="31447" y="25034"/>
                    <a:pt x="31040" y="26705"/>
                  </a:cubicBezTo>
                </a:path>
                <a:path stroke="0" w="31653" h="26706">
                  <a:moveTo>
                    <a:pt x="0" y="2482"/>
                  </a:moveTo>
                  <a:cubicBezTo>
                    <a:pt x="3100" y="851"/>
                    <a:pt x="6550" y="-1"/>
                    <a:pt x="10053" y="0"/>
                  </a:cubicBezTo>
                  <a:cubicBezTo>
                    <a:pt x="21982" y="0"/>
                    <a:pt x="31653" y="9670"/>
                    <a:pt x="31653" y="21600"/>
                  </a:cubicBezTo>
                  <a:cubicBezTo>
                    <a:pt x="31653" y="23320"/>
                    <a:pt x="31447" y="25034"/>
                    <a:pt x="31040" y="26705"/>
                  </a:cubicBezTo>
                  <a:lnTo>
                    <a:pt x="10053" y="21600"/>
                  </a:lnTo>
                  <a:lnTo>
                    <a:pt x="0" y="2482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489" name="Text Box 50"/>
          <p:cNvSpPr/>
          <p:nvPr/>
        </p:nvSpPr>
        <p:spPr>
          <a:xfrm>
            <a:off x="3492360" y="278136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90" name="WordArt 5" descr=""/>
          <p:cNvPicPr/>
          <p:nvPr/>
        </p:nvPicPr>
        <p:blipFill>
          <a:blip r:embed="rId1"/>
          <a:stretch/>
        </p:blipFill>
        <p:spPr>
          <a:xfrm>
            <a:off x="2120760" y="212760"/>
            <a:ext cx="5389560" cy="9698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6"/>
          <p:cNvSpPr/>
          <p:nvPr/>
        </p:nvSpPr>
        <p:spPr>
          <a:xfrm>
            <a:off x="2669400" y="11430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задач - пример № 2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7812000" y="1557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ано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7848720" y="3141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йти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4427640" y="1557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1116000" y="5877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°; 11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6" name="Text Box 27"/>
          <p:cNvSpPr/>
          <p:nvPr/>
        </p:nvSpPr>
        <p:spPr>
          <a:xfrm>
            <a:off x="1116000" y="3860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b ² + c ² - a ²) /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7" name="Text Box 28"/>
          <p:cNvSpPr/>
          <p:nvPr/>
        </p:nvSpPr>
        <p:spPr>
          <a:xfrm>
            <a:off x="1116000" y="4365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529 + 784 – 49) /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,981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8" name="Text Box 29"/>
          <p:cNvSpPr/>
          <p:nvPr/>
        </p:nvSpPr>
        <p:spPr>
          <a:xfrm>
            <a:off x="1116000" y="4869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9" name="Text Box 35"/>
          <p:cNvSpPr/>
          <p:nvPr/>
        </p:nvSpPr>
        <p:spPr>
          <a:xfrm>
            <a:off x="7812000" y="1916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7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00" name="Group 64"/>
          <p:cNvGrpSpPr/>
          <p:nvPr/>
        </p:nvGrpSpPr>
        <p:grpSpPr>
          <a:xfrm>
            <a:off x="1042920" y="1773000"/>
            <a:ext cx="2438640" cy="1410120"/>
            <a:chOff x="1042920" y="1773000"/>
            <a:chExt cx="2438640" cy="1410120"/>
          </a:xfrm>
        </p:grpSpPr>
        <p:sp>
          <p:nvSpPr>
            <p:cNvPr id="501" name="Line 37"/>
            <p:cNvSpPr/>
            <p:nvPr/>
          </p:nvSpPr>
          <p:spPr>
            <a:xfrm flipV="1">
              <a:off x="1042920" y="1788840"/>
              <a:ext cx="766440" cy="137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502" name="AutoShape 38"/>
            <p:cNvCxnSpPr>
              <a:stCxn id="501" idx="0"/>
            </p:cNvCxnSpPr>
            <p:nvPr/>
          </p:nvCxnSpPr>
          <p:spPr>
            <a:xfrm>
              <a:off x="1042920" y="3182400"/>
              <a:ext cx="2439000" cy="108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  <p:cxnSp>
          <p:nvCxnSpPr>
            <p:cNvPr id="503" name="AutoShape 39"/>
            <p:cNvCxnSpPr>
              <a:stCxn id="501" idx="1"/>
            </p:cNvCxnSpPr>
            <p:nvPr/>
          </p:nvCxnSpPr>
          <p:spPr>
            <a:xfrm>
              <a:off x="1807200" y="1773000"/>
              <a:ext cx="1674360" cy="139428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</a:ln>
          </p:spPr>
        </p:cxnSp>
      </p:grpSp>
      <p:sp>
        <p:nvSpPr>
          <p:cNvPr id="504" name="Text Box 41"/>
          <p:cNvSpPr/>
          <p:nvPr/>
        </p:nvSpPr>
        <p:spPr>
          <a:xfrm>
            <a:off x="262728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 м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1403280" y="141300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6" name="Text Box 45"/>
          <p:cNvSpPr/>
          <p:nvPr/>
        </p:nvSpPr>
        <p:spPr>
          <a:xfrm>
            <a:off x="1911600" y="3141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 м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90288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8" name="Text Box 56"/>
          <p:cNvSpPr/>
          <p:nvPr/>
        </p:nvSpPr>
        <p:spPr>
          <a:xfrm>
            <a:off x="7620120" y="3500280"/>
            <a:ext cx="1523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?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?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- ?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9" name="Text Box 57"/>
          <p:cNvSpPr/>
          <p:nvPr/>
        </p:nvSpPr>
        <p:spPr>
          <a:xfrm>
            <a:off x="1042920" y="53737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 =180° -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) = 180° - (11° + 130°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9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10" name="Group 67"/>
          <p:cNvGrpSpPr/>
          <p:nvPr/>
        </p:nvGrpSpPr>
        <p:grpSpPr>
          <a:xfrm>
            <a:off x="3635280" y="2205000"/>
            <a:ext cx="4190760" cy="459720"/>
            <a:chOff x="3635280" y="2205000"/>
            <a:chExt cx="4190760" cy="459720"/>
          </a:xfrm>
        </p:grpSpPr>
        <p:sp>
          <p:nvSpPr>
            <p:cNvPr id="511" name="Text Box 25"/>
            <p:cNvSpPr/>
            <p:nvPr/>
          </p:nvSpPr>
          <p:spPr>
            <a:xfrm>
              <a:off x="3635280" y="2205000"/>
              <a:ext cx="41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 + b ² - 2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12" name="Line 58"/>
            <p:cNvSpPr/>
            <p:nvPr/>
          </p:nvSpPr>
          <p:spPr>
            <a:xfrm>
              <a:off x="4397040" y="228132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13" name="Group 66"/>
          <p:cNvGrpSpPr/>
          <p:nvPr/>
        </p:nvGrpSpPr>
        <p:grpSpPr>
          <a:xfrm>
            <a:off x="1187280" y="3357720"/>
            <a:ext cx="5790960" cy="459720"/>
            <a:chOff x="1187280" y="3357720"/>
            <a:chExt cx="5790960" cy="459720"/>
          </a:xfrm>
        </p:grpSpPr>
        <p:sp>
          <p:nvSpPr>
            <p:cNvPr id="514" name="Text Box 26"/>
            <p:cNvSpPr/>
            <p:nvPr/>
          </p:nvSpPr>
          <p:spPr>
            <a:xfrm>
              <a:off x="1187280" y="335772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9 + 529 – 2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7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23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- 0,643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15" name="Line 60"/>
            <p:cNvSpPr/>
            <p:nvPr/>
          </p:nvSpPr>
          <p:spPr>
            <a:xfrm>
              <a:off x="1949040" y="343404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16" name="Rectangle 69"/>
          <p:cNvSpPr/>
          <p:nvPr/>
        </p:nvSpPr>
        <p:spPr>
          <a:xfrm>
            <a:off x="7772400" y="2349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2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7" name="Rectangle 70"/>
          <p:cNvSpPr/>
          <p:nvPr/>
        </p:nvSpPr>
        <p:spPr>
          <a:xfrm>
            <a:off x="7666920" y="270828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8" name="Text Box 38"/>
          <p:cNvSpPr/>
          <p:nvPr/>
        </p:nvSpPr>
        <p:spPr>
          <a:xfrm>
            <a:off x="1042920" y="2060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9" name="Прямоугольник 44"/>
          <p:cNvSpPr/>
          <p:nvPr/>
        </p:nvSpPr>
        <p:spPr>
          <a:xfrm>
            <a:off x="2270520" y="270828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0" name="Text Box 38"/>
          <p:cNvSpPr/>
          <p:nvPr/>
        </p:nvSpPr>
        <p:spPr>
          <a:xfrm>
            <a:off x="169236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1" name="Text Box 38"/>
          <p:cNvSpPr/>
          <p:nvPr/>
        </p:nvSpPr>
        <p:spPr>
          <a:xfrm>
            <a:off x="1403280" y="2637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99"/>
          <p:cNvGrpSpPr/>
          <p:nvPr/>
        </p:nvGrpSpPr>
        <p:grpSpPr>
          <a:xfrm>
            <a:off x="2239560" y="4118760"/>
            <a:ext cx="281520" cy="269640"/>
            <a:chOff x="2239560" y="4118760"/>
            <a:chExt cx="281520" cy="269640"/>
          </a:xfrm>
        </p:grpSpPr>
        <p:sp>
          <p:nvSpPr>
            <p:cNvPr id="523" name="Arc 89"/>
            <p:cNvSpPr/>
            <p:nvPr/>
          </p:nvSpPr>
          <p:spPr>
            <a:xfrm rot="15019800">
              <a:off x="2273760" y="4143600"/>
              <a:ext cx="208080" cy="219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fill="none" w="21600" h="31273">
                  <a:moveTo>
                    <a:pt x="5404" y="0"/>
                  </a:moveTo>
                  <a:cubicBezTo>
                    <a:pt x="14939" y="2464"/>
                    <a:pt x="21600" y="11065"/>
                    <a:pt x="21600" y="20913"/>
                  </a:cubicBezTo>
                  <a:cubicBezTo>
                    <a:pt x="21600" y="24533"/>
                    <a:pt x="20689" y="28095"/>
                    <a:pt x="18953" y="31272"/>
                  </a:cubicBezTo>
                </a:path>
                <a:path stroke="0" w="21600" h="31273">
                  <a:moveTo>
                    <a:pt x="5404" y="0"/>
                  </a:moveTo>
                  <a:cubicBezTo>
                    <a:pt x="14939" y="2464"/>
                    <a:pt x="21600" y="11065"/>
                    <a:pt x="21600" y="20913"/>
                  </a:cubicBezTo>
                  <a:cubicBezTo>
                    <a:pt x="21600" y="24533"/>
                    <a:pt x="20689" y="28095"/>
                    <a:pt x="18953" y="31272"/>
                  </a:cubicBezTo>
                  <a:lnTo>
                    <a:pt x="0" y="20913"/>
                  </a:lnTo>
                  <a:lnTo>
                    <a:pt x="5404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24" name="Arc 90"/>
            <p:cNvSpPr/>
            <p:nvPr/>
          </p:nvSpPr>
          <p:spPr>
            <a:xfrm rot="15019800">
              <a:off x="2340000" y="4175640"/>
              <a:ext cx="138240" cy="18756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fill="none" w="21600" h="2670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20"/>
                    <a:pt x="21394" y="25034"/>
                    <a:pt x="20987" y="26705"/>
                  </a:cubicBezTo>
                </a:path>
                <a:path stroke="0" w="21600" h="2670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20"/>
                    <a:pt x="21394" y="25034"/>
                    <a:pt x="20987" y="2670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25" name="Arc 84"/>
          <p:cNvSpPr/>
          <p:nvPr/>
        </p:nvSpPr>
        <p:spPr>
          <a:xfrm>
            <a:off x="1042920" y="4149720"/>
            <a:ext cx="209520" cy="231840"/>
          </a:xfrm>
          <a:custGeom>
            <a:avLst/>
            <a:gdLst>
              <a:gd name="textAreaLeft" fmla="*/ 0 w 209520"/>
              <a:gd name="textAreaRight" fmla="*/ 209880 w 2095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fill="none" w="21600" h="261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4"/>
                  <a:pt x="21440" y="24625"/>
                  <a:pt x="21124" y="26106"/>
                </a:cubicBezTo>
              </a:path>
              <a:path stroke="0" w="21600" h="261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4"/>
                  <a:pt x="21440" y="24625"/>
                  <a:pt x="21124" y="2610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ec2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26" name="Group 100"/>
          <p:cNvGrpSpPr/>
          <p:nvPr/>
        </p:nvGrpSpPr>
        <p:grpSpPr>
          <a:xfrm>
            <a:off x="1335240" y="1860120"/>
            <a:ext cx="428760" cy="549360"/>
            <a:chOff x="1335240" y="1860120"/>
            <a:chExt cx="428760" cy="549360"/>
          </a:xfrm>
        </p:grpSpPr>
        <p:sp>
          <p:nvSpPr>
            <p:cNvPr id="527" name="Arc 93"/>
            <p:cNvSpPr/>
            <p:nvPr/>
          </p:nvSpPr>
          <p:spPr>
            <a:xfrm rot="8457600">
              <a:off x="1423080" y="2097000"/>
              <a:ext cx="281160" cy="252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fill="none" w="21600" h="21384">
                  <a:moveTo>
                    <a:pt x="3048" y="0"/>
                  </a:moveTo>
                  <a:cubicBezTo>
                    <a:pt x="13692" y="1517"/>
                    <a:pt x="21600" y="10632"/>
                    <a:pt x="21600" y="21384"/>
                  </a:cubicBezTo>
                </a:path>
                <a:path stroke="0" w="21600" h="21384">
                  <a:moveTo>
                    <a:pt x="3048" y="0"/>
                  </a:moveTo>
                  <a:cubicBezTo>
                    <a:pt x="13692" y="1517"/>
                    <a:pt x="21600" y="10632"/>
                    <a:pt x="21600" y="21384"/>
                  </a:cubicBezTo>
                  <a:lnTo>
                    <a:pt x="0" y="21384"/>
                  </a:lnTo>
                  <a:lnTo>
                    <a:pt x="3048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28" name="Arc 94"/>
            <p:cNvSpPr/>
            <p:nvPr/>
          </p:nvSpPr>
          <p:spPr>
            <a:xfrm rot="8457600">
              <a:off x="1403280" y="1916280"/>
              <a:ext cx="292320" cy="3204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fill="none" w="19992" h="20432">
                  <a:moveTo>
                    <a:pt x="7006" y="0"/>
                  </a:moveTo>
                  <a:cubicBezTo>
                    <a:pt x="12899" y="2020"/>
                    <a:pt x="17632" y="6487"/>
                    <a:pt x="19991" y="12253"/>
                  </a:cubicBezTo>
                </a:path>
                <a:path stroke="0" w="19992" h="20432">
                  <a:moveTo>
                    <a:pt x="7006" y="0"/>
                  </a:moveTo>
                  <a:cubicBezTo>
                    <a:pt x="12899" y="2020"/>
                    <a:pt x="17632" y="6487"/>
                    <a:pt x="19991" y="12253"/>
                  </a:cubicBezTo>
                  <a:lnTo>
                    <a:pt x="0" y="20432"/>
                  </a:lnTo>
                  <a:lnTo>
                    <a:pt x="7006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29" name="Arc 95"/>
            <p:cNvSpPr/>
            <p:nvPr/>
          </p:nvSpPr>
          <p:spPr>
            <a:xfrm rot="8457600">
              <a:off x="1425240" y="2034720"/>
              <a:ext cx="271440" cy="2520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fill="none" w="20786" h="21221">
                  <a:moveTo>
                    <a:pt x="4028" y="-1"/>
                  </a:moveTo>
                  <a:cubicBezTo>
                    <a:pt x="12071" y="1526"/>
                    <a:pt x="18560" y="7469"/>
                    <a:pt x="20786" y="15347"/>
                  </a:cubicBezTo>
                </a:path>
                <a:path stroke="0" w="20786" h="21221">
                  <a:moveTo>
                    <a:pt x="4028" y="-1"/>
                  </a:moveTo>
                  <a:cubicBezTo>
                    <a:pt x="12071" y="1526"/>
                    <a:pt x="18560" y="7469"/>
                    <a:pt x="20786" y="15347"/>
                  </a:cubicBezTo>
                  <a:lnTo>
                    <a:pt x="0" y="21221"/>
                  </a:lnTo>
                  <a:lnTo>
                    <a:pt x="4028" y="-1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pic>
        <p:nvPicPr>
          <p:cNvPr id="530" name="WordArt 2" descr=""/>
          <p:cNvPicPr/>
          <p:nvPr/>
        </p:nvPicPr>
        <p:blipFill>
          <a:blip r:embed="rId1"/>
          <a:stretch/>
        </p:blipFill>
        <p:spPr>
          <a:xfrm>
            <a:off x="1736640" y="212760"/>
            <a:ext cx="6151680" cy="9698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3"/>
          <p:cNvSpPr/>
          <p:nvPr/>
        </p:nvSpPr>
        <p:spPr>
          <a:xfrm>
            <a:off x="2669400" y="11430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задач - пример 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2" name="AutoShape 38">
            <a:hlinkClick r:id="" action="ppaction://hlinkshowjump?jump=nex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3" name="Text Box 39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4" name="Text Box 41"/>
          <p:cNvSpPr/>
          <p:nvPr/>
        </p:nvSpPr>
        <p:spPr>
          <a:xfrm>
            <a:off x="7812000" y="1773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ано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5" name="Text Box 42"/>
          <p:cNvSpPr/>
          <p:nvPr/>
        </p:nvSpPr>
        <p:spPr>
          <a:xfrm>
            <a:off x="7596360" y="364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йти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4356000" y="1773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7924680" y="23493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м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8" name="Text Box 45"/>
          <p:cNvSpPr/>
          <p:nvPr/>
        </p:nvSpPr>
        <p:spPr>
          <a:xfrm>
            <a:off x="2286000" y="6105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; 13°; 113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7596360" y="4005360"/>
            <a:ext cx="1218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?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?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?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0" name="Text Box 72"/>
          <p:cNvSpPr/>
          <p:nvPr/>
        </p:nvSpPr>
        <p:spPr>
          <a:xfrm>
            <a:off x="3276720" y="2276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b ² + c ² - a ²) /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1" name="Text Box 73"/>
          <p:cNvSpPr/>
          <p:nvPr/>
        </p:nvSpPr>
        <p:spPr>
          <a:xfrm>
            <a:off x="2771640" y="278136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4 + 64 – 49) /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9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2" name="Text Box 74"/>
          <p:cNvSpPr/>
          <p:nvPr/>
        </p:nvSpPr>
        <p:spPr>
          <a:xfrm>
            <a:off x="4356000" y="32846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3" name="Text Box 75"/>
          <p:cNvSpPr/>
          <p:nvPr/>
        </p:nvSpPr>
        <p:spPr>
          <a:xfrm>
            <a:off x="2286000" y="54100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0° -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) = 180° - (54° + 13°) = 113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4" name="Text Box 76"/>
          <p:cNvSpPr/>
          <p:nvPr/>
        </p:nvSpPr>
        <p:spPr>
          <a:xfrm>
            <a:off x="2987640" y="37893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a ² + c ² - b ²) /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5" name="Text Box 77"/>
          <p:cNvSpPr/>
          <p:nvPr/>
        </p:nvSpPr>
        <p:spPr>
          <a:xfrm>
            <a:off x="2700360" y="450864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49 + 64 – 4) /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,973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6" name="Text Box 78"/>
          <p:cNvSpPr/>
          <p:nvPr/>
        </p:nvSpPr>
        <p:spPr>
          <a:xfrm>
            <a:off x="3995640" y="50133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7" name="Text Box 79"/>
          <p:cNvSpPr/>
          <p:nvPr/>
        </p:nvSpPr>
        <p:spPr>
          <a:xfrm>
            <a:off x="2627280" y="414972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48" name="Group 98"/>
          <p:cNvGrpSpPr/>
          <p:nvPr/>
        </p:nvGrpSpPr>
        <p:grpSpPr>
          <a:xfrm>
            <a:off x="971640" y="1628640"/>
            <a:ext cx="1676520" cy="2794320"/>
            <a:chOff x="971640" y="1628640"/>
            <a:chExt cx="1676520" cy="2794320"/>
          </a:xfrm>
        </p:grpSpPr>
        <p:sp>
          <p:nvSpPr>
            <p:cNvPr id="549" name="Line 81"/>
            <p:cNvSpPr/>
            <p:nvPr/>
          </p:nvSpPr>
          <p:spPr>
            <a:xfrm flipV="1">
              <a:off x="971640" y="1647360"/>
              <a:ext cx="526680" cy="27558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550" name="AutoShape 82"/>
            <p:cNvCxnSpPr>
              <a:stCxn id="549" idx="0"/>
            </p:cNvCxnSpPr>
            <p:nvPr/>
          </p:nvCxnSpPr>
          <p:spPr>
            <a:xfrm>
              <a:off x="971640" y="4422240"/>
              <a:ext cx="1676880" cy="108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  <p:cxnSp>
          <p:nvCxnSpPr>
            <p:cNvPr id="551" name="AutoShape 83"/>
            <p:cNvCxnSpPr>
              <a:stCxn id="549" idx="1"/>
            </p:cNvCxnSpPr>
            <p:nvPr/>
          </p:nvCxnSpPr>
          <p:spPr>
            <a:xfrm>
              <a:off x="1496880" y="1628640"/>
              <a:ext cx="1151280" cy="278856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</p:grpSp>
      <p:sp>
        <p:nvSpPr>
          <p:cNvPr id="552" name="Text Box 85"/>
          <p:cNvSpPr/>
          <p:nvPr/>
        </p:nvSpPr>
        <p:spPr>
          <a:xfrm>
            <a:off x="205092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см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3" name="Text Box 86"/>
          <p:cNvSpPr/>
          <p:nvPr/>
        </p:nvSpPr>
        <p:spPr>
          <a:xfrm>
            <a:off x="1042920" y="443700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4" name="Text Box 87"/>
          <p:cNvSpPr/>
          <p:nvPr/>
        </p:nvSpPr>
        <p:spPr>
          <a:xfrm>
            <a:off x="1190880" y="134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5" name="Text Box 96"/>
          <p:cNvSpPr/>
          <p:nvPr/>
        </p:nvSpPr>
        <p:spPr>
          <a:xfrm>
            <a:off x="1622520" y="4365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см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6" name="Rectangle 101"/>
          <p:cNvSpPr/>
          <p:nvPr/>
        </p:nvSpPr>
        <p:spPr>
          <a:xfrm>
            <a:off x="7848720" y="2852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7" name="Rectangle 102"/>
          <p:cNvSpPr/>
          <p:nvPr/>
        </p:nvSpPr>
        <p:spPr>
          <a:xfrm>
            <a:off x="7848720" y="3284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м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1403280" y="2349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9" name="Text Box 38"/>
          <p:cNvSpPr/>
          <p:nvPr/>
        </p:nvSpPr>
        <p:spPr>
          <a:xfrm>
            <a:off x="197964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0" name="Text Box 38"/>
          <p:cNvSpPr/>
          <p:nvPr/>
        </p:nvSpPr>
        <p:spPr>
          <a:xfrm>
            <a:off x="1187280" y="39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1" name="Text Box 96"/>
          <p:cNvSpPr/>
          <p:nvPr/>
        </p:nvSpPr>
        <p:spPr>
          <a:xfrm>
            <a:off x="830160" y="27082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 см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0"/>
          <p:cNvGrpSpPr/>
          <p:nvPr/>
        </p:nvGrpSpPr>
        <p:grpSpPr>
          <a:xfrm>
            <a:off x="2627640" y="3944520"/>
            <a:ext cx="416160" cy="325440"/>
            <a:chOff x="2627640" y="3944520"/>
            <a:chExt cx="416160" cy="325440"/>
          </a:xfrm>
        </p:grpSpPr>
        <p:sp>
          <p:nvSpPr>
            <p:cNvPr id="563" name="Arc 41"/>
            <p:cNvSpPr/>
            <p:nvPr/>
          </p:nvSpPr>
          <p:spPr>
            <a:xfrm rot="15019800">
              <a:off x="2705760" y="3943440"/>
              <a:ext cx="228600" cy="327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fill="none" w="21600" h="3085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800"/>
                    <a:pt x="20888" y="27960"/>
                    <a:pt x="19518" y="30852"/>
                  </a:cubicBezTo>
                </a:path>
                <a:path stroke="0" w="21600" h="3085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800"/>
                    <a:pt x="20888" y="27960"/>
                    <a:pt x="19518" y="3085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64" name="Arc 42"/>
            <p:cNvSpPr/>
            <p:nvPr/>
          </p:nvSpPr>
          <p:spPr>
            <a:xfrm rot="15019800">
              <a:off x="2808720" y="3983040"/>
              <a:ext cx="152280" cy="282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fill="none" w="21600" h="2670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20"/>
                    <a:pt x="21394" y="25034"/>
                    <a:pt x="20987" y="26705"/>
                  </a:cubicBezTo>
                </a:path>
                <a:path stroke="0" w="21600" h="2670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20"/>
                    <a:pt x="21394" y="25034"/>
                    <a:pt x="20987" y="2670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65" name="Arc 26"/>
          <p:cNvSpPr/>
          <p:nvPr/>
        </p:nvSpPr>
        <p:spPr>
          <a:xfrm>
            <a:off x="1547640" y="4005360"/>
            <a:ext cx="244800" cy="231840"/>
          </a:xfrm>
          <a:custGeom>
            <a:avLst/>
            <a:gdLst>
              <a:gd name="textAreaLeft" fmla="*/ 0 w 244800"/>
              <a:gd name="textAreaRight" fmla="*/ 245160 w 2448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fill="none" w="25166" h="26107">
                <a:moveTo>
                  <a:pt x="0" y="296"/>
                </a:moveTo>
                <a:cubicBezTo>
                  <a:pt x="1178" y="99"/>
                  <a:pt x="2371" y="-1"/>
                  <a:pt x="3566" y="0"/>
                </a:cubicBezTo>
                <a:cubicBezTo>
                  <a:pt x="15495" y="0"/>
                  <a:pt x="25166" y="9670"/>
                  <a:pt x="25166" y="21600"/>
                </a:cubicBezTo>
                <a:cubicBezTo>
                  <a:pt x="25166" y="23114"/>
                  <a:pt x="25006" y="24625"/>
                  <a:pt x="24690" y="26106"/>
                </a:cubicBezTo>
              </a:path>
              <a:path stroke="0" w="25166" h="26107">
                <a:moveTo>
                  <a:pt x="0" y="296"/>
                </a:moveTo>
                <a:cubicBezTo>
                  <a:pt x="1178" y="99"/>
                  <a:pt x="2371" y="-1"/>
                  <a:pt x="3566" y="0"/>
                </a:cubicBezTo>
                <a:cubicBezTo>
                  <a:pt x="15495" y="0"/>
                  <a:pt x="25166" y="9670"/>
                  <a:pt x="25166" y="21600"/>
                </a:cubicBezTo>
                <a:cubicBezTo>
                  <a:pt x="25166" y="23114"/>
                  <a:pt x="25006" y="24625"/>
                  <a:pt x="24690" y="26106"/>
                </a:cubicBezTo>
                <a:lnTo>
                  <a:pt x="3566" y="21600"/>
                </a:lnTo>
                <a:lnTo>
                  <a:pt x="0" y="296"/>
                </a:lnTo>
                <a:close/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66" name="Group 48"/>
          <p:cNvGrpSpPr/>
          <p:nvPr/>
        </p:nvGrpSpPr>
        <p:grpSpPr>
          <a:xfrm>
            <a:off x="1119240" y="1931760"/>
            <a:ext cx="431280" cy="549360"/>
            <a:chOff x="1119240" y="1931760"/>
            <a:chExt cx="431280" cy="549360"/>
          </a:xfrm>
        </p:grpSpPr>
        <p:sp>
          <p:nvSpPr>
            <p:cNvPr id="567" name="Arc 35"/>
            <p:cNvSpPr/>
            <p:nvPr/>
          </p:nvSpPr>
          <p:spPr>
            <a:xfrm rot="8457600">
              <a:off x="1210320" y="2169360"/>
              <a:ext cx="281160" cy="25092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fill="none" w="21600" h="21204">
                  <a:moveTo>
                    <a:pt x="4115" y="-1"/>
                  </a:moveTo>
                  <a:cubicBezTo>
                    <a:pt x="14268" y="1970"/>
                    <a:pt x="21600" y="10861"/>
                    <a:pt x="21600" y="21204"/>
                  </a:cubicBezTo>
                </a:path>
                <a:path stroke="0" w="21600" h="21204">
                  <a:moveTo>
                    <a:pt x="4115" y="-1"/>
                  </a:moveTo>
                  <a:cubicBezTo>
                    <a:pt x="14268" y="1970"/>
                    <a:pt x="21600" y="10861"/>
                    <a:pt x="21600" y="21204"/>
                  </a:cubicBezTo>
                  <a:lnTo>
                    <a:pt x="0" y="21204"/>
                  </a:lnTo>
                  <a:lnTo>
                    <a:pt x="4115" y="-1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68" name="Arc 36"/>
            <p:cNvSpPr/>
            <p:nvPr/>
          </p:nvSpPr>
          <p:spPr>
            <a:xfrm rot="8457600">
              <a:off x="1186920" y="1988640"/>
              <a:ext cx="295560" cy="32040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fill="none" w="20230" h="20432">
                  <a:moveTo>
                    <a:pt x="7006" y="0"/>
                  </a:moveTo>
                  <a:cubicBezTo>
                    <a:pt x="13115" y="2094"/>
                    <a:pt x="17966" y="6813"/>
                    <a:pt x="20229" y="12861"/>
                  </a:cubicBezTo>
                </a:path>
                <a:path stroke="0" w="20230" h="20432">
                  <a:moveTo>
                    <a:pt x="7006" y="0"/>
                  </a:moveTo>
                  <a:cubicBezTo>
                    <a:pt x="13115" y="2094"/>
                    <a:pt x="17966" y="6813"/>
                    <a:pt x="20229" y="12861"/>
                  </a:cubicBezTo>
                  <a:lnTo>
                    <a:pt x="0" y="20432"/>
                  </a:lnTo>
                  <a:lnTo>
                    <a:pt x="7006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69" name="Arc 37"/>
            <p:cNvSpPr/>
            <p:nvPr/>
          </p:nvSpPr>
          <p:spPr>
            <a:xfrm rot="8457600">
              <a:off x="1212480" y="2105640"/>
              <a:ext cx="271440" cy="2523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fill="none" w="20786" h="21221">
                  <a:moveTo>
                    <a:pt x="4028" y="-1"/>
                  </a:moveTo>
                  <a:cubicBezTo>
                    <a:pt x="12071" y="1526"/>
                    <a:pt x="18560" y="7469"/>
                    <a:pt x="20786" y="15347"/>
                  </a:cubicBezTo>
                </a:path>
                <a:path stroke="0" w="20786" h="21221">
                  <a:moveTo>
                    <a:pt x="4028" y="-1"/>
                  </a:moveTo>
                  <a:cubicBezTo>
                    <a:pt x="12071" y="1526"/>
                    <a:pt x="18560" y="7469"/>
                    <a:pt x="20786" y="15347"/>
                  </a:cubicBezTo>
                  <a:lnTo>
                    <a:pt x="0" y="21221"/>
                  </a:lnTo>
                  <a:lnTo>
                    <a:pt x="4028" y="-1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pic>
        <p:nvPicPr>
          <p:cNvPr id="570" name="WordArt 2" descr="Орех"/>
          <p:cNvPicPr/>
          <p:nvPr/>
        </p:nvPicPr>
        <p:blipFill>
          <a:blip r:embed="rId1"/>
          <a:stretch/>
        </p:blipFill>
        <p:spPr>
          <a:xfrm>
            <a:off x="1511280" y="212760"/>
            <a:ext cx="6608880" cy="96984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"/>
          <p:cNvSpPr/>
          <p:nvPr/>
        </p:nvSpPr>
        <p:spPr>
          <a:xfrm>
            <a:off x="2669400" y="11430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задач - пример 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7667640" y="1700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ано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67640" y="3284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йти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4067280" y="1700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1908000" y="24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м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1116000" y="6165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6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;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7667640" y="371628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- 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3132000" y="2133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/ sin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3059280" y="256536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 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b / a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0" name="Text Box 16"/>
          <p:cNvSpPr/>
          <p:nvPr/>
        </p:nvSpPr>
        <p:spPr>
          <a:xfrm>
            <a:off x="3059280" y="3500280"/>
            <a:ext cx="464796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тупой, а в треугольнике может быть только один тупой угол, 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1042920" y="4869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0° -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β) = 180° -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) =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82" name="Group 51"/>
          <p:cNvGrpSpPr/>
          <p:nvPr/>
        </p:nvGrpSpPr>
        <p:grpSpPr>
          <a:xfrm>
            <a:off x="971280" y="1699920"/>
            <a:ext cx="2286720" cy="2610000"/>
            <a:chOff x="971280" y="1699920"/>
            <a:chExt cx="2286720" cy="2610000"/>
          </a:xfrm>
        </p:grpSpPr>
        <p:sp>
          <p:nvSpPr>
            <p:cNvPr id="583" name="Line 23"/>
            <p:cNvSpPr/>
            <p:nvPr/>
          </p:nvSpPr>
          <p:spPr>
            <a:xfrm flipH="1" flipV="1">
              <a:off x="971280" y="1718640"/>
              <a:ext cx="609480" cy="255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584" name="AutoShape 24"/>
            <p:cNvCxnSpPr>
              <a:stCxn id="583" idx="0"/>
            </p:cNvCxnSpPr>
            <p:nvPr/>
          </p:nvCxnSpPr>
          <p:spPr>
            <a:xfrm>
              <a:off x="1580760" y="4296600"/>
              <a:ext cx="1677240" cy="108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  <p:cxnSp>
          <p:nvCxnSpPr>
            <p:cNvPr id="585" name="AutoShape 25"/>
            <p:cNvCxnSpPr>
              <a:stCxn id="583" idx="1"/>
            </p:cNvCxnSpPr>
            <p:nvPr/>
          </p:nvCxnSpPr>
          <p:spPr>
            <a:xfrm>
              <a:off x="971640" y="1699920"/>
              <a:ext cx="2286720" cy="2610360"/>
            </a:xfrm>
            <a:prstGeom prst="straightConnector1">
              <a:avLst/>
            </a:prstGeom>
            <a:ln w="38160">
              <a:solidFill>
                <a:srgbClr val="33cc33"/>
              </a:solidFill>
              <a:miter/>
            </a:ln>
          </p:spPr>
        </p:cxnSp>
      </p:grpSp>
      <p:sp>
        <p:nvSpPr>
          <p:cNvPr id="586" name="Text Box 29"/>
          <p:cNvSpPr/>
          <p:nvPr/>
        </p:nvSpPr>
        <p:spPr>
          <a:xfrm>
            <a:off x="7673400" y="256536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5см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7" name="Text Box 33"/>
          <p:cNvSpPr/>
          <p:nvPr/>
        </p:nvSpPr>
        <p:spPr>
          <a:xfrm>
            <a:off x="1332000" y="4292640"/>
            <a:ext cx="3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8" name="Text Box 38"/>
          <p:cNvSpPr/>
          <p:nvPr/>
        </p:nvSpPr>
        <p:spPr>
          <a:xfrm>
            <a:off x="1118520" y="141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9" name="Text Box 44"/>
          <p:cNvSpPr/>
          <p:nvPr/>
        </p:nvSpPr>
        <p:spPr>
          <a:xfrm>
            <a:off x="3059280" y="29973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 β = (5 / 1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86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,36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0" name="Text Box 46"/>
          <p:cNvSpPr/>
          <p:nvPr/>
        </p:nvSpPr>
        <p:spPr>
          <a:xfrm>
            <a:off x="1042920" y="580536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n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° / sin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°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2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0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6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6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1042920" y="5300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n γ / sin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2" name="Rectangle 49"/>
          <p:cNvSpPr/>
          <p:nvPr/>
        </p:nvSpPr>
        <p:spPr>
          <a:xfrm>
            <a:off x="1835280" y="42926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3" name="Text Box 38"/>
          <p:cNvSpPr/>
          <p:nvPr/>
        </p:nvSpPr>
        <p:spPr>
          <a:xfrm>
            <a:off x="1258920" y="242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4" name="Прямоугольник 41"/>
          <p:cNvSpPr/>
          <p:nvPr/>
        </p:nvSpPr>
        <p:spPr>
          <a:xfrm>
            <a:off x="1622520" y="3645000"/>
            <a:ext cx="6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5" name="Text Box 38"/>
          <p:cNvSpPr/>
          <p:nvPr/>
        </p:nvSpPr>
        <p:spPr>
          <a:xfrm>
            <a:off x="900000" y="321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6" name="Text Box 96"/>
          <p:cNvSpPr/>
          <p:nvPr/>
        </p:nvSpPr>
        <p:spPr>
          <a:xfrm>
            <a:off x="7674120" y="213372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см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7" name="Text Box 96"/>
          <p:cNvSpPr/>
          <p:nvPr/>
        </p:nvSpPr>
        <p:spPr>
          <a:xfrm>
            <a:off x="3279240" y="40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8" name="Прямоугольник 45"/>
          <p:cNvSpPr/>
          <p:nvPr/>
        </p:nvSpPr>
        <p:spPr>
          <a:xfrm>
            <a:off x="7603560" y="2924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ordArt 2" descr=""/>
          <p:cNvPicPr/>
          <p:nvPr/>
        </p:nvPicPr>
        <p:blipFill>
          <a:blip r:embed="rId1"/>
          <a:stretch/>
        </p:blipFill>
        <p:spPr>
          <a:xfrm>
            <a:off x="1889280" y="212760"/>
            <a:ext cx="5999040" cy="9698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99" name="Group 42"/>
          <p:cNvGrpSpPr/>
          <p:nvPr/>
        </p:nvGrpSpPr>
        <p:grpSpPr>
          <a:xfrm>
            <a:off x="1186920" y="2349000"/>
            <a:ext cx="2057400" cy="1315440"/>
            <a:chOff x="1186920" y="2349000"/>
            <a:chExt cx="2057400" cy="1315440"/>
          </a:xfrm>
        </p:grpSpPr>
        <p:sp>
          <p:nvSpPr>
            <p:cNvPr id="100" name="Line 13"/>
            <p:cNvSpPr/>
            <p:nvPr/>
          </p:nvSpPr>
          <p:spPr>
            <a:xfrm flipV="1">
              <a:off x="1187280" y="2349000"/>
              <a:ext cx="1528560" cy="12956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101" name="AutoShape 14"/>
            <p:cNvCxnSpPr/>
            <p:nvPr/>
          </p:nvCxnSpPr>
          <p:spPr>
            <a:xfrm>
              <a:off x="1186920" y="3663720"/>
              <a:ext cx="2057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02" name="AutoShape 15"/>
            <p:cNvCxnSpPr/>
            <p:nvPr/>
          </p:nvCxnSpPr>
          <p:spPr>
            <a:xfrm>
              <a:off x="2710800" y="2349360"/>
              <a:ext cx="531000" cy="131544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</a:ln>
          </p:spPr>
        </p:cxnSp>
      </p:grpSp>
      <p:sp>
        <p:nvSpPr>
          <p:cNvPr id="103" name="Text Box 17"/>
          <p:cNvSpPr/>
          <p:nvPr/>
        </p:nvSpPr>
        <p:spPr>
          <a:xfrm>
            <a:off x="1042920" y="364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276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700360" y="198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971640" y="1125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лните пропуски в решении задачи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2125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6"/>
              <p:cNvSpPr txBox="1"/>
              <p:nvPr/>
            </p:nvSpPr>
            <p:spPr>
              <a:xfrm>
                <a:off x="3059280" y="2708280"/>
                <a:ext cx="10378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9"/>
              <p:cNvSpPr txBox="1"/>
              <p:nvPr/>
            </p:nvSpPr>
            <p:spPr>
              <a:xfrm>
                <a:off x="4356000" y="1916280"/>
                <a:ext cx="3095640" cy="42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2411280" y="2565360"/>
            <a:ext cx="433440" cy="36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1619280" y="3213000"/>
                <a:ext cx="428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Прямоугольник 22"/>
          <p:cNvSpPr/>
          <p:nvPr/>
        </p:nvSpPr>
        <p:spPr>
          <a:xfrm>
            <a:off x="4859280" y="2349360"/>
            <a:ext cx="433440" cy="43200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Прямоугольник 23"/>
          <p:cNvSpPr/>
          <p:nvPr/>
        </p:nvSpPr>
        <p:spPr>
          <a:xfrm>
            <a:off x="5796000" y="1844640"/>
            <a:ext cx="431640" cy="43200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4" name="Прямоугольник 24"/>
          <p:cNvSpPr/>
          <p:nvPr/>
        </p:nvSpPr>
        <p:spPr>
          <a:xfrm>
            <a:off x="4572000" y="3213000"/>
            <a:ext cx="647640" cy="43200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5" name="Прямоугольник 25"/>
          <p:cNvSpPr/>
          <p:nvPr/>
        </p:nvSpPr>
        <p:spPr>
          <a:xfrm>
            <a:off x="6300720" y="3716280"/>
            <a:ext cx="503280" cy="4334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Прямоугольник 26"/>
          <p:cNvSpPr/>
          <p:nvPr/>
        </p:nvSpPr>
        <p:spPr>
          <a:xfrm>
            <a:off x="6227640" y="4653000"/>
            <a:ext cx="505080" cy="72072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Прямоугольник 27"/>
          <p:cNvSpPr/>
          <p:nvPr/>
        </p:nvSpPr>
        <p:spPr>
          <a:xfrm>
            <a:off x="7093080" y="5157720"/>
            <a:ext cx="431640" cy="43200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WordArt 4" descr=""/>
          <p:cNvPicPr/>
          <p:nvPr/>
        </p:nvPicPr>
        <p:blipFill>
          <a:blip r:embed="rId1"/>
          <a:stretch/>
        </p:blipFill>
        <p:spPr>
          <a:xfrm>
            <a:off x="957240" y="244440"/>
            <a:ext cx="7905600" cy="13525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C:\Documents and Settings\Калистратов\Desktop\SCAN0007.JPG"/>
          <p:cNvPicPr/>
          <p:nvPr/>
        </p:nvPicPr>
        <p:blipFill>
          <a:blip r:embed="rId2"/>
          <a:srcRect l="41792" t="46156" r="47730" b="37158"/>
          <a:stretch/>
        </p:blipFill>
        <p:spPr>
          <a:xfrm>
            <a:off x="1116000" y="2708280"/>
            <a:ext cx="2664000" cy="3024360"/>
          </a:xfrm>
          <a:prstGeom prst="rect">
            <a:avLst/>
          </a:prstGeom>
          <a:ln w="0">
            <a:noFill/>
          </a:ln>
        </p:spPr>
      </p:pic>
      <p:sp>
        <p:nvSpPr>
          <p:cNvPr id="601" name="TextBox 3"/>
          <p:cNvSpPr/>
          <p:nvPr/>
        </p:nvSpPr>
        <p:spPr>
          <a:xfrm>
            <a:off x="1835280" y="1628640"/>
            <a:ext cx="634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высоту дерева на рисунке, если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=2м,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2484360" y="5229360"/>
            <a:ext cx="287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WordArt 4" descr=""/>
          <p:cNvPicPr/>
          <p:nvPr/>
        </p:nvPicPr>
        <p:blipFill>
          <a:blip r:embed="rId1"/>
          <a:stretch/>
        </p:blipFill>
        <p:spPr>
          <a:xfrm>
            <a:off x="957240" y="244440"/>
            <a:ext cx="7905600" cy="13525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2"/>
          <p:cNvSpPr/>
          <p:nvPr/>
        </p:nvSpPr>
        <p:spPr>
          <a:xfrm>
            <a:off x="1042920" y="1628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расстояние от пункта А, до пункта С,  если АВ=30м,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05" name="Picture 2" descr="F:\SCANFILE\SCAN0000.JPG"/>
          <p:cNvPicPr/>
          <p:nvPr/>
        </p:nvPicPr>
        <p:blipFill>
          <a:blip r:embed="rId2"/>
          <a:srcRect l="73231" t="6845" r="4903" b="64395"/>
          <a:stretch/>
        </p:blipFill>
        <p:spPr>
          <a:xfrm>
            <a:off x="1187280" y="2924280"/>
            <a:ext cx="3149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WordArt 4" descr=""/>
          <p:cNvPicPr/>
          <p:nvPr/>
        </p:nvPicPr>
        <p:blipFill>
          <a:blip r:embed="rId1"/>
          <a:stretch/>
        </p:blipFill>
        <p:spPr>
          <a:xfrm>
            <a:off x="1962000" y="390600"/>
            <a:ext cx="6681960" cy="69984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3838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WordArt 2" descr=""/>
          <p:cNvPicPr/>
          <p:nvPr/>
        </p:nvPicPr>
        <p:blipFill>
          <a:blip r:embed="rId1"/>
          <a:stretch/>
        </p:blipFill>
        <p:spPr>
          <a:xfrm>
            <a:off x="2322360" y="244440"/>
            <a:ext cx="4883400" cy="955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21" name="Group 42"/>
          <p:cNvGrpSpPr/>
          <p:nvPr/>
        </p:nvGrpSpPr>
        <p:grpSpPr>
          <a:xfrm>
            <a:off x="1547280" y="1844280"/>
            <a:ext cx="2089440" cy="1818360"/>
            <a:chOff x="1547280" y="1844280"/>
            <a:chExt cx="2089440" cy="1818360"/>
          </a:xfrm>
        </p:grpSpPr>
        <p:sp>
          <p:nvSpPr>
            <p:cNvPr id="122" name="Line 13"/>
            <p:cNvSpPr/>
            <p:nvPr/>
          </p:nvSpPr>
          <p:spPr>
            <a:xfrm flipV="1">
              <a:off x="1547640" y="1844640"/>
              <a:ext cx="1728720" cy="1798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123" name="AutoShape 14"/>
            <p:cNvCxnSpPr/>
            <p:nvPr/>
          </p:nvCxnSpPr>
          <p:spPr>
            <a:xfrm>
              <a:off x="1547280" y="3661920"/>
              <a:ext cx="2057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24" name="AutoShape 15"/>
            <p:cNvCxnSpPr>
              <a:stCxn id="122" idx="0"/>
              <a:endCxn id="125" idx="1"/>
            </p:cNvCxnSpPr>
            <p:nvPr/>
          </p:nvCxnSpPr>
          <p:spPr>
            <a:xfrm>
              <a:off x="3276000" y="1844280"/>
              <a:ext cx="361080" cy="181332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</a:ln>
          </p:spPr>
        </p:cxnSp>
      </p:grpSp>
      <p:sp>
        <p:nvSpPr>
          <p:cNvPr id="126" name="Text Box 17"/>
          <p:cNvSpPr/>
          <p:nvPr/>
        </p:nvSpPr>
        <p:spPr>
          <a:xfrm>
            <a:off x="1116000" y="3357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916360" y="155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36352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2987640" y="2205000"/>
                <a:ext cx="428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Text Box 18"/>
          <p:cNvSpPr/>
          <p:nvPr/>
        </p:nvSpPr>
        <p:spPr>
          <a:xfrm>
            <a:off x="2050920" y="2349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3492360" y="24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262908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971640" y="1125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лните пропуски в решении задачи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3780000" y="2133720"/>
                <a:ext cx="513216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Прямоугольник 19"/>
          <p:cNvSpPr/>
          <p:nvPr/>
        </p:nvSpPr>
        <p:spPr>
          <a:xfrm>
            <a:off x="4788000" y="2133720"/>
            <a:ext cx="36036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5580000" y="2133720"/>
            <a:ext cx="43200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Прямоугольник 21"/>
          <p:cNvSpPr/>
          <p:nvPr/>
        </p:nvSpPr>
        <p:spPr>
          <a:xfrm>
            <a:off x="6372360" y="2133720"/>
            <a:ext cx="28728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7" name="Прямоугольник 22"/>
          <p:cNvSpPr/>
          <p:nvPr/>
        </p:nvSpPr>
        <p:spPr>
          <a:xfrm>
            <a:off x="4716360" y="3141720"/>
            <a:ext cx="36036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8" name="Прямоугольник 23"/>
          <p:cNvSpPr/>
          <p:nvPr/>
        </p:nvSpPr>
        <p:spPr>
          <a:xfrm>
            <a:off x="5292720" y="3141720"/>
            <a:ext cx="28728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Прямоугольник 24"/>
          <p:cNvSpPr/>
          <p:nvPr/>
        </p:nvSpPr>
        <p:spPr>
          <a:xfrm>
            <a:off x="6156360" y="3068640"/>
            <a:ext cx="216000" cy="50472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0" name="Прямоугольник 25"/>
          <p:cNvSpPr/>
          <p:nvPr/>
        </p:nvSpPr>
        <p:spPr>
          <a:xfrm>
            <a:off x="6516720" y="3068640"/>
            <a:ext cx="216000" cy="50472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1" name="Прямоугольник 26"/>
          <p:cNvSpPr/>
          <p:nvPr/>
        </p:nvSpPr>
        <p:spPr>
          <a:xfrm>
            <a:off x="7380360" y="3141720"/>
            <a:ext cx="431640" cy="50328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Прямоугольник 27"/>
          <p:cNvSpPr/>
          <p:nvPr/>
        </p:nvSpPr>
        <p:spPr>
          <a:xfrm>
            <a:off x="8101080" y="3141720"/>
            <a:ext cx="43164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Прямоугольник 28"/>
          <p:cNvSpPr/>
          <p:nvPr/>
        </p:nvSpPr>
        <p:spPr>
          <a:xfrm>
            <a:off x="4788000" y="4292640"/>
            <a:ext cx="36036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4" name="Прямоугольник 29"/>
          <p:cNvSpPr/>
          <p:nvPr/>
        </p:nvSpPr>
        <p:spPr>
          <a:xfrm>
            <a:off x="5435640" y="4221000"/>
            <a:ext cx="649080" cy="43200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WordArt 2" descr=""/>
          <p:cNvPicPr/>
          <p:nvPr/>
        </p:nvPicPr>
        <p:blipFill>
          <a:blip r:embed="rId1"/>
          <a:stretch/>
        </p:blipFill>
        <p:spPr>
          <a:xfrm>
            <a:off x="1889280" y="212760"/>
            <a:ext cx="5999040" cy="9698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48" name="Group 42"/>
          <p:cNvGrpSpPr/>
          <p:nvPr/>
        </p:nvGrpSpPr>
        <p:grpSpPr>
          <a:xfrm>
            <a:off x="826560" y="1917360"/>
            <a:ext cx="2417760" cy="1747080"/>
            <a:chOff x="826560" y="1917360"/>
            <a:chExt cx="2417760" cy="1747080"/>
          </a:xfrm>
        </p:grpSpPr>
        <p:sp>
          <p:nvSpPr>
            <p:cNvPr id="149" name="Line 13"/>
            <p:cNvSpPr/>
            <p:nvPr/>
          </p:nvSpPr>
          <p:spPr>
            <a:xfrm flipH="1" flipV="1">
              <a:off x="826560" y="1917720"/>
              <a:ext cx="431640" cy="17272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150" name="AutoShape 14"/>
            <p:cNvCxnSpPr/>
            <p:nvPr/>
          </p:nvCxnSpPr>
          <p:spPr>
            <a:xfrm>
              <a:off x="1186920" y="3663720"/>
              <a:ext cx="2057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51" name="AutoShape 15"/>
            <p:cNvCxnSpPr>
              <a:stCxn id="149" idx="0"/>
            </p:cNvCxnSpPr>
            <p:nvPr/>
          </p:nvCxnSpPr>
          <p:spPr>
            <a:xfrm>
              <a:off x="826560" y="1917360"/>
              <a:ext cx="2414880" cy="174708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</a:ln>
          </p:spPr>
        </p:cxnSp>
      </p:grpSp>
      <p:sp>
        <p:nvSpPr>
          <p:cNvPr id="152" name="Text Box 17"/>
          <p:cNvSpPr/>
          <p:nvPr/>
        </p:nvSpPr>
        <p:spPr>
          <a:xfrm>
            <a:off x="1042920" y="364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3276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971640" y="155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2125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36"/>
              <p:cNvSpPr txBox="1"/>
              <p:nvPr/>
            </p:nvSpPr>
            <p:spPr>
              <a:xfrm>
                <a:off x="2035080" y="2421000"/>
                <a:ext cx="646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9"/>
              <p:cNvSpPr txBox="1"/>
              <p:nvPr/>
            </p:nvSpPr>
            <p:spPr>
              <a:xfrm>
                <a:off x="4356000" y="1916280"/>
                <a:ext cx="2132280" cy="40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1258920" y="3141720"/>
                <a:ext cx="693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Text Box 33"/>
          <p:cNvSpPr/>
          <p:nvPr/>
        </p:nvSpPr>
        <p:spPr>
          <a:xfrm>
            <a:off x="971640" y="1125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лните пропуски в решении задачи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0" name="Прямоугольник 22"/>
          <p:cNvSpPr/>
          <p:nvPr/>
        </p:nvSpPr>
        <p:spPr>
          <a:xfrm>
            <a:off x="6012000" y="1916280"/>
            <a:ext cx="431640" cy="43308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1" name="Прямоугольник 23"/>
          <p:cNvSpPr/>
          <p:nvPr/>
        </p:nvSpPr>
        <p:spPr>
          <a:xfrm>
            <a:off x="4500720" y="2421000"/>
            <a:ext cx="43164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2" name="Прямоугольник 24"/>
          <p:cNvSpPr/>
          <p:nvPr/>
        </p:nvSpPr>
        <p:spPr>
          <a:xfrm>
            <a:off x="5796000" y="2852640"/>
            <a:ext cx="431640" cy="43200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3" name="Прямоугольник 25"/>
          <p:cNvSpPr/>
          <p:nvPr/>
        </p:nvSpPr>
        <p:spPr>
          <a:xfrm>
            <a:off x="4788000" y="3645000"/>
            <a:ext cx="43164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4" name="Прямоугольник 26"/>
          <p:cNvSpPr/>
          <p:nvPr/>
        </p:nvSpPr>
        <p:spPr>
          <a:xfrm>
            <a:off x="5580000" y="3284640"/>
            <a:ext cx="43200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5" name="Прямоугольник 27"/>
          <p:cNvSpPr/>
          <p:nvPr/>
        </p:nvSpPr>
        <p:spPr>
          <a:xfrm>
            <a:off x="5219640" y="5229360"/>
            <a:ext cx="432000" cy="72072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6" name="Прямоугольник 28"/>
          <p:cNvSpPr/>
          <p:nvPr/>
        </p:nvSpPr>
        <p:spPr>
          <a:xfrm>
            <a:off x="6012000" y="5013360"/>
            <a:ext cx="431640" cy="4316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1476360" y="3933720"/>
                <a:ext cx="1060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ordArt 2" descr=""/>
          <p:cNvPicPr/>
          <p:nvPr/>
        </p:nvPicPr>
        <p:blipFill>
          <a:blip r:embed="rId1"/>
          <a:stretch/>
        </p:blipFill>
        <p:spPr>
          <a:xfrm>
            <a:off x="2322360" y="244440"/>
            <a:ext cx="4883400" cy="9558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71" name="Group 42"/>
          <p:cNvGrpSpPr/>
          <p:nvPr/>
        </p:nvGrpSpPr>
        <p:grpSpPr>
          <a:xfrm>
            <a:off x="1042560" y="1844280"/>
            <a:ext cx="2592360" cy="1818360"/>
            <a:chOff x="1042560" y="1844280"/>
            <a:chExt cx="2592360" cy="1818360"/>
          </a:xfrm>
        </p:grpSpPr>
        <p:sp>
          <p:nvSpPr>
            <p:cNvPr id="172" name="Line 13"/>
            <p:cNvSpPr/>
            <p:nvPr/>
          </p:nvSpPr>
          <p:spPr>
            <a:xfrm flipH="1" flipV="1">
              <a:off x="1042560" y="1844640"/>
              <a:ext cx="505080" cy="17985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cxnSp>
          <p:nvCxnSpPr>
            <p:cNvPr id="173" name="AutoShape 14"/>
            <p:cNvCxnSpPr/>
            <p:nvPr/>
          </p:nvCxnSpPr>
          <p:spPr>
            <a:xfrm>
              <a:off x="1547640" y="3661920"/>
              <a:ext cx="2057760" cy="108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</a:ln>
          </p:spPr>
        </p:cxnSp>
        <p:cxnSp>
          <p:nvCxnSpPr>
            <p:cNvPr id="174" name="AutoShape 15"/>
            <p:cNvCxnSpPr>
              <a:stCxn id="172" idx="0"/>
              <a:endCxn id="175" idx="1"/>
            </p:cNvCxnSpPr>
            <p:nvPr/>
          </p:nvCxnSpPr>
          <p:spPr>
            <a:xfrm>
              <a:off x="1042560" y="1844280"/>
              <a:ext cx="2592720" cy="18133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176" name="Text Box 17"/>
          <p:cNvSpPr/>
          <p:nvPr/>
        </p:nvSpPr>
        <p:spPr>
          <a:xfrm>
            <a:off x="1042920" y="141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1332000" y="3716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6352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1547640" y="3284640"/>
                <a:ext cx="541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Text Box 18"/>
          <p:cNvSpPr/>
          <p:nvPr/>
        </p:nvSpPr>
        <p:spPr>
          <a:xfrm>
            <a:off x="955800" y="2705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248616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971640" y="1125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лните пропуски в решении задачи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3708360" y="1628640"/>
                <a:ext cx="513252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Прямоугольник 20"/>
          <p:cNvSpPr/>
          <p:nvPr/>
        </p:nvSpPr>
        <p:spPr>
          <a:xfrm>
            <a:off x="4643280" y="1628640"/>
            <a:ext cx="433440" cy="43200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4" name="Прямоугольник 21"/>
          <p:cNvSpPr/>
          <p:nvPr/>
        </p:nvSpPr>
        <p:spPr>
          <a:xfrm>
            <a:off x="7451640" y="1628640"/>
            <a:ext cx="433440" cy="43200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5" name="Прямоугольник 22"/>
          <p:cNvSpPr/>
          <p:nvPr/>
        </p:nvSpPr>
        <p:spPr>
          <a:xfrm>
            <a:off x="4643280" y="2708280"/>
            <a:ext cx="360360" cy="4334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6" name="Прямоугольник 23"/>
          <p:cNvSpPr/>
          <p:nvPr/>
        </p:nvSpPr>
        <p:spPr>
          <a:xfrm>
            <a:off x="5219640" y="2708280"/>
            <a:ext cx="289080" cy="4334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7" name="Прямоугольник 24"/>
          <p:cNvSpPr/>
          <p:nvPr/>
        </p:nvSpPr>
        <p:spPr>
          <a:xfrm>
            <a:off x="6012000" y="2637000"/>
            <a:ext cx="215640" cy="50472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8" name="Прямоугольник 25"/>
          <p:cNvSpPr/>
          <p:nvPr/>
        </p:nvSpPr>
        <p:spPr>
          <a:xfrm>
            <a:off x="6516720" y="2637000"/>
            <a:ext cx="287280" cy="50472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9" name="Прямоугольник 26"/>
          <p:cNvSpPr/>
          <p:nvPr/>
        </p:nvSpPr>
        <p:spPr>
          <a:xfrm>
            <a:off x="5435640" y="3645000"/>
            <a:ext cx="216000" cy="50472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0" name="Прямоугольник 27"/>
          <p:cNvSpPr/>
          <p:nvPr/>
        </p:nvSpPr>
        <p:spPr>
          <a:xfrm>
            <a:off x="8532720" y="1628640"/>
            <a:ext cx="432000" cy="43200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1" name="Прямоугольник 28"/>
          <p:cNvSpPr/>
          <p:nvPr/>
        </p:nvSpPr>
        <p:spPr>
          <a:xfrm>
            <a:off x="7524720" y="3716280"/>
            <a:ext cx="432000" cy="4334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2" name="Прямоугольник 29"/>
          <p:cNvSpPr/>
          <p:nvPr/>
        </p:nvSpPr>
        <p:spPr>
          <a:xfrm>
            <a:off x="4500720" y="4724280"/>
            <a:ext cx="647640" cy="433440"/>
          </a:xfrm>
          <a:prstGeom prst="rect">
            <a:avLst/>
          </a:prstGeom>
          <a:solidFill>
            <a:srgbClr val="fae7d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340000" y="3711600"/>
                <a:ext cx="4064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6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реугольника АВС справедливо равенств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Объект 9"/>
              <p:cNvSpPr txBox="1"/>
              <p:nvPr/>
            </p:nvSpPr>
            <p:spPr>
              <a:xfrm>
                <a:off x="1631880" y="3068640"/>
                <a:ext cx="682632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ВСА</m:t>
                        </m:r>
                      </m:e>
                      <m:e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e>
                      <m:e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соs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АС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Group 32"/>
          <p:cNvGrpSpPr/>
          <p:nvPr/>
        </p:nvGrpSpPr>
        <p:grpSpPr>
          <a:xfrm>
            <a:off x="3131640" y="4966560"/>
            <a:ext cx="2591280" cy="1600920"/>
            <a:chOff x="3131640" y="4966560"/>
            <a:chExt cx="2591280" cy="1600920"/>
          </a:xfrm>
        </p:grpSpPr>
        <p:cxnSp>
          <p:nvCxnSpPr>
            <p:cNvPr id="201" name="AutoShape 26"/>
            <p:cNvCxnSpPr/>
            <p:nvPr/>
          </p:nvCxnSpPr>
          <p:spPr>
            <a:xfrm flipV="1">
              <a:off x="3131640" y="4966920"/>
              <a:ext cx="1753560" cy="158184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202" name="AutoShape 28"/>
            <p:cNvCxnSpPr/>
            <p:nvPr/>
          </p:nvCxnSpPr>
          <p:spPr>
            <a:xfrm flipH="1" flipV="1">
              <a:off x="4884480" y="4966560"/>
              <a:ext cx="838800" cy="160092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</a:ln>
          </p:spPr>
        </p:cxnSp>
        <p:sp>
          <p:nvSpPr>
            <p:cNvPr id="203" name="Line 31"/>
            <p:cNvSpPr/>
            <p:nvPr/>
          </p:nvSpPr>
          <p:spPr>
            <a:xfrm>
              <a:off x="3132000" y="6567480"/>
              <a:ext cx="259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04" name="Text Box 14"/>
          <p:cNvSpPr/>
          <p:nvPr/>
        </p:nvSpPr>
        <p:spPr>
          <a:xfrm>
            <a:off x="2751120" y="6162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4419720" y="47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5722920" y="6110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7" name="Овал 16"/>
          <p:cNvSpPr/>
          <p:nvPr/>
        </p:nvSpPr>
        <p:spPr>
          <a:xfrm>
            <a:off x="971640" y="126828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0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Объект 9"/>
              <p:cNvSpPr txBox="1"/>
              <p:nvPr/>
            </p:nvSpPr>
            <p:spPr>
              <a:xfrm>
                <a:off x="3419640" y="2133720"/>
                <a:ext cx="3450960" cy="27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С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С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E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С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" name="Group 32"/>
          <p:cNvGrpSpPr/>
          <p:nvPr/>
        </p:nvGrpSpPr>
        <p:grpSpPr>
          <a:xfrm>
            <a:off x="3131640" y="4966560"/>
            <a:ext cx="2591280" cy="1600920"/>
            <a:chOff x="3131640" y="4966560"/>
            <a:chExt cx="2591280" cy="1600920"/>
          </a:xfrm>
        </p:grpSpPr>
        <p:cxnSp>
          <p:nvCxnSpPr>
            <p:cNvPr id="214" name="AutoShape 26"/>
            <p:cNvCxnSpPr/>
            <p:nvPr/>
          </p:nvCxnSpPr>
          <p:spPr>
            <a:xfrm flipV="1">
              <a:off x="3131640" y="4966920"/>
              <a:ext cx="1753560" cy="158184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215" name="AutoShape 28"/>
            <p:cNvCxnSpPr/>
            <p:nvPr/>
          </p:nvCxnSpPr>
          <p:spPr>
            <a:xfrm flipH="1" flipV="1">
              <a:off x="4884480" y="4966560"/>
              <a:ext cx="838800" cy="160092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</a:ln>
          </p:spPr>
        </p:cxnSp>
        <p:sp>
          <p:nvSpPr>
            <p:cNvPr id="216" name="Line 31"/>
            <p:cNvSpPr/>
            <p:nvPr/>
          </p:nvSpPr>
          <p:spPr>
            <a:xfrm>
              <a:off x="3132000" y="6567480"/>
              <a:ext cx="259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17" name="Text Box 14"/>
          <p:cNvSpPr/>
          <p:nvPr/>
        </p:nvSpPr>
        <p:spPr>
          <a:xfrm>
            <a:off x="2751120" y="6162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003640" y="4797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5722920" y="6110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0" name="Овал 16"/>
          <p:cNvSpPr/>
          <p:nvPr/>
        </p:nvSpPr>
        <p:spPr>
          <a:xfrm>
            <a:off x="1116000" y="105264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1" name="TextBox 17"/>
          <p:cNvSpPr/>
          <p:nvPr/>
        </p:nvSpPr>
        <p:spPr>
          <a:xfrm>
            <a:off x="2142360" y="1628640"/>
            <a:ext cx="63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реугольника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праведливо равенство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WordArt 2" descr=""/>
          <p:cNvPicPr/>
          <p:nvPr/>
        </p:nvPicPr>
        <p:blipFill>
          <a:blip r:embed="rId1"/>
          <a:stretch/>
        </p:blipFill>
        <p:spPr>
          <a:xfrm>
            <a:off x="1504800" y="365040"/>
            <a:ext cx="6615360" cy="12747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3">
            <a:hlinkClick r:id="" action="ppaction://hlinkshowjump?jump=nextslide"/>
          </p:cNvPr>
          <p:cNvSpPr/>
          <p:nvPr/>
        </p:nvSpPr>
        <p:spPr>
          <a:xfrm>
            <a:off x="8839080" y="66200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8001000" y="6567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реугольнике АВС  длины сторон равны 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Чтобы най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&lt;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до воспользоваться формуло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"/>
              <p:cNvSpPr txBox="1"/>
              <p:nvPr/>
            </p:nvSpPr>
            <p:spPr>
              <a:xfrm>
                <a:off x="1042920" y="2924280"/>
                <a:ext cx="35416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Объект 3"/>
              <p:cNvSpPr txBox="1"/>
              <p:nvPr/>
            </p:nvSpPr>
            <p:spPr>
              <a:xfrm>
                <a:off x="1042920" y="3933720"/>
                <a:ext cx="339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Объект 4"/>
              <p:cNvSpPr txBox="1"/>
              <p:nvPr/>
            </p:nvSpPr>
            <p:spPr>
              <a:xfrm>
                <a:off x="1128600" y="5084640"/>
                <a:ext cx="32990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Овал 16"/>
          <p:cNvSpPr/>
          <p:nvPr/>
        </p:nvSpPr>
        <p:spPr>
          <a:xfrm>
            <a:off x="1116000" y="1052640"/>
            <a:ext cx="914400" cy="9144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4:47:07Z</dcterms:created>
  <dc:creator>Семья Павловых</dc:creator>
  <dc:description/>
  <dc:language>en-US</dc:language>
  <cp:lastModifiedBy>user</cp:lastModifiedBy>
  <dcterms:modified xsi:type="dcterms:W3CDTF">2012-10-17T11:43:32Z</dcterms:modified>
  <cp:revision>179</cp:revision>
  <dc:subject/>
  <dc:title>Презентация PowerPoint</dc:title>
</cp:coreProperties>
</file>