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push.wav" ContentType="audio/x-wav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voltage.wav" ContentType="audio/x-wav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509-001B-470E-A05C-00AB5121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819-86B9-41BE-8BA7-B09837AC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09C-1756-436C-8240-9B79B35C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A3A-CDD7-4696-9BE4-203BC9AF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7DDF9-F37A-49DD-AD51-F1A483BE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3682-57BB-4FE1-A6B7-B4F2DF6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0C661-0E9D-4A2B-BC69-E7B79C8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B6747-4812-4B87-B51B-9D6F4BD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E5413-CA1B-4822-8C6F-342EE1D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4717D-912F-4838-89CE-BB86232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474C-6D3E-42FA-A71D-D19BE1E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040-FEEF-4CFC-85A7-619FC5B6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06CD9-6D10-470C-BB2B-7631E6C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DDAB1-C684-4A44-97ED-C3379762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B6271-FA4B-4AEC-B67B-EF5BD66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84F72-0FD7-4BB0-B25B-0F090B73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83AEA-3780-4058-AFDB-24C26632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BADF-C38A-4F7E-9590-FE0198D8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8D47-0B0A-4F9B-8C60-8EB16C6A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1682-A758-4956-857D-527B6A7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D2D5-ADE7-4A33-9ABB-23C592A6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A14D-C195-4851-9405-1FC52FB5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F08-E208-4C05-9523-95919E85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AE75-91C6-4A64-80A0-85B8EBB1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1215-F317-49A4-863E-4E77CAB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05FB-E913-4C0C-B0B8-F0F369A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AF25-24D5-4007-8744-52D1F58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FEFC-9B8E-4DF3-8A14-D0E7DADA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7489-3D8D-4EA5-8AB4-5C799056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F487-D69D-49E0-B4B3-F1D41F02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2707E-E458-405C-96DA-A3764FD5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5A97A-20EA-406F-9537-42918653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BD7F6-535A-4E68-A976-717E9855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81B-3C25-4FF9-AF88-51986F3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7413B-42B0-47F0-B622-11448DE1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32C9C-484D-46A3-9928-2E034AD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BD85D-D734-428B-81F3-E5474F80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0311F-240C-407E-B66C-1AFB766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5B87E-EAEB-4C7A-8CF9-8DCE149F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C8738-7DB8-4C1A-969D-DBF36AF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6029E-E893-46C6-8581-157D4EE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976D1-33FD-4F98-8C64-E8D484E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400EA-9E5F-4235-9CF4-3C8D83A1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A73-2D5A-4EBE-AED4-9F67624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1DD-F9DC-466F-A949-AC66BA3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804-B1C1-423F-B5C6-C705E0E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AE1-4DE2-498A-81EC-B9A970C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53E-2D32-4440-A6C5-837DFE0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77F4-C142-4623-9117-EBF0CD7687BB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586-D7B3-470F-A40A-526FBD5FC92A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298-9392-4E4D-9D1F-471395955292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9F5-7ED2-4551-B59B-43B912787EAC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231840" y="365040"/>
            <a:ext cx="8435880" cy="1139760"/>
          </a:xfrm>
          <a:prstGeom prst="rect">
            <a:avLst/>
          </a:prstGeom>
          <a:ln w="0">
            <a:noFill/>
          </a:ln>
        </p:spPr>
      </p:pic>
      <p:pic>
        <p:nvPicPr>
          <p:cNvPr id="171" name="ВИА Гра - Поцелуи intro.mp3" descr=""/>
          <p:cNvPicPr/>
          <p:nvPr/>
        </p:nvPicPr>
        <p:blipFill>
          <a:blip r:embed="rId2"/>
          <a:stretch/>
        </p:blipFill>
        <p:spPr>
          <a:xfrm>
            <a:off x="87152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Лента лицом вниз 9"/>
          <p:cNvSpPr/>
          <p:nvPr/>
        </p:nvSpPr>
        <p:spPr>
          <a:xfrm>
            <a:off x="214200" y="1785960"/>
            <a:ext cx="8786880" cy="3500280"/>
          </a:xfrm>
          <a:custGeom>
            <a:avLst/>
            <a:gdLst>
              <a:gd name="textAreaLeft" fmla="*/ 2228400 w 8786880"/>
              <a:gd name="textAreaRight" fmla="*/ 6558480 w 8786880"/>
              <a:gd name="textAreaTop" fmla="*/ 62100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503" y="0"/>
                </a:lnTo>
                <a:arcTo wR="675" hR="958" stAng="16200000" swAng="5400000"/>
                <a:lnTo>
                  <a:pt x="8178" y="3833"/>
                </a:lnTo>
                <a:lnTo>
                  <a:pt x="13422" y="3833"/>
                </a:lnTo>
                <a:lnTo>
                  <a:pt x="13422" y="958"/>
                </a:lnTo>
                <a:arcTo wR="675" hR="958" stAng="10800000" swAng="5400000"/>
                <a:lnTo>
                  <a:pt x="21600" y="0"/>
                </a:lnTo>
                <a:lnTo>
                  <a:pt x="18900" y="8884"/>
                </a:lnTo>
                <a:lnTo>
                  <a:pt x="21600" y="17767"/>
                </a:lnTo>
                <a:lnTo>
                  <a:pt x="16122" y="17767"/>
                </a:lnTo>
                <a:lnTo>
                  <a:pt x="16122" y="20642"/>
                </a:lnTo>
                <a:arcTo wR="675" hR="958" stAng="0" swAng="5400000"/>
                <a:lnTo>
                  <a:pt x="6153" y="21600"/>
                </a:lnTo>
                <a:arcTo wR="675" hR="958" stAng="5400000" swAng="5400000"/>
                <a:lnTo>
                  <a:pt x="5478" y="17767"/>
                </a:lnTo>
                <a:lnTo>
                  <a:pt x="0" y="17767"/>
                </a:lnTo>
                <a:lnTo>
                  <a:pt x="2700" y="8884"/>
                </a:lnTo>
                <a:close/>
              </a:path>
              <a:path fill="none" w="21600" h="21600">
                <a:moveTo>
                  <a:pt x="8178" y="958"/>
                </a:moveTo>
                <a:arcTo wR="675" hR="958" stAng="0" swAng="5400000"/>
                <a:lnTo>
                  <a:pt x="6153" y="1917"/>
                </a:lnTo>
                <a:arcTo wR="675" hR="958" stAng="16200000" swAng="-5400000"/>
                <a:arcTo wR="675" hR="958" stAng="10800000" swAng="-5400000"/>
                <a:lnTo>
                  <a:pt x="8178" y="3833"/>
                </a:lnTo>
              </a:path>
              <a:path fill="none" w="21600" h="21600">
                <a:moveTo>
                  <a:pt x="13422" y="958"/>
                </a:moveTo>
                <a:arcTo wR="675" hR="958" stAng="10800000" swAng="-5400000"/>
                <a:lnTo>
                  <a:pt x="15447" y="1917"/>
                </a:lnTo>
                <a:arcTo wR="675" hR="958" stAng="16200000" swAng="5400000"/>
                <a:arcTo wR="675" hR="958" stAng="0" swAng="5400000"/>
                <a:lnTo>
                  <a:pt x="13422" y="3833"/>
                </a:lnTo>
              </a:path>
              <a:path fill="none" w="21600" h="21600">
                <a:moveTo>
                  <a:pt x="5478" y="2875"/>
                </a:moveTo>
                <a:lnTo>
                  <a:pt x="5478" y="17767"/>
                </a:lnTo>
              </a:path>
              <a:path fill="none" w="21600" h="21600">
                <a:moveTo>
                  <a:pt x="16122" y="2875"/>
                </a:moveTo>
                <a:lnTo>
                  <a:pt x="16122" y="17767"/>
                </a:lnTo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d9d9d9"/>
                </a:solidFill>
                <a:latin typeface="Constantia"/>
              </a:rPr>
              <a:t>Объемы многогранник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214200" y="564372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еподаватель геометрии </a:t>
            </a:r>
            <a:r>
              <a:rPr b="0" i="1" lang="ru-RU" sz="2400" spc="-1" strike="noStrike">
                <a:solidFill>
                  <a:srgbClr val="7d9263"/>
                </a:solidFill>
                <a:latin typeface="Monotype Corsiva"/>
              </a:rPr>
              <a:t>Алтунина Н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d9263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7d9263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7d9263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7d9263"/>
                </a:solidFill>
                <a:latin typeface="Monotype Corsiva"/>
              </a:rPr>
              <a:t>                 </a:t>
            </a:r>
            <a:r>
              <a:rPr b="0" i="1" lang="ru-RU" sz="2400" spc="-1" strike="noStrike">
                <a:solidFill>
                  <a:srgbClr val="7d9263"/>
                </a:solidFill>
                <a:latin typeface="Monotype Corsiva"/>
              </a:rPr>
              <a:t>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607600" cy="11955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500040" y="1714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Простое</a:t>
            </a: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тело</a:t>
            </a: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тело, которое можно разбить на конечное число треугольных пирам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00040" y="2286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Объем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это положительная величина, численное значение которой обладает следующими свойств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071880" y="3071880"/>
            <a:ext cx="3143160" cy="173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onstantia"/>
              </a:rPr>
              <a:t>2) Если тело разбито на части, являющиеся простыми телами, то объем этого тела равен сумме объемов его ч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215040" y="3071880"/>
            <a:ext cx="2928960" cy="1191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onstantia"/>
              </a:rPr>
              <a:t>3) Объем куба, ребро которого равно единице длины, равен еди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642960" y="31431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onstantia"/>
              </a:rPr>
              <a:t>1) Равные тела имеют равные объ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a4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a4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a4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3"/>
          <p:cNvSpPr/>
          <p:nvPr/>
        </p:nvSpPr>
        <p:spPr>
          <a:xfrm>
            <a:off x="357120" y="1928880"/>
            <a:ext cx="8572680" cy="3459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мы параллелепипедов. Разобьем ребро 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аллелепипеда Р на большое числ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авных частей. 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дая из них равна        . Пуст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 –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исло точек деления, леж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щих на ребре А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Тогда                                  . Отс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едем через точки деления плоскости, параллельные 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анию. Они разобьют параллелепипед Р на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вных пара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лепипедов. Каждый из них имеет объем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араллелепип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держит первы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араллелепипедов, считая снизу, и со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жится в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+1 параллелепипедах. Поэтому                            . О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ю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(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50428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82" name="Группа 34"/>
          <p:cNvGrpSpPr/>
          <p:nvPr/>
        </p:nvGrpSpPr>
        <p:grpSpPr>
          <a:xfrm>
            <a:off x="6786720" y="1928880"/>
            <a:ext cx="2357280" cy="3643200"/>
            <a:chOff x="6786720" y="1928880"/>
            <a:chExt cx="2357280" cy="3643200"/>
          </a:xfrm>
        </p:grpSpPr>
        <p:grpSp>
          <p:nvGrpSpPr>
            <p:cNvPr id="183" name="Группа 29"/>
            <p:cNvGrpSpPr/>
            <p:nvPr/>
          </p:nvGrpSpPr>
          <p:grpSpPr>
            <a:xfrm>
              <a:off x="6786720" y="1928880"/>
              <a:ext cx="2357280" cy="3440160"/>
              <a:chOff x="6786720" y="1928880"/>
              <a:chExt cx="2357280" cy="3440160"/>
            </a:xfrm>
          </p:grpSpPr>
          <p:sp>
            <p:nvSpPr>
              <p:cNvPr id="184" name="Параллелограмм 5"/>
              <p:cNvSpPr/>
              <p:nvPr/>
            </p:nvSpPr>
            <p:spPr>
              <a:xfrm>
                <a:off x="7143840" y="442908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/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Параллелограмм 9"/>
              <p:cNvSpPr/>
              <p:nvPr/>
            </p:nvSpPr>
            <p:spPr>
              <a:xfrm>
                <a:off x="7143840" y="192888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Параллелограмм 10"/>
              <p:cNvSpPr/>
              <p:nvPr/>
            </p:nvSpPr>
            <p:spPr>
              <a:xfrm>
                <a:off x="7143840" y="228600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Параллелограмм 11"/>
              <p:cNvSpPr/>
              <p:nvPr/>
            </p:nvSpPr>
            <p:spPr>
              <a:xfrm>
                <a:off x="7143840" y="264312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араллелограмм 12"/>
              <p:cNvSpPr/>
              <p:nvPr/>
            </p:nvSpPr>
            <p:spPr>
              <a:xfrm>
                <a:off x="7143840" y="307188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Параллелограмм 13"/>
              <p:cNvSpPr/>
              <p:nvPr/>
            </p:nvSpPr>
            <p:spPr>
              <a:xfrm>
                <a:off x="7143840" y="342900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Параллелограмм 14"/>
              <p:cNvSpPr/>
              <p:nvPr/>
            </p:nvSpPr>
            <p:spPr>
              <a:xfrm>
                <a:off x="7143840" y="378612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Параллелограмм 15"/>
              <p:cNvSpPr/>
              <p:nvPr/>
            </p:nvSpPr>
            <p:spPr>
              <a:xfrm>
                <a:off x="7143840" y="4143600"/>
                <a:ext cx="1714320" cy="642960"/>
              </a:xfrm>
              <a:prstGeom prst="parallelogram">
                <a:avLst>
                  <a:gd name="adj" fmla="val 64016"/>
                </a:avLst>
              </a:prstGeom>
              <a:solidFill>
                <a:srgbClr val="a5b592">
                  <a:alpha val="2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Прямая соединительная линия 18"/>
              <p:cNvSpPr/>
              <p:nvPr/>
            </p:nvSpPr>
            <p:spPr>
              <a:xfrm flipH="1">
                <a:off x="7143840" y="2573280"/>
                <a:ext cx="1440" cy="2498760"/>
              </a:xfrm>
              <a:prstGeom prst="line">
                <a:avLst/>
              </a:prstGeom>
              <a:ln w="2844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Прямая соединительная линия 20"/>
              <p:cNvSpPr/>
              <p:nvPr/>
            </p:nvSpPr>
            <p:spPr>
              <a:xfrm flipH="1">
                <a:off x="8429760" y="2571840"/>
                <a:ext cx="1440" cy="2500200"/>
              </a:xfrm>
              <a:prstGeom prst="line">
                <a:avLst/>
              </a:prstGeom>
              <a:ln w="2844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Прямая соединительная линия 21"/>
              <p:cNvSpPr/>
              <p:nvPr/>
            </p:nvSpPr>
            <p:spPr>
              <a:xfrm flipH="1">
                <a:off x="8858520" y="1928880"/>
                <a:ext cx="1440" cy="2500200"/>
              </a:xfrm>
              <a:prstGeom prst="line">
                <a:avLst/>
              </a:prstGeom>
              <a:ln w="2844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Прямая соединительная линия 22"/>
              <p:cNvSpPr/>
              <p:nvPr/>
            </p:nvSpPr>
            <p:spPr>
              <a:xfrm flipH="1">
                <a:off x="7572240" y="1928880"/>
                <a:ext cx="1440" cy="2500200"/>
              </a:xfrm>
              <a:prstGeom prst="line">
                <a:avLst/>
              </a:prstGeom>
              <a:ln w="2844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23"/>
              <p:cNvSpPr/>
              <p:nvPr/>
            </p:nvSpPr>
            <p:spPr>
              <a:xfrm>
                <a:off x="7429680" y="4357800"/>
                <a:ext cx="35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onstantia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24"/>
              <p:cNvSpPr/>
              <p:nvPr/>
            </p:nvSpPr>
            <p:spPr>
              <a:xfrm>
                <a:off x="6858000" y="5000760"/>
                <a:ext cx="35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onstanti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25"/>
              <p:cNvSpPr/>
              <p:nvPr/>
            </p:nvSpPr>
            <p:spPr>
              <a:xfrm>
                <a:off x="8786880" y="4286160"/>
                <a:ext cx="35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onstanti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26"/>
              <p:cNvSpPr/>
              <p:nvPr/>
            </p:nvSpPr>
            <p:spPr>
              <a:xfrm>
                <a:off x="8429760" y="5000760"/>
                <a:ext cx="35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nstanti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27"/>
              <p:cNvSpPr/>
              <p:nvPr/>
            </p:nvSpPr>
            <p:spPr>
              <a:xfrm>
                <a:off x="6786720" y="2357280"/>
                <a:ext cx="35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nstanti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28"/>
              <p:cNvSpPr/>
              <p:nvPr/>
            </p:nvSpPr>
            <p:spPr>
              <a:xfrm>
                <a:off x="6786720" y="3071880"/>
                <a:ext cx="428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nstantia"/>
                  </a:rPr>
                  <a:t>E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Лента лицом вниз 30"/>
            <p:cNvSpPr/>
            <p:nvPr/>
          </p:nvSpPr>
          <p:spPr>
            <a:xfrm>
              <a:off x="6858000" y="5286600"/>
              <a:ext cx="1785960" cy="285480"/>
            </a:xfrm>
            <a:custGeom>
              <a:avLst/>
              <a:gdLst>
                <a:gd name="textAreaLeft" fmla="*/ 446400 w 1785960"/>
                <a:gd name="textAreaRight" fmla="*/ 1339560 w 1785960"/>
                <a:gd name="textAreaTop" fmla="*/ 4752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Рисунок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31"/>
          <p:cNvSpPr/>
          <p:nvPr/>
        </p:nvSpPr>
        <p:spPr>
          <a:xfrm>
            <a:off x="357120" y="1357200"/>
            <a:ext cx="83581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 Р и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два прямоугольных параллелепипеда с общим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высотами АЕ и А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Будем считать, что А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Е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исунок 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2928960" y="2786040"/>
                <a:ext cx="1892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АЕ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АЕ</m:t>
                        </m:r>
                        <m:r>
                          <m:t xml:space="preserve">n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00040" y="3071880"/>
                <a:ext cx="1612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n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АЕ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2428920" y="2500200"/>
                <a:ext cx="3556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Е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8"/>
              <p:cNvSpPr txBox="1"/>
              <p:nvPr/>
            </p:nvSpPr>
            <p:spPr>
              <a:xfrm>
                <a:off x="4857840" y="3857760"/>
                <a:ext cx="253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9"/>
              <p:cNvSpPr txBox="1"/>
              <p:nvPr/>
            </p:nvSpPr>
            <p:spPr>
              <a:xfrm>
                <a:off x="428760" y="4214880"/>
                <a:ext cx="177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1"/>
              <p:cNvSpPr txBox="1"/>
              <p:nvPr/>
            </p:nvSpPr>
            <p:spPr>
              <a:xfrm>
                <a:off x="4857840" y="4429080"/>
                <a:ext cx="1562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n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2"/>
              <p:cNvSpPr txBox="1"/>
              <p:nvPr/>
            </p:nvSpPr>
            <p:spPr>
              <a:xfrm>
                <a:off x="1000080" y="46432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Box 35"/>
          <p:cNvSpPr/>
          <p:nvPr/>
        </p:nvSpPr>
        <p:spPr>
          <a:xfrm>
            <a:off x="428760" y="1500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нераве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е нераве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44"/>
          <p:cNvGrpSpPr/>
          <p:nvPr/>
        </p:nvGrpSpPr>
        <p:grpSpPr>
          <a:xfrm>
            <a:off x="285840" y="2643120"/>
            <a:ext cx="6215040" cy="1465560"/>
            <a:chOff x="285840" y="2643120"/>
            <a:chExt cx="6215040" cy="1465560"/>
          </a:xfrm>
        </p:grpSpPr>
        <p:sp>
          <p:nvSpPr>
            <p:cNvPr id="213" name="TextBox 36"/>
            <p:cNvSpPr/>
            <p:nvPr/>
          </p:nvSpPr>
          <p:spPr>
            <a:xfrm>
              <a:off x="285840" y="2643120"/>
              <a:ext cx="6215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 этих неравенств мы видим, что оба числа       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лючены между       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. Поэтому они отличаются не более чем на 1/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. T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как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можно взять сколь угодно большим, то это может быть только при     =        , что и требовалось доказа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35"/>
                <p:cNvSpPr txBox="1"/>
                <p:nvPr/>
              </p:nvSpPr>
              <p:spPr>
                <a:xfrm>
                  <a:off x="5214960" y="2643120"/>
                  <a:ext cx="3045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Object 36"/>
                <p:cNvSpPr txBox="1"/>
                <p:nvPr/>
              </p:nvSpPr>
              <p:spPr>
                <a:xfrm>
                  <a:off x="5786640" y="2643120"/>
                  <a:ext cx="5331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A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37"/>
                <p:cNvSpPr txBox="1"/>
                <p:nvPr/>
              </p:nvSpPr>
              <p:spPr>
                <a:xfrm>
                  <a:off x="2357640" y="2928960"/>
                  <a:ext cx="26640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Object 38"/>
                <p:cNvSpPr txBox="1"/>
                <p:nvPr/>
              </p:nvSpPr>
              <p:spPr>
                <a:xfrm>
                  <a:off x="2928960" y="3000240"/>
                  <a:ext cx="6220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9"/>
                <p:cNvSpPr txBox="1"/>
                <p:nvPr/>
              </p:nvSpPr>
              <p:spPr>
                <a:xfrm>
                  <a:off x="4643640" y="3501000"/>
                  <a:ext cx="3045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40"/>
                <p:cNvSpPr txBox="1"/>
                <p:nvPr/>
              </p:nvSpPr>
              <p:spPr>
                <a:xfrm>
                  <a:off x="5072400" y="3501000"/>
                  <a:ext cx="5331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A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0" name="Группа 52"/>
          <p:cNvGrpSpPr/>
          <p:nvPr/>
        </p:nvGrpSpPr>
        <p:grpSpPr>
          <a:xfrm>
            <a:off x="142920" y="2071800"/>
            <a:ext cx="8643960" cy="1465560"/>
            <a:chOff x="142920" y="2071800"/>
            <a:chExt cx="8643960" cy="1465560"/>
          </a:xfrm>
        </p:grpSpPr>
        <p:sp>
          <p:nvSpPr>
            <p:cNvPr id="221" name="TextBox 45"/>
            <p:cNvSpPr/>
            <p:nvPr/>
          </p:nvSpPr>
          <p:spPr>
            <a:xfrm>
              <a:off x="142920" y="2071800"/>
              <a:ext cx="8429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зьмем куб, который является единицей измерения объема, и три прямоугольных параллелепипеда с измерениям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 1, 1; a, b, 1; a, b, c.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значим их объем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ответственно. По доказанному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ножая эти три неравенства почленно мы получим, чт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= ab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Группа 50"/>
            <p:cNvGrpSpPr/>
            <p:nvPr/>
          </p:nvGrpSpPr>
          <p:grpSpPr>
            <a:xfrm>
              <a:off x="2571840" y="2714400"/>
              <a:ext cx="593640" cy="228240"/>
              <a:chOff x="2571840" y="2714400"/>
              <a:chExt cx="593640" cy="228240"/>
            </a:xfrm>
          </p:grpSpPr>
          <mc:AlternateContent>
            <mc:Choice xmlns:a14="http://schemas.microsoft.com/office/drawing/2010/main" Requires="a14">
              <p:sp>
                <p:nvSpPr>
                  <p:cNvPr id="223" name="Object 42"/>
                  <p:cNvSpPr txBox="1"/>
                  <p:nvPr/>
                </p:nvSpPr>
                <p:spPr>
                  <a:xfrm>
                    <a:off x="2571840" y="2714400"/>
                    <a:ext cx="21564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4" name="Object 43"/>
                  <p:cNvSpPr txBox="1"/>
                  <p:nvPr/>
                </p:nvSpPr>
                <p:spPr>
                  <a:xfrm>
                    <a:off x="2786040" y="2714400"/>
                    <a:ext cx="22860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5" name="Object 44"/>
                  <p:cNvSpPr txBox="1"/>
                  <p:nvPr/>
                </p:nvSpPr>
                <p:spPr>
                  <a:xfrm>
                    <a:off x="3000600" y="2714400"/>
                    <a:ext cx="164880" cy="22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6" name="Object 45"/>
                <p:cNvSpPr txBox="1"/>
                <p:nvPr/>
              </p:nvSpPr>
              <p:spPr>
                <a:xfrm>
                  <a:off x="6786720" y="2643120"/>
                  <a:ext cx="2000160" cy="37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TextBox 53"/>
          <p:cNvSpPr/>
          <p:nvPr/>
        </p:nvSpPr>
        <p:spPr>
          <a:xfrm>
            <a:off x="214200" y="3929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Объем прямоугольного параллелепипеда с линейными размерами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a, b, c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 вычисляется по формуле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V =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0.20869 -0.41666 E">
                                      <p:cBhvr>
                                        <p:cTn id="17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27049 -0.225 E">
                                      <p:cBhvr>
                                        <p:cTn id="174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24"/>
          <p:cNvSpPr/>
          <p:nvPr/>
        </p:nvSpPr>
        <p:spPr>
          <a:xfrm>
            <a:off x="357120" y="1214280"/>
            <a:ext cx="578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меняя еще раз такое преобразование к накл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ым граням получим параллелепипед, у которого все боковые грани перпендикулярны основанию, то есть прямой параллелепи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ученный прямой параллелепипед подвергнем аналогичному преобразованию в прямоугольный параллелепипед, дополняя его сначала призмой 1, затем отсекая призму 2 (рисунок 2 б). Это преобразование также сохраняет объем параллелепипеда, площадь основания и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3992400" y="79200"/>
            <a:ext cx="5207040" cy="1159200"/>
          </a:xfrm>
          <a:prstGeom prst="rect">
            <a:avLst/>
          </a:prstGeom>
          <a:ln w="0">
            <a:noFill/>
          </a:ln>
        </p:spPr>
      </p:pic>
      <p:grpSp>
        <p:nvGrpSpPr>
          <p:cNvPr id="230" name="Группа 86"/>
          <p:cNvGrpSpPr/>
          <p:nvPr/>
        </p:nvGrpSpPr>
        <p:grpSpPr>
          <a:xfrm>
            <a:off x="5938920" y="1214280"/>
            <a:ext cx="3205080" cy="1928880"/>
            <a:chOff x="5938920" y="1214280"/>
            <a:chExt cx="3205080" cy="1928880"/>
          </a:xfrm>
        </p:grpSpPr>
        <p:grpSp>
          <p:nvGrpSpPr>
            <p:cNvPr id="231" name="Группа 80"/>
            <p:cNvGrpSpPr/>
            <p:nvPr/>
          </p:nvGrpSpPr>
          <p:grpSpPr>
            <a:xfrm>
              <a:off x="5938920" y="1214280"/>
              <a:ext cx="3205080" cy="1593000"/>
              <a:chOff x="5938920" y="1214280"/>
              <a:chExt cx="3205080" cy="1593000"/>
            </a:xfrm>
          </p:grpSpPr>
          <p:grpSp>
            <p:nvGrpSpPr>
              <p:cNvPr id="232" name="Группа 67"/>
              <p:cNvGrpSpPr/>
              <p:nvPr/>
            </p:nvGrpSpPr>
            <p:grpSpPr>
              <a:xfrm>
                <a:off x="6296040" y="1499760"/>
                <a:ext cx="2500200" cy="1143000"/>
                <a:chOff x="6296040" y="1499760"/>
                <a:chExt cx="2500200" cy="1143000"/>
              </a:xfrm>
            </p:grpSpPr>
            <p:sp>
              <p:nvSpPr>
                <p:cNvPr id="233" name="Трапеция 6"/>
                <p:cNvSpPr/>
                <p:nvPr/>
              </p:nvSpPr>
              <p:spPr>
                <a:xfrm>
                  <a:off x="6912360" y="1499760"/>
                  <a:ext cx="1674360" cy="744480"/>
                </a:xfrm>
                <a:prstGeom prst="pie">
                  <a:avLst/>
                </a:prstGeom>
                <a:noFill/>
                <a:ln w="38160">
                  <a:solidFill>
                    <a:srgbClr val="788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Трапеция 4"/>
                <p:cNvSpPr/>
                <p:nvPr/>
              </p:nvSpPr>
              <p:spPr>
                <a:xfrm>
                  <a:off x="6563520" y="1838160"/>
                  <a:ext cx="1674360" cy="744480"/>
                </a:xfrm>
                <a:prstGeom prst="pie">
                  <a:avLst/>
                </a:prstGeom>
                <a:solidFill>
                  <a:srgbClr val="a5b592">
                    <a:alpha val="27000"/>
                  </a:srgbClr>
                </a:solidFill>
                <a:ln w="38160">
                  <a:solidFill>
                    <a:srgbClr val="7884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Прямая соединительная линия 8"/>
                <p:cNvSpPr/>
                <p:nvPr/>
              </p:nvSpPr>
              <p:spPr>
                <a:xfrm flipV="1">
                  <a:off x="6562800" y="2244240"/>
                  <a:ext cx="348840" cy="338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prstDash val="dash"/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Прямая соединительная линия 14"/>
                <p:cNvSpPr/>
                <p:nvPr/>
              </p:nvSpPr>
              <p:spPr>
                <a:xfrm flipV="1">
                  <a:off x="8237520" y="2244240"/>
                  <a:ext cx="348840" cy="338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Прямая соединительная линия 16"/>
                <p:cNvSpPr/>
                <p:nvPr/>
              </p:nvSpPr>
              <p:spPr>
                <a:xfrm flipV="1">
                  <a:off x="7958520" y="1499760"/>
                  <a:ext cx="348840" cy="338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Прямая соединительная линия 17"/>
                <p:cNvSpPr/>
                <p:nvPr/>
              </p:nvSpPr>
              <p:spPr>
                <a:xfrm flipV="1">
                  <a:off x="6842160" y="1499760"/>
                  <a:ext cx="348840" cy="338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Трапеция 43"/>
                <p:cNvSpPr/>
                <p:nvPr/>
              </p:nvSpPr>
              <p:spPr>
                <a:xfrm rot="10800000">
                  <a:off x="6703200" y="1499760"/>
                  <a:ext cx="2093040" cy="7444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Прямая соединительная линия 48"/>
                <p:cNvSpPr/>
                <p:nvPr/>
              </p:nvSpPr>
              <p:spPr>
                <a:xfrm>
                  <a:off x="6703200" y="1499760"/>
                  <a:ext cx="2093040" cy="144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1" name="Группа 5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96040" y="1782000"/>
                  <a:ext cx="2214720" cy="86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Прямая соединительная линия 54"/>
                <p:cNvSpPr/>
                <p:nvPr/>
              </p:nvSpPr>
              <p:spPr>
                <a:xfrm flipH="1" flipV="1">
                  <a:off x="6702840" y="1499760"/>
                  <a:ext cx="209160" cy="74448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prstDash val="lgDash"/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Прямая соединительная линия 56"/>
                <p:cNvSpPr/>
                <p:nvPr/>
              </p:nvSpPr>
              <p:spPr>
                <a:xfrm flipV="1">
                  <a:off x="8586360" y="1499760"/>
                  <a:ext cx="209160" cy="74448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Прямая соединительная линия 65"/>
                <p:cNvSpPr/>
                <p:nvPr/>
              </p:nvSpPr>
              <p:spPr>
                <a:xfrm flipV="1">
                  <a:off x="6353640" y="1499760"/>
                  <a:ext cx="348840" cy="338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Прямая соединительная линия 66"/>
                <p:cNvSpPr/>
                <p:nvPr/>
              </p:nvSpPr>
              <p:spPr>
                <a:xfrm flipV="1">
                  <a:off x="8446680" y="1499760"/>
                  <a:ext cx="348840" cy="338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TextBox 68"/>
              <p:cNvSpPr/>
              <p:nvPr/>
            </p:nvSpPr>
            <p:spPr>
              <a:xfrm>
                <a:off x="6224400" y="250020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69"/>
              <p:cNvSpPr/>
              <p:nvPr/>
            </p:nvSpPr>
            <p:spPr>
              <a:xfrm>
                <a:off x="6796080" y="2214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70"/>
              <p:cNvSpPr/>
              <p:nvPr/>
            </p:nvSpPr>
            <p:spPr>
              <a:xfrm>
                <a:off x="8582040" y="207144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71"/>
              <p:cNvSpPr/>
              <p:nvPr/>
            </p:nvSpPr>
            <p:spPr>
              <a:xfrm>
                <a:off x="8224920" y="250020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72"/>
              <p:cNvSpPr/>
              <p:nvPr/>
            </p:nvSpPr>
            <p:spPr>
              <a:xfrm>
                <a:off x="7653240" y="157140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73"/>
              <p:cNvSpPr/>
              <p:nvPr/>
            </p:nvSpPr>
            <p:spPr>
              <a:xfrm>
                <a:off x="8082000" y="157140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74"/>
              <p:cNvSpPr/>
              <p:nvPr/>
            </p:nvSpPr>
            <p:spPr>
              <a:xfrm>
                <a:off x="8010720" y="121428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5"/>
              <p:cNvSpPr/>
              <p:nvPr/>
            </p:nvSpPr>
            <p:spPr>
              <a:xfrm>
                <a:off x="7010280" y="121428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76"/>
              <p:cNvSpPr/>
              <p:nvPr/>
            </p:nvSpPr>
            <p:spPr>
              <a:xfrm>
                <a:off x="6367320" y="121428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Box 77"/>
              <p:cNvSpPr/>
              <p:nvPr/>
            </p:nvSpPr>
            <p:spPr>
              <a:xfrm>
                <a:off x="5938920" y="171432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78"/>
              <p:cNvSpPr/>
              <p:nvPr/>
            </p:nvSpPr>
            <p:spPr>
              <a:xfrm>
                <a:off x="6867360" y="157140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Box 79"/>
              <p:cNvSpPr/>
              <p:nvPr/>
            </p:nvSpPr>
            <p:spPr>
              <a:xfrm>
                <a:off x="8653680" y="1214280"/>
                <a:ext cx="490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Лента лицом вниз 85"/>
            <p:cNvSpPr/>
            <p:nvPr/>
          </p:nvSpPr>
          <p:spPr>
            <a:xfrm>
              <a:off x="6438960" y="2786040"/>
              <a:ext cx="2143080" cy="357120"/>
            </a:xfrm>
            <a:custGeom>
              <a:avLst/>
              <a:gdLst>
                <a:gd name="textAreaLeft" fmla="*/ 535680 w 2143080"/>
                <a:gd name="textAreaRight" fmla="*/ 1607400 w 2143080"/>
                <a:gd name="textAreaTop" fmla="*/ 5940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Рисунок </a:t>
              </a:r>
              <a:r>
                <a:rPr b="0" lang="en-US" sz="1100" spc="-1" strike="noStrike">
                  <a:solidFill>
                    <a:srgbClr val="ffffff"/>
                  </a:solidFill>
                  <a:latin typeface="Constantia"/>
                </a:rPr>
                <a:t>2 (a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87"/>
          <p:cNvSpPr/>
          <p:nvPr/>
        </p:nvSpPr>
        <p:spPr>
          <a:xfrm>
            <a:off x="285840" y="1214280"/>
            <a:ext cx="600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йдем объем наклонного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CD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рисунок 2 а-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9"/>
          <p:cNvSpPr/>
          <p:nvPr/>
        </p:nvSpPr>
        <p:spPr>
          <a:xfrm>
            <a:off x="357120" y="1857240"/>
            <a:ext cx="578664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едем через ребро ВС плоскость, перпендику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ярную основанию АВ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 дополним наклонный параллелепипед треугольной призмой 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рисунок 2а). Отсечем теперь от полученного тела треугольную призму плоскостью, проходящей через ребр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перпендикулярной основанию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Тогда получим снова параллелепипед, который имеет объем равный объему исходного параллеле- пипе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остроенная призма и отсекаемая совмещаются параллельным переносом на отрезок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ни имеют одинаковые объемы. При описанном преобразовании параллелепипеда сохраняются его высота и площадь основания. Также сохраняются плоскости двух боковых граней, а две другие с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ятся перпендикулярными осн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Группа 90"/>
          <p:cNvGrpSpPr/>
          <p:nvPr/>
        </p:nvGrpSpPr>
        <p:grpSpPr>
          <a:xfrm>
            <a:off x="6287400" y="4500720"/>
            <a:ext cx="2498400" cy="1928520"/>
            <a:chOff x="6287400" y="4500720"/>
            <a:chExt cx="2498400" cy="1928520"/>
          </a:xfrm>
        </p:grpSpPr>
        <p:pic>
          <p:nvPicPr>
            <p:cNvPr id="262" name="Трапеция 91" descr=""/>
            <p:cNvPicPr/>
            <p:nvPr/>
          </p:nvPicPr>
          <p:blipFill>
            <a:blip r:embed="rId3"/>
            <a:stretch/>
          </p:blipFill>
          <p:spPr>
            <a:xfrm>
              <a:off x="6687360" y="4809600"/>
              <a:ext cx="166428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Прямая соединительная линия 92"/>
            <p:cNvSpPr/>
            <p:nvPr/>
          </p:nvSpPr>
          <p:spPr>
            <a:xfrm flipV="1">
              <a:off x="6638400" y="4857480"/>
              <a:ext cx="353880" cy="5000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рямая соединительная линия 93"/>
            <p:cNvSpPr/>
            <p:nvPr/>
          </p:nvSpPr>
          <p:spPr>
            <a:xfrm flipH="1" flipV="1">
              <a:off x="7981920" y="4857480"/>
              <a:ext cx="168120" cy="48708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94"/>
            <p:cNvSpPr/>
            <p:nvPr/>
          </p:nvSpPr>
          <p:spPr>
            <a:xfrm>
              <a:off x="6639120" y="5357880"/>
              <a:ext cx="1484280" cy="14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Трапеция 95" descr=""/>
            <p:cNvPicPr/>
            <p:nvPr/>
          </p:nvPicPr>
          <p:blipFill>
            <a:blip r:embed="rId4"/>
            <a:stretch/>
          </p:blipFill>
          <p:spPr>
            <a:xfrm>
              <a:off x="6614280" y="5309640"/>
              <a:ext cx="167040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Прямая соединительная линия 96"/>
            <p:cNvSpPr/>
            <p:nvPr/>
          </p:nvSpPr>
          <p:spPr>
            <a:xfrm flipV="1">
              <a:off x="6638400" y="5357520"/>
              <a:ext cx="353880" cy="500040"/>
            </a:xfrm>
            <a:prstGeom prst="line">
              <a:avLst/>
            </a:prstGeom>
            <a:ln w="38160">
              <a:solidFill>
                <a:srgbClr val="7d9263"/>
              </a:solidFill>
              <a:prstDash val="lg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97"/>
            <p:cNvSpPr/>
            <p:nvPr/>
          </p:nvSpPr>
          <p:spPr>
            <a:xfrm flipH="1" flipV="1">
              <a:off x="7981920" y="5357520"/>
              <a:ext cx="168120" cy="487080"/>
            </a:xfrm>
            <a:prstGeom prst="line">
              <a:avLst/>
            </a:prstGeom>
            <a:ln w="38160">
              <a:solidFill>
                <a:srgbClr val="7d9263"/>
              </a:solidFill>
              <a:prstDash val="lg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98"/>
            <p:cNvSpPr/>
            <p:nvPr/>
          </p:nvSpPr>
          <p:spPr>
            <a:xfrm>
              <a:off x="6639120" y="5857920"/>
              <a:ext cx="1484280" cy="14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99"/>
            <p:cNvSpPr/>
            <p:nvPr/>
          </p:nvSpPr>
          <p:spPr>
            <a:xfrm flipH="1">
              <a:off x="6991560" y="4859280"/>
              <a:ext cx="1440" cy="500040"/>
            </a:xfrm>
            <a:prstGeom prst="line">
              <a:avLst/>
            </a:prstGeom>
            <a:ln w="38160">
              <a:solidFill>
                <a:srgbClr val="7d92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00"/>
            <p:cNvSpPr/>
            <p:nvPr/>
          </p:nvSpPr>
          <p:spPr>
            <a:xfrm flipH="1">
              <a:off x="7980480" y="4859280"/>
              <a:ext cx="1440" cy="500040"/>
            </a:xfrm>
            <a:prstGeom prst="line">
              <a:avLst/>
            </a:prstGeom>
            <a:ln w="38160">
              <a:solidFill>
                <a:srgbClr val="7d92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ая соединительная линия 101"/>
            <p:cNvSpPr/>
            <p:nvPr/>
          </p:nvSpPr>
          <p:spPr>
            <a:xfrm flipH="1">
              <a:off x="6639120" y="5359320"/>
              <a:ext cx="1440" cy="5000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ая соединительная линия 102"/>
            <p:cNvSpPr/>
            <p:nvPr/>
          </p:nvSpPr>
          <p:spPr>
            <a:xfrm flipH="1">
              <a:off x="8123400" y="5357880"/>
              <a:ext cx="1440" cy="5000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Группа 54" descr=""/>
            <p:cNvPicPr/>
            <p:nvPr/>
          </p:nvPicPr>
          <p:blipFill>
            <a:blip r:embed="rId5"/>
            <a:stretch/>
          </p:blipFill>
          <p:spPr>
            <a:xfrm>
              <a:off x="6492240" y="4797360"/>
              <a:ext cx="2042280" cy="63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Группа 59" descr=""/>
            <p:cNvPicPr/>
            <p:nvPr/>
          </p:nvPicPr>
          <p:blipFill>
            <a:blip r:embed="rId6"/>
            <a:stretch/>
          </p:blipFill>
          <p:spPr>
            <a:xfrm>
              <a:off x="6492240" y="5297400"/>
              <a:ext cx="2042280" cy="6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Прямая соединительная линия 105"/>
            <p:cNvSpPr/>
            <p:nvPr/>
          </p:nvSpPr>
          <p:spPr>
            <a:xfrm flipH="1">
              <a:off x="8475840" y="4857840"/>
              <a:ext cx="1440" cy="5000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06"/>
            <p:cNvSpPr/>
            <p:nvPr/>
          </p:nvSpPr>
          <p:spPr>
            <a:xfrm flipH="1">
              <a:off x="6569280" y="4857840"/>
              <a:ext cx="1440" cy="500040"/>
            </a:xfrm>
            <a:prstGeom prst="line">
              <a:avLst/>
            </a:prstGeom>
            <a:ln w="38160">
              <a:solidFill>
                <a:srgbClr val="7d926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07"/>
            <p:cNvSpPr/>
            <p:nvPr/>
          </p:nvSpPr>
          <p:spPr>
            <a:xfrm>
              <a:off x="6287400" y="57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108"/>
            <p:cNvSpPr/>
            <p:nvPr/>
          </p:nvSpPr>
          <p:spPr>
            <a:xfrm>
              <a:off x="6852240" y="5357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09"/>
            <p:cNvSpPr/>
            <p:nvPr/>
          </p:nvSpPr>
          <p:spPr>
            <a:xfrm>
              <a:off x="8476920" y="514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10"/>
            <p:cNvSpPr/>
            <p:nvPr/>
          </p:nvSpPr>
          <p:spPr>
            <a:xfrm>
              <a:off x="8194320" y="5715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Блок-схема: узел 111"/>
            <p:cNvSpPr/>
            <p:nvPr/>
          </p:nvSpPr>
          <p:spPr>
            <a:xfrm>
              <a:off x="6639120" y="4500720"/>
              <a:ext cx="353880" cy="314280"/>
            </a:xfrm>
            <a:prstGeom prst="flowChartConnector">
              <a:avLst/>
            </a:pr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Блок-схема: узел 112"/>
            <p:cNvSpPr/>
            <p:nvPr/>
          </p:nvSpPr>
          <p:spPr>
            <a:xfrm>
              <a:off x="8052120" y="4500720"/>
              <a:ext cx="353880" cy="314280"/>
            </a:xfrm>
            <a:prstGeom prst="flowChartConnector">
              <a:avLst/>
            </a:pr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Лента лицом вниз 113"/>
            <p:cNvSpPr/>
            <p:nvPr/>
          </p:nvSpPr>
          <p:spPr>
            <a:xfrm>
              <a:off x="6427800" y="6072120"/>
              <a:ext cx="2119320" cy="357120"/>
            </a:xfrm>
            <a:custGeom>
              <a:avLst/>
              <a:gdLst>
                <a:gd name="textAreaLeft" fmla="*/ 529920 w 2119320"/>
                <a:gd name="textAreaRight" fmla="*/ 1589760 w 2119320"/>
                <a:gd name="textAreaTop" fmla="*/ 5940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Рисунок </a:t>
              </a:r>
              <a:r>
                <a:rPr b="0" lang="en-US" sz="1100" spc="-1" strike="noStrike">
                  <a:solidFill>
                    <a:srgbClr val="ffffff"/>
                  </a:solidFill>
                  <a:latin typeface="Constantia"/>
                </a:rPr>
                <a:t>2 (</a:t>
              </a: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б</a:t>
              </a:r>
              <a:r>
                <a:rPr b="0" lang="en-US" sz="1100" spc="-1" strike="noStrike">
                  <a:solidFill>
                    <a:srgbClr val="ffffff"/>
                  </a:solidFill>
                  <a:latin typeface="Constantia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125"/>
          <p:cNvSpPr/>
          <p:nvPr/>
        </p:nvSpPr>
        <p:spPr>
          <a:xfrm>
            <a:off x="285840" y="414324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м прямоугольного параллелепипеда равен произведению его измерений. Произведение двух измерений есть площадь основания параллелепипеда, а третье измерение – его вы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ким образом, у прямоугольного параллелепипеда объем равен произведению площади основания на высоту, так как при описанном выше преобразовании данного параллелепипеда в прямоуольный каждый раз сохраняются объем, площадь основания и высота, то и у исходного параллелепипеда объем равен площади основания на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6"/>
          <p:cNvSpPr/>
          <p:nvPr/>
        </p:nvSpPr>
        <p:spPr>
          <a:xfrm>
            <a:off x="285840" y="250020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Итак, объем любого параллелепипеда равен произведению объема основания на вы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-0.00277 -0.47523 E">
                                      <p:cBhvr>
                                        <p:cTn id="259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53"/>
          <p:cNvSpPr/>
          <p:nvPr/>
        </p:nvSpPr>
        <p:spPr>
          <a:xfrm>
            <a:off x="357120" y="1928880"/>
            <a:ext cx="850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Объем любой призмы р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вен произведению площ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nstantia"/>
              </a:rPr>
              <a:t>ди ее основания на высот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172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89" name="Группа 116"/>
          <p:cNvGrpSpPr/>
          <p:nvPr/>
        </p:nvGrpSpPr>
        <p:grpSpPr>
          <a:xfrm>
            <a:off x="6330240" y="1285920"/>
            <a:ext cx="2456640" cy="2643120"/>
            <a:chOff x="6330240" y="1285920"/>
            <a:chExt cx="2456640" cy="2643120"/>
          </a:xfrm>
        </p:grpSpPr>
        <p:grpSp>
          <p:nvGrpSpPr>
            <p:cNvPr id="290" name="Группа 114"/>
            <p:cNvGrpSpPr/>
            <p:nvPr/>
          </p:nvGrpSpPr>
          <p:grpSpPr>
            <a:xfrm>
              <a:off x="6330240" y="1285920"/>
              <a:ext cx="2456640" cy="2393280"/>
              <a:chOff x="6330240" y="1285920"/>
              <a:chExt cx="2456640" cy="2393280"/>
            </a:xfrm>
          </p:grpSpPr>
          <p:sp>
            <p:nvSpPr>
              <p:cNvPr id="291" name="Куб 83"/>
              <p:cNvSpPr/>
              <p:nvPr/>
            </p:nvSpPr>
            <p:spPr>
              <a:xfrm>
                <a:off x="6613560" y="1538280"/>
                <a:ext cx="2173320" cy="1895760"/>
              </a:xfrm>
              <a:prstGeom prst="cube">
                <a:avLst>
                  <a:gd name="adj" fmla="val 46333"/>
                </a:avLst>
              </a:prstGeom>
              <a:solidFill>
                <a:srgbClr val="a5b592">
                  <a:alpha val="60000"/>
                </a:srgbClr>
              </a:solidFill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Прямая соединительная линия 85"/>
              <p:cNvSpPr/>
              <p:nvPr/>
            </p:nvSpPr>
            <p:spPr>
              <a:xfrm>
                <a:off x="7508880" y="1539720"/>
                <a:ext cx="0" cy="100980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Прямая соединительная линия 87"/>
              <p:cNvSpPr/>
              <p:nvPr/>
            </p:nvSpPr>
            <p:spPr>
              <a:xfrm flipV="1">
                <a:off x="6612840" y="2549520"/>
                <a:ext cx="895320" cy="88416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Прямая соединительная линия 89"/>
              <p:cNvSpPr/>
              <p:nvPr/>
            </p:nvSpPr>
            <p:spPr>
              <a:xfrm>
                <a:off x="7508880" y="2549520"/>
                <a:ext cx="1278000" cy="144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Прямая соединительная линия 92"/>
              <p:cNvSpPr/>
              <p:nvPr/>
            </p:nvSpPr>
            <p:spPr>
              <a:xfrm>
                <a:off x="7508880" y="1538280"/>
                <a:ext cx="382320" cy="189576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Прямая соединительная линия 96"/>
              <p:cNvSpPr/>
              <p:nvPr/>
            </p:nvSpPr>
            <p:spPr>
              <a:xfrm flipV="1">
                <a:off x="7508880" y="2422800"/>
                <a:ext cx="382320" cy="12672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Прямая соединительная линия 101"/>
              <p:cNvSpPr/>
              <p:nvPr/>
            </p:nvSpPr>
            <p:spPr>
              <a:xfrm flipV="1">
                <a:off x="7508880" y="2486160"/>
                <a:ext cx="191880" cy="6336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Прямая соединительная линия 103"/>
              <p:cNvSpPr/>
              <p:nvPr/>
            </p:nvSpPr>
            <p:spPr>
              <a:xfrm>
                <a:off x="7508880" y="2549520"/>
                <a:ext cx="382320" cy="88416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Прямая соединительная линия 106"/>
              <p:cNvSpPr/>
              <p:nvPr/>
            </p:nvSpPr>
            <p:spPr>
              <a:xfrm>
                <a:off x="7508880" y="1538280"/>
                <a:ext cx="382320" cy="884160"/>
              </a:xfrm>
              <a:prstGeom prst="line">
                <a:avLst/>
              </a:prstGeom>
              <a:ln w="3816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107"/>
              <p:cNvSpPr/>
              <p:nvPr/>
            </p:nvSpPr>
            <p:spPr>
              <a:xfrm>
                <a:off x="6342480" y="3245040"/>
                <a:ext cx="30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108"/>
              <p:cNvSpPr/>
              <p:nvPr/>
            </p:nvSpPr>
            <p:spPr>
              <a:xfrm>
                <a:off x="7298640" y="2360880"/>
                <a:ext cx="29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109"/>
              <p:cNvSpPr/>
              <p:nvPr/>
            </p:nvSpPr>
            <p:spPr>
              <a:xfrm>
                <a:off x="6330240" y="2233800"/>
                <a:ext cx="36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А</a:t>
                </a:r>
                <a:r>
                  <a:rPr b="0" lang="ru-RU" sz="14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10"/>
              <p:cNvSpPr/>
              <p:nvPr/>
            </p:nvSpPr>
            <p:spPr>
              <a:xfrm>
                <a:off x="7221960" y="1285920"/>
                <a:ext cx="356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В</a:t>
                </a:r>
                <a:r>
                  <a:rPr b="0" lang="ru-RU" sz="14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11"/>
              <p:cNvSpPr/>
              <p:nvPr/>
            </p:nvSpPr>
            <p:spPr>
              <a:xfrm>
                <a:off x="7868880" y="2297160"/>
                <a:ext cx="348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С</a:t>
                </a:r>
                <a:r>
                  <a:rPr b="0" lang="ru-RU" sz="14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12"/>
              <p:cNvSpPr/>
              <p:nvPr/>
            </p:nvSpPr>
            <p:spPr>
              <a:xfrm>
                <a:off x="7881120" y="3372120"/>
                <a:ext cx="29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113"/>
              <p:cNvSpPr/>
              <p:nvPr/>
            </p:nvSpPr>
            <p:spPr>
              <a:xfrm>
                <a:off x="7499160" y="248616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Лента лицом вниз 115"/>
            <p:cNvSpPr/>
            <p:nvPr/>
          </p:nvSpPr>
          <p:spPr>
            <a:xfrm>
              <a:off x="6786360" y="3643560"/>
              <a:ext cx="1785960" cy="285480"/>
            </a:xfrm>
            <a:custGeom>
              <a:avLst/>
              <a:gdLst>
                <a:gd name="textAreaLeft" fmla="*/ 446400 w 1785960"/>
                <a:gd name="textAreaRight" fmla="*/ 1339560 w 1785960"/>
                <a:gd name="textAreaTop" fmla="*/ 4752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Рисунок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117"/>
          <p:cNvSpPr/>
          <p:nvPr/>
        </p:nvSpPr>
        <p:spPr>
          <a:xfrm>
            <a:off x="285840" y="1571760"/>
            <a:ext cx="6215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смотрим треугольную призму на рисунке 3. Дополним ее до параллелепипеда, как указано на рисуне. Точка О является центром симметрии параллелепипеда. Поэтому достроенная призма симметрична исходной отно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льно точки О, следовательно, имеет объем, равный объему исходной призмы. Таким образом объем пост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нного параллелепипеда равен удвоенному объему д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й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18"/>
          <p:cNvSpPr/>
          <p:nvPr/>
        </p:nvSpPr>
        <p:spPr>
          <a:xfrm>
            <a:off x="285840" y="3929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м параллелепипеда равен произведению площади его основания на в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ту. Площадь его основания равна удвоенной площади треугольника АВС, а высота равна высоте исходной призмы. Отсюда заключаем, что объем исхо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й призмы равен произведению площади ее основания на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81"/>
          <p:cNvGrpSpPr/>
          <p:nvPr/>
        </p:nvGrpSpPr>
        <p:grpSpPr>
          <a:xfrm>
            <a:off x="6857280" y="1428480"/>
            <a:ext cx="1929600" cy="2786400"/>
            <a:chOff x="6857280" y="1428480"/>
            <a:chExt cx="1929600" cy="2786400"/>
          </a:xfrm>
        </p:grpSpPr>
        <p:grpSp>
          <p:nvGrpSpPr>
            <p:cNvPr id="311" name="Группа 79"/>
            <p:cNvGrpSpPr/>
            <p:nvPr/>
          </p:nvGrpSpPr>
          <p:grpSpPr>
            <a:xfrm>
              <a:off x="6857280" y="1428480"/>
              <a:ext cx="1858320" cy="2500920"/>
              <a:chOff x="6857280" y="1428480"/>
              <a:chExt cx="1858320" cy="2500920"/>
            </a:xfrm>
          </p:grpSpPr>
          <p:grpSp>
            <p:nvGrpSpPr>
              <p:cNvPr id="312" name="Группа 76"/>
              <p:cNvGrpSpPr/>
              <p:nvPr/>
            </p:nvGrpSpPr>
            <p:grpSpPr>
              <a:xfrm>
                <a:off x="6857280" y="1428480"/>
                <a:ext cx="1858320" cy="2500920"/>
                <a:chOff x="6857280" y="1428480"/>
                <a:chExt cx="1858320" cy="2500920"/>
              </a:xfrm>
            </p:grpSpPr>
            <p:grpSp>
              <p:nvGrpSpPr>
                <p:cNvPr id="313" name="Группа 57"/>
                <p:cNvGrpSpPr/>
                <p:nvPr/>
              </p:nvGrpSpPr>
              <p:grpSpPr>
                <a:xfrm>
                  <a:off x="6857280" y="1428480"/>
                  <a:ext cx="1858320" cy="2500920"/>
                  <a:chOff x="6857280" y="1428480"/>
                  <a:chExt cx="1858320" cy="2500920"/>
                </a:xfrm>
              </p:grpSpPr>
              <p:sp>
                <p:nvSpPr>
                  <p:cNvPr id="314" name="Прямая соединительная линия 37"/>
                  <p:cNvSpPr/>
                  <p:nvPr/>
                </p:nvSpPr>
                <p:spPr>
                  <a:xfrm flipH="1" flipV="1">
                    <a:off x="7370280" y="3534120"/>
                    <a:ext cx="639720" cy="39528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5" name="Группа 27"/>
                  <p:cNvGrpSpPr/>
                  <p:nvPr/>
                </p:nvGrpSpPr>
                <p:grpSpPr>
                  <a:xfrm>
                    <a:off x="7689240" y="1428480"/>
                    <a:ext cx="1026360" cy="1973880"/>
                    <a:chOff x="7689240" y="1428480"/>
                    <a:chExt cx="1026360" cy="1973880"/>
                  </a:xfrm>
                </p:grpSpPr>
                <p:sp>
                  <p:nvSpPr>
                    <p:cNvPr id="316" name="Прямая соединительная линия 47"/>
                    <p:cNvSpPr/>
                    <p:nvPr/>
                  </p:nvSpPr>
                  <p:spPr>
                    <a:xfrm>
                      <a:off x="7818480" y="1428840"/>
                      <a:ext cx="897120" cy="855720"/>
                    </a:xfrm>
                    <a:prstGeom prst="line">
                      <a:avLst/>
                    </a:prstGeom>
                    <a:ln w="38160">
                      <a:solidFill>
                        <a:srgbClr val="7d926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Прямая соединительная линия 48"/>
                    <p:cNvSpPr/>
                    <p:nvPr/>
                  </p:nvSpPr>
                  <p:spPr>
                    <a:xfrm>
                      <a:off x="7689960" y="2546640"/>
                      <a:ext cx="897120" cy="855720"/>
                    </a:xfrm>
                    <a:prstGeom prst="line">
                      <a:avLst/>
                    </a:prstGeom>
                    <a:ln w="38160">
                      <a:solidFill>
                        <a:srgbClr val="7d9263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Прямая соединительная линия 49"/>
                    <p:cNvSpPr/>
                    <p:nvPr/>
                  </p:nvSpPr>
                  <p:spPr>
                    <a:xfrm flipH="1">
                      <a:off x="8586720" y="2284560"/>
                      <a:ext cx="128520" cy="1117800"/>
                    </a:xfrm>
                    <a:prstGeom prst="line">
                      <a:avLst/>
                    </a:prstGeom>
                    <a:ln w="38160">
                      <a:solidFill>
                        <a:srgbClr val="7d926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Прямая соединительная линия 50"/>
                    <p:cNvSpPr/>
                    <p:nvPr/>
                  </p:nvSpPr>
                  <p:spPr>
                    <a:xfrm flipV="1">
                      <a:off x="7689240" y="1428480"/>
                      <a:ext cx="128520" cy="1117800"/>
                    </a:xfrm>
                    <a:prstGeom prst="line">
                      <a:avLst/>
                    </a:prstGeom>
                    <a:ln w="38160">
                      <a:solidFill>
                        <a:srgbClr val="7d9263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Прямая соединительная линия 39"/>
                  <p:cNvSpPr/>
                  <p:nvPr/>
                </p:nvSpPr>
                <p:spPr>
                  <a:xfrm flipV="1">
                    <a:off x="8139240" y="2284200"/>
                    <a:ext cx="576360" cy="52524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Прямая соединительная линия 40"/>
                  <p:cNvSpPr/>
                  <p:nvPr/>
                </p:nvSpPr>
                <p:spPr>
                  <a:xfrm flipV="1">
                    <a:off x="8010000" y="2811240"/>
                    <a:ext cx="128520" cy="11178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Прямая соединительная линия 41"/>
                  <p:cNvSpPr/>
                  <p:nvPr/>
                </p:nvSpPr>
                <p:spPr>
                  <a:xfrm flipV="1">
                    <a:off x="8010720" y="3402360"/>
                    <a:ext cx="576360" cy="52704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Прямая соединительная линия 42"/>
                  <p:cNvSpPr/>
                  <p:nvPr/>
                </p:nvSpPr>
                <p:spPr>
                  <a:xfrm>
                    <a:off x="6858000" y="2941920"/>
                    <a:ext cx="512640" cy="5922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рямая соединительная линия 43"/>
                  <p:cNvSpPr/>
                  <p:nvPr/>
                </p:nvSpPr>
                <p:spPr>
                  <a:xfrm>
                    <a:off x="7497720" y="2416320"/>
                    <a:ext cx="649440" cy="3906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рямая соединительная линия 44"/>
                  <p:cNvSpPr/>
                  <p:nvPr/>
                </p:nvSpPr>
                <p:spPr>
                  <a:xfrm>
                    <a:off x="6986520" y="1824120"/>
                    <a:ext cx="511200" cy="5922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рямая соединительная линия 45"/>
                  <p:cNvSpPr/>
                  <p:nvPr/>
                </p:nvSpPr>
                <p:spPr>
                  <a:xfrm flipV="1">
                    <a:off x="7369920" y="2415960"/>
                    <a:ext cx="128520" cy="11178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рямая соединительная линия 46"/>
                  <p:cNvSpPr/>
                  <p:nvPr/>
                </p:nvSpPr>
                <p:spPr>
                  <a:xfrm flipV="1">
                    <a:off x="6857280" y="1823760"/>
                    <a:ext cx="128520" cy="11178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Прямая соединительная линия 30"/>
                <p:cNvSpPr/>
                <p:nvPr/>
              </p:nvSpPr>
              <p:spPr>
                <a:xfrm flipV="1">
                  <a:off x="6858000" y="2547720"/>
                  <a:ext cx="831960" cy="39348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Прямая соединительная линия 31"/>
                <p:cNvSpPr/>
                <p:nvPr/>
              </p:nvSpPr>
              <p:spPr>
                <a:xfrm flipV="1">
                  <a:off x="6986520" y="1428840"/>
                  <a:ext cx="831960" cy="39528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Прямая соединительная линия 32"/>
                <p:cNvSpPr/>
                <p:nvPr/>
              </p:nvSpPr>
              <p:spPr>
                <a:xfrm>
                  <a:off x="6858000" y="2941920"/>
                  <a:ext cx="1729080" cy="46044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Прямая соединительная линия 33"/>
                <p:cNvSpPr/>
                <p:nvPr/>
              </p:nvSpPr>
              <p:spPr>
                <a:xfrm>
                  <a:off x="6921360" y="2941920"/>
                  <a:ext cx="1089360" cy="98748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Прямая соединительная линия 34"/>
                <p:cNvSpPr/>
                <p:nvPr/>
              </p:nvSpPr>
              <p:spPr>
                <a:xfrm flipV="1">
                  <a:off x="7946640" y="2284560"/>
                  <a:ext cx="128520" cy="118440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Прямая соединительная линия 35"/>
                <p:cNvSpPr/>
                <p:nvPr/>
              </p:nvSpPr>
              <p:spPr>
                <a:xfrm>
                  <a:off x="6986520" y="1824120"/>
                  <a:ext cx="1729080" cy="46044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Прямая соединительная линия 36"/>
                <p:cNvSpPr/>
                <p:nvPr/>
              </p:nvSpPr>
              <p:spPr>
                <a:xfrm>
                  <a:off x="7049880" y="1824120"/>
                  <a:ext cx="1089360" cy="986040"/>
                </a:xfrm>
                <a:prstGeom prst="line">
                  <a:avLst/>
                </a:prstGeom>
                <a:ln w="38160">
                  <a:solidFill>
                    <a:srgbClr val="7d92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Box 27"/>
              <p:cNvSpPr/>
              <p:nvPr/>
            </p:nvSpPr>
            <p:spPr>
              <a:xfrm>
                <a:off x="7718040" y="3286440"/>
                <a:ext cx="29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onstantia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Box 78"/>
              <p:cNvSpPr/>
              <p:nvPr/>
            </p:nvSpPr>
            <p:spPr>
              <a:xfrm rot="17071200">
                <a:off x="7630920" y="267948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Лента лицом вниз 25"/>
            <p:cNvSpPr/>
            <p:nvPr/>
          </p:nvSpPr>
          <p:spPr>
            <a:xfrm>
              <a:off x="7000560" y="3929400"/>
              <a:ext cx="1786320" cy="285480"/>
            </a:xfrm>
            <a:custGeom>
              <a:avLst/>
              <a:gdLst>
                <a:gd name="textAreaLeft" fmla="*/ 446400 w 1786320"/>
                <a:gd name="textAreaRight" fmla="*/ 1339920 w 1786320"/>
                <a:gd name="textAreaTop" fmla="*/ 4752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Рисунок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Box 51"/>
          <p:cNvSpPr/>
          <p:nvPr/>
        </p:nvSpPr>
        <p:spPr>
          <a:xfrm>
            <a:off x="357120" y="1714680"/>
            <a:ext cx="6429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смотрим теперь произвольную призму (рисунок 4). Разобьем ее основание на треугольники. Пусть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 – один из этих треугольников. Проведем через произвольную точку Х треугольника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 прямую, параллельную боковым ребрам. Пусть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dobe Garamond Pro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 – отрезок этой прямой, принадлежащий призме. Когда точка Х описывает треугольник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, отрезки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dobe Garamond Pro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 заполняют треугольную призму. Построив такую призму для каждого треугольника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, мы получаем разбиение данной призмы на треугольные. Все эти призмы имеют одну и ту же высоту, равную высоте исходной приз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2"/>
          <p:cNvSpPr/>
          <p:nvPr/>
        </p:nvSpPr>
        <p:spPr>
          <a:xfrm>
            <a:off x="357120" y="4500720"/>
            <a:ext cx="85726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м данной призмы равен сумме объемов треугольных призм ее составл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ющих. По доказанному объем треугольной призмы равен произведению площ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и ее основания на высоту. Отсюда следует, что объем исходной призмы равен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=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+…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=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…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H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…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площади треугольников, на которые разито оснвание призмы, а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высота призмы. Сумма площадей треугольников равна площад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снования данной призмы. Поэтому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=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6929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341" name="Группа 3"/>
          <p:cNvGrpSpPr/>
          <p:nvPr/>
        </p:nvGrpSpPr>
        <p:grpSpPr>
          <a:xfrm>
            <a:off x="6715440" y="1214280"/>
            <a:ext cx="2241000" cy="3429000"/>
            <a:chOff x="6715440" y="1214280"/>
            <a:chExt cx="2241000" cy="3429000"/>
          </a:xfrm>
        </p:grpSpPr>
        <p:grpSp>
          <p:nvGrpSpPr>
            <p:cNvPr id="342" name="Группа 78"/>
            <p:cNvGrpSpPr/>
            <p:nvPr/>
          </p:nvGrpSpPr>
          <p:grpSpPr>
            <a:xfrm>
              <a:off x="6715440" y="1214280"/>
              <a:ext cx="2241000" cy="3236040"/>
              <a:chOff x="6715440" y="1214280"/>
              <a:chExt cx="2241000" cy="3236040"/>
            </a:xfrm>
          </p:grpSpPr>
          <p:sp>
            <p:nvSpPr>
              <p:cNvPr id="343" name="TextBox 6"/>
              <p:cNvSpPr/>
              <p:nvPr/>
            </p:nvSpPr>
            <p:spPr>
              <a:xfrm>
                <a:off x="7855560" y="4143240"/>
                <a:ext cx="29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7"/>
              <p:cNvSpPr/>
              <p:nvPr/>
            </p:nvSpPr>
            <p:spPr>
              <a:xfrm>
                <a:off x="6715440" y="3571560"/>
                <a:ext cx="30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8"/>
              <p:cNvSpPr/>
              <p:nvPr/>
            </p:nvSpPr>
            <p:spPr>
              <a:xfrm>
                <a:off x="8416440" y="2643120"/>
                <a:ext cx="356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Box 9"/>
              <p:cNvSpPr/>
              <p:nvPr/>
            </p:nvSpPr>
            <p:spPr>
              <a:xfrm>
                <a:off x="8425080" y="1214280"/>
                <a:ext cx="348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C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Равнобедренный треугольник 10"/>
              <p:cNvSpPr/>
              <p:nvPr/>
            </p:nvSpPr>
            <p:spPr>
              <a:xfrm rot="1425000">
                <a:off x="7697880" y="1447200"/>
                <a:ext cx="1060560" cy="1204920"/>
              </a:xfrm>
              <a:prstGeom prst="triangle">
                <a:avLst>
                  <a:gd name="adj" fmla="val 59972"/>
                </a:avLst>
              </a:prstGeom>
              <a:noFill/>
              <a:ln w="38160">
                <a:solidFill>
                  <a:srgbClr val="7884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Равнобедренный треугольник 11"/>
              <p:cNvSpPr/>
              <p:nvPr/>
            </p:nvSpPr>
            <p:spPr>
              <a:xfrm rot="1425000">
                <a:off x="7197840" y="2806200"/>
                <a:ext cx="1060560" cy="1203120"/>
              </a:xfrm>
              <a:prstGeom prst="triangle">
                <a:avLst>
                  <a:gd name="adj" fmla="val 59972"/>
                </a:avLst>
              </a:prstGeom>
              <a:solidFill>
                <a:srgbClr val="a5b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Прямая соединительная линия 12"/>
              <p:cNvSpPr/>
              <p:nvPr/>
            </p:nvSpPr>
            <p:spPr>
              <a:xfrm flipV="1">
                <a:off x="7000920" y="2900160"/>
                <a:ext cx="1067040" cy="84456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Прямая соединительная линия 13"/>
              <p:cNvSpPr/>
              <p:nvPr/>
            </p:nvSpPr>
            <p:spPr>
              <a:xfrm flipH="1" flipV="1">
                <a:off x="7500960" y="2387160"/>
                <a:ext cx="566640" cy="51264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Прямая соединительная линия 14"/>
              <p:cNvSpPr/>
              <p:nvPr/>
            </p:nvSpPr>
            <p:spPr>
              <a:xfrm flipV="1">
                <a:off x="7970400" y="2814480"/>
                <a:ext cx="500040" cy="1357200"/>
              </a:xfrm>
              <a:prstGeom prst="line">
                <a:avLst/>
              </a:prstGeom>
              <a:ln w="3816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Прямая соединительная линия 15"/>
              <p:cNvSpPr/>
              <p:nvPr/>
            </p:nvSpPr>
            <p:spPr>
              <a:xfrm flipV="1">
                <a:off x="8072640" y="1541160"/>
                <a:ext cx="495360" cy="138744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16"/>
              <p:cNvSpPr/>
              <p:nvPr/>
            </p:nvSpPr>
            <p:spPr>
              <a:xfrm flipV="1">
                <a:off x="7000200" y="2387160"/>
                <a:ext cx="500040" cy="1357200"/>
              </a:xfrm>
              <a:prstGeom prst="line">
                <a:avLst/>
              </a:prstGeom>
              <a:ln w="3816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Прямая соединительная линия 17"/>
              <p:cNvSpPr/>
              <p:nvPr/>
            </p:nvSpPr>
            <p:spPr>
              <a:xfrm flipV="1">
                <a:off x="7970400" y="2900160"/>
                <a:ext cx="96840" cy="1271520"/>
              </a:xfrm>
              <a:prstGeom prst="line">
                <a:avLst/>
              </a:prstGeom>
              <a:ln w="3816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Прямая соединительная линия 18"/>
              <p:cNvSpPr/>
              <p:nvPr/>
            </p:nvSpPr>
            <p:spPr>
              <a:xfrm flipH="1">
                <a:off x="8067960" y="2814480"/>
                <a:ext cx="403200" cy="85680"/>
              </a:xfrm>
              <a:prstGeom prst="line">
                <a:avLst/>
              </a:prstGeom>
              <a:ln w="38160">
                <a:solidFill>
                  <a:srgbClr val="7d926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19"/>
              <p:cNvSpPr/>
              <p:nvPr/>
            </p:nvSpPr>
            <p:spPr>
              <a:xfrm flipH="1" flipV="1">
                <a:off x="7000560" y="3744720"/>
                <a:ext cx="970200" cy="426960"/>
              </a:xfrm>
              <a:prstGeom prst="line">
                <a:avLst/>
              </a:prstGeom>
              <a:ln w="3816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20"/>
              <p:cNvSpPr/>
              <p:nvPr/>
            </p:nvSpPr>
            <p:spPr>
              <a:xfrm flipV="1">
                <a:off x="7000920" y="2814480"/>
                <a:ext cx="1470240" cy="930240"/>
              </a:xfrm>
              <a:prstGeom prst="line">
                <a:avLst/>
              </a:prstGeom>
              <a:ln w="38160">
                <a:solidFill>
                  <a:srgbClr val="7d92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21"/>
              <p:cNvSpPr/>
              <p:nvPr/>
            </p:nvSpPr>
            <p:spPr>
              <a:xfrm>
                <a:off x="7794720" y="2785680"/>
                <a:ext cx="29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22"/>
              <p:cNvSpPr/>
              <p:nvPr/>
            </p:nvSpPr>
            <p:spPr>
              <a:xfrm>
                <a:off x="7286760" y="2142720"/>
                <a:ext cx="20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Лента лицом вниз 5"/>
            <p:cNvSpPr/>
            <p:nvPr/>
          </p:nvSpPr>
          <p:spPr>
            <a:xfrm>
              <a:off x="7072200" y="4357800"/>
              <a:ext cx="1785960" cy="285480"/>
            </a:xfrm>
            <a:custGeom>
              <a:avLst/>
              <a:gdLst>
                <a:gd name="textAreaLeft" fmla="*/ 446400 w 1785960"/>
                <a:gd name="textAreaRight" fmla="*/ 1339560 w 1785960"/>
                <a:gd name="textAreaTop" fmla="*/ 4752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a5b592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onstantia"/>
                </a:rPr>
                <a:t>Рисунок </a:t>
              </a:r>
              <a:r>
                <a:rPr b="0" lang="en-US" sz="1100" spc="-1" strike="noStrike">
                  <a:solidFill>
                    <a:srgbClr val="ffffff"/>
                  </a:solidFill>
                  <a:latin typeface="Constanti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23"/>
          <p:cNvSpPr/>
          <p:nvPr/>
        </p:nvSpPr>
        <p:spPr>
          <a:xfrm>
            <a:off x="357120" y="1285920"/>
            <a:ext cx="74296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ABC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 треугольная пирамида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Дополним эту пирамиду до треугольной призмы с теми же 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анием и высотой (рисунок 5). Эта призма составлена из трех пирамид: данной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ABC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еще двух треугольных пир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ид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C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27"/>
          <p:cNvGrpSpPr/>
          <p:nvPr/>
        </p:nvGrpSpPr>
        <p:grpSpPr>
          <a:xfrm>
            <a:off x="-105120" y="2786040"/>
            <a:ext cx="9878040" cy="2400840"/>
            <a:chOff x="-105120" y="2786040"/>
            <a:chExt cx="9878040" cy="2400840"/>
          </a:xfrm>
        </p:grpSpPr>
        <p:sp>
          <p:nvSpPr>
            <p:cNvPr id="363" name="TextBox 25"/>
            <p:cNvSpPr/>
            <p:nvPr/>
          </p:nvSpPr>
          <p:spPr>
            <a:xfrm>
              <a:off x="-105120" y="2786040"/>
              <a:ext cx="9878040" cy="24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У второй и третьей пирамид равные основания – </a:t>
              </a:r>
              <a:r>
                <a:rPr b="0" lang="el-GR" sz="1800" spc="-1" strike="noStrike">
                  <a:solidFill>
                    <a:srgbClr val="000000"/>
                  </a:solidFill>
                  <a:latin typeface="Constanti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C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onstanti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В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и общая высота, проведенная из вершины 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S.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Поэтом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у них равные объе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У первой и третьей пирамид тоже равные основания –</a:t>
              </a:r>
              <a:r>
                <a:rPr b="0" lang="el-GR" sz="1800" spc="-1" strike="noStrike">
                  <a:solidFill>
                    <a:srgbClr val="000000"/>
                  </a:solidFill>
                  <a:latin typeface="Constanti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S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и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l-GR" sz="1800" spc="-1" strike="noStrike">
                  <a:solidFill>
                    <a:srgbClr val="000000"/>
                  </a:solidFill>
                  <a:latin typeface="Constanti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B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S 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и совпадающие высоты, проведенные из вершины С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Поэтому у них тоже равные объемы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Значит, все три пирамиды имеют один один и тот же объем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Так как сумма этих объемов равна объему призмы, то объемы пирамид равны     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Object 4"/>
                <p:cNvSpPr txBox="1"/>
                <p:nvPr/>
              </p:nvSpPr>
              <p:spPr>
                <a:xfrm>
                  <a:off x="8573040" y="4715280"/>
                  <a:ext cx="28548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H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5" name="TextBox 30"/>
          <p:cNvSpPr/>
          <p:nvPr/>
        </p:nvSpPr>
        <p:spPr>
          <a:xfrm>
            <a:off x="285840" y="207180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так, объем любой треугольной пирамиды равен одной трети произведения площади основания на высоту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3643200" y="235728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Box 32"/>
          <p:cNvSpPr/>
          <p:nvPr/>
        </p:nvSpPr>
        <p:spPr>
          <a:xfrm>
            <a:off x="428760" y="1785960"/>
            <a:ext cx="8429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теперь мы имеем любую пирамиду. Разобьем ее основание на треугольники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dobe Garamond Pro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dobe Garamond Pro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dobe Garamond Pro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, …, </a:t>
            </a:r>
            <a:r>
              <a:rPr b="0" lang="el-GR" sz="1800" spc="-1" strike="noStrike">
                <a:solidFill>
                  <a:srgbClr val="000000"/>
                </a:solidFill>
                <a:latin typeface="Adobe Garamond Pro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dobe Garamond Pro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dobe Garamond Pro"/>
              </a:rPr>
              <a:t>. Пирамиды, у которых основаниями являются эти треугольники, а вершинами – вершина данной пирамиды, составляют данную пирамиду. Объем данной пирамиды равен сумме объемов составляющих ее пирамид. Так как все они имеют одну и ту же высоту Н, что и данная пирамида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о объем ее раве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2214720" y="3143160"/>
                <a:ext cx="2120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TextBox 34"/>
          <p:cNvSpPr/>
          <p:nvPr/>
        </p:nvSpPr>
        <p:spPr>
          <a:xfrm>
            <a:off x="428760" y="25002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nstantia"/>
              </a:rPr>
              <a:t>Значит, объем любой пирамиды равен одной трети произведения площади ее основания на вы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4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4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4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2" descr=""/>
          <p:cNvPicPr/>
          <p:nvPr/>
        </p:nvPicPr>
        <p:blipFill>
          <a:blip r:embed="rId1"/>
          <a:stretch/>
        </p:blipFill>
        <p:spPr>
          <a:xfrm>
            <a:off x="2494080" y="92160"/>
            <a:ext cx="6594480" cy="156060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0"/>
          <p:cNvSpPr/>
          <p:nvPr/>
        </p:nvSpPr>
        <p:spPr>
          <a:xfrm>
            <a:off x="214200" y="1643040"/>
            <a:ext cx="871560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Т 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два простых подобных тела. Это значит, что существует преобра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ание подобия, при котором тело переходит в тел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Обозначим через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k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ффициент подобия. Разобьем тело Т на треугольные пирамиды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…,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разование подобия, которое переводит тело Т в 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ереводит пирамиды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…,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пирамиды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…,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Эти пирамиды составляют тело 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 поэтому объем тела 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авен сумме объемов пирамид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…,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Так как пирамиды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обны и коэффициент подобия равен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отношение площадей их осн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й равн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Следовательно, отношение объемов пирамид равн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Так как тело Т составлено из пирамид 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то отношение объемов тел 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оже равн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Чи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о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коэффициент подобия – равно отношению расстояний между любыми двумя соответствующими парами точек при преобразовании подобия. След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льно, это число равно отношению любых двух соответствующих линейных ра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ров тел 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2"/>
          <p:cNvSpPr/>
          <p:nvPr/>
        </p:nvSpPr>
        <p:spPr>
          <a:xfrm>
            <a:off x="214200" y="235728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Объемы двух подобных тел относятся как ку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бы их соответствующих линейных раз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60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374" name="Группа 6"/>
          <p:cNvGrpSpPr/>
          <p:nvPr/>
        </p:nvGrpSpPr>
        <p:grpSpPr>
          <a:xfrm>
            <a:off x="285840" y="1357200"/>
            <a:ext cx="3500280" cy="4643640"/>
            <a:chOff x="285840" y="1357200"/>
            <a:chExt cx="3500280" cy="4643640"/>
          </a:xfrm>
        </p:grpSpPr>
        <p:sp>
          <p:nvSpPr>
            <p:cNvPr id="375" name="Вертикальный свиток 5"/>
            <p:cNvSpPr/>
            <p:nvPr/>
          </p:nvSpPr>
          <p:spPr>
            <a:xfrm>
              <a:off x="285840" y="1357200"/>
              <a:ext cx="3500280" cy="4643640"/>
            </a:xfrm>
            <a:prstGeom prst="verticalScroll">
              <a:avLst>
                <a:gd name="adj" fmla="val 13527"/>
              </a:avLst>
            </a:prstGeom>
            <a:solidFill>
              <a:srgbClr val="a5b592">
                <a:alpha val="50000"/>
              </a:srgbClr>
            </a:solidFill>
            <a:ln w="38160">
              <a:solidFill>
                <a:srgbClr val="a5b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onstantia"/>
                </a:rPr>
                <a:t>Основанием пирам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onstantia"/>
                </a:rPr>
                <a:t>ды РАВС является тре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onstantia"/>
                </a:rPr>
                <a:t>угольник АВС, пл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onstantia"/>
                </a:rPr>
                <a:t>щадь которого равна 6, угол С равен 90</a:t>
              </a:r>
              <a:r>
                <a:rPr b="0" lang="ru-RU" sz="1800" spc="-1" strike="noStrike">
                  <a:solidFill>
                    <a:srgbClr val="0d0d0d"/>
                  </a:solidFill>
                  <a:latin typeface="Candara"/>
                </a:rPr>
                <a:t>˚, АВ =     . Ребро перпенд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andara"/>
                </a:rPr>
                <a:t>кулярно плоскости АВС, а плоскость</a:t>
              </a:r>
              <a:r>
                <a:rPr b="0" lang="en-US" sz="1800" spc="-1" strike="noStrike">
                  <a:solidFill>
                    <a:srgbClr val="0d0d0d"/>
                  </a:solidFill>
                  <a:latin typeface="Candara"/>
                </a:rPr>
                <a:t> PAB </a:t>
              </a:r>
              <a:r>
                <a:rPr b="0" lang="ru-RU" sz="1800" spc="-1" strike="noStrike">
                  <a:solidFill>
                    <a:srgbClr val="0d0d0d"/>
                  </a:solidFill>
                  <a:latin typeface="Candara"/>
                </a:rPr>
                <a:t>образует с ней угол 30˚. </a:t>
              </a:r>
              <a:r>
                <a:rPr b="1" lang="ru-RU" sz="1800" spc="-1" strike="noStrike">
                  <a:solidFill>
                    <a:srgbClr val="0d0d0d"/>
                  </a:solidFill>
                  <a:latin typeface="Candara"/>
                </a:rPr>
                <a:t>Найти объем пир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andara"/>
                </a:rPr>
                <a:t>ми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2"/>
                <p:cNvSpPr txBox="1"/>
                <p:nvPr/>
              </p:nvSpPr>
              <p:spPr>
                <a:xfrm>
                  <a:off x="928800" y="364320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7" name="Прямоугольный треугольник 21"/>
          <p:cNvSpPr/>
          <p:nvPr/>
        </p:nvSpPr>
        <p:spPr>
          <a:xfrm flipH="1">
            <a:off x="4071240" y="3786120"/>
            <a:ext cx="1500120" cy="1285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ый треугольник 22"/>
          <p:cNvSpPr/>
          <p:nvPr/>
        </p:nvSpPr>
        <p:spPr>
          <a:xfrm flipH="1">
            <a:off x="4428360" y="2286000"/>
            <a:ext cx="1500120" cy="1285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Группа 62"/>
          <p:cNvGrpSpPr/>
          <p:nvPr/>
        </p:nvGrpSpPr>
        <p:grpSpPr>
          <a:xfrm>
            <a:off x="285840" y="1285920"/>
            <a:ext cx="8524800" cy="4648320"/>
            <a:chOff x="285840" y="1285920"/>
            <a:chExt cx="8524800" cy="4648320"/>
          </a:xfrm>
        </p:grpSpPr>
        <p:grpSp>
          <p:nvGrpSpPr>
            <p:cNvPr id="380" name="Группа 16"/>
            <p:cNvGrpSpPr/>
            <p:nvPr/>
          </p:nvGrpSpPr>
          <p:grpSpPr>
            <a:xfrm>
              <a:off x="285840" y="1285920"/>
              <a:ext cx="8524800" cy="4648320"/>
              <a:chOff x="285840" y="1285920"/>
              <a:chExt cx="8524800" cy="4648320"/>
            </a:xfrm>
          </p:grpSpPr>
          <p:grpSp>
            <p:nvGrpSpPr>
              <p:cNvPr id="381" name="Группа 13"/>
              <p:cNvGrpSpPr/>
              <p:nvPr/>
            </p:nvGrpSpPr>
            <p:grpSpPr>
              <a:xfrm>
                <a:off x="285840" y="1285920"/>
                <a:ext cx="8524800" cy="4648320"/>
                <a:chOff x="285840" y="1285920"/>
                <a:chExt cx="8524800" cy="4648320"/>
              </a:xfrm>
            </p:grpSpPr>
            <p:pic>
              <p:nvPicPr>
                <p:cNvPr id="382" name="Рисунок 7" descr="Фон (2).jpg"/>
                <p:cNvPicPr/>
                <p:nvPr/>
              </p:nvPicPr>
              <p:blipFill>
                <a:blip r:embed="rId2">
                  <a:lum bright="70000" contrast="-70000"/>
                </a:blip>
                <a:stretch/>
              </p:blipFill>
              <p:spPr>
                <a:xfrm>
                  <a:off x="285840" y="1285920"/>
                  <a:ext cx="8524800" cy="464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3" name="TextBox 9"/>
                <p:cNvSpPr/>
                <p:nvPr/>
              </p:nvSpPr>
              <p:spPr>
                <a:xfrm>
                  <a:off x="285840" y="1428480"/>
                  <a:ext cx="4286160" cy="28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onstantia"/>
                    </a:rPr>
                    <a:t>Проведем высоту СК основания пирамиды. По теореме  о трех перпендикулярах РК перпенди-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onstantia"/>
                    </a:rPr>
                    <a:t>кулярно АВ, следовательно, угол РКС равен 30˚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onstantia"/>
                    </a:rPr>
                    <a:t>Так как АВ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Constantia"/>
                      <a:ea typeface="Arial"/>
                    </a:rPr>
                    <a:t>∙СК=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nstantia"/>
                      <a:ea typeface="Arial"/>
                    </a:rPr>
                    <a:t>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onstantia"/>
                      <a:ea typeface="Arial"/>
                    </a:rPr>
                    <a:t>ABC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nstantia"/>
                      <a:ea typeface="Arial"/>
                    </a:rPr>
                    <a:t>=12; CK=12/    = 4   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Constantia"/>
                      <a:ea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nstantia"/>
                      <a:ea typeface="Arial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84" name="Object 3"/>
                    <p:cNvSpPr txBox="1"/>
                    <p:nvPr/>
                  </p:nvSpPr>
                  <p:spPr>
                    <a:xfrm>
                      <a:off x="428400" y="3286080"/>
                      <a:ext cx="428400" cy="428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85" name="Object 4"/>
                    <p:cNvSpPr txBox="1"/>
                    <p:nvPr/>
                  </p:nvSpPr>
                  <p:spPr>
                    <a:xfrm>
                      <a:off x="3857760" y="3000240"/>
                      <a:ext cx="357120" cy="357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86" name="TextBox 14"/>
              <p:cNvSpPr/>
              <p:nvPr/>
            </p:nvSpPr>
            <p:spPr>
              <a:xfrm>
                <a:off x="285840" y="3714480"/>
                <a:ext cx="4000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onstantia"/>
                  </a:rPr>
                  <a:t>Из треугольника РСК найдем высоту пирамиды: РС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7" name="Object 5"/>
                  <p:cNvSpPr txBox="1"/>
                  <p:nvPr/>
                </p:nvSpPr>
                <p:spPr>
                  <a:xfrm>
                    <a:off x="3071880" y="4071960"/>
                    <a:ext cx="1142280" cy="35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88" name="TextBox 17"/>
            <p:cNvSpPr/>
            <p:nvPr/>
          </p:nvSpPr>
          <p:spPr>
            <a:xfrm>
              <a:off x="285840" y="4357440"/>
              <a:ext cx="414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Объем пирамиды равен ⅓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∙6∙4=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Группа 61"/>
            <p:cNvGrpSpPr/>
            <p:nvPr/>
          </p:nvGrpSpPr>
          <p:grpSpPr>
            <a:xfrm>
              <a:off x="5572080" y="2000160"/>
              <a:ext cx="2714400" cy="3440160"/>
              <a:chOff x="5572080" y="2000160"/>
              <a:chExt cx="2714400" cy="3440160"/>
            </a:xfrm>
          </p:grpSpPr>
          <p:grpSp>
            <p:nvGrpSpPr>
              <p:cNvPr id="390" name="Группа 47"/>
              <p:cNvGrpSpPr/>
              <p:nvPr/>
            </p:nvGrpSpPr>
            <p:grpSpPr>
              <a:xfrm>
                <a:off x="5857200" y="2142720"/>
                <a:ext cx="2073600" cy="3000240"/>
                <a:chOff x="5857200" y="2142720"/>
                <a:chExt cx="2073600" cy="3000240"/>
              </a:xfrm>
            </p:grpSpPr>
            <p:grpSp>
              <p:nvGrpSpPr>
                <p:cNvPr id="391" name="Группа 45"/>
                <p:cNvGrpSpPr/>
                <p:nvPr/>
              </p:nvGrpSpPr>
              <p:grpSpPr>
                <a:xfrm>
                  <a:off x="5857200" y="2142720"/>
                  <a:ext cx="2072160" cy="3000240"/>
                  <a:chOff x="5857200" y="2142720"/>
                  <a:chExt cx="2072160" cy="3000240"/>
                </a:xfrm>
              </p:grpSpPr>
              <p:sp>
                <p:nvSpPr>
                  <p:cNvPr id="392" name="Прямоугольный треугольник 18"/>
                  <p:cNvSpPr/>
                  <p:nvPr/>
                </p:nvSpPr>
                <p:spPr>
                  <a:xfrm flipH="1">
                    <a:off x="5856840" y="2415240"/>
                    <a:ext cx="1673640" cy="1636560"/>
                  </a:xfrm>
                  <a:prstGeom prst="rtTriangl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рямая соединительная линия 27"/>
                  <p:cNvSpPr/>
                  <p:nvPr/>
                </p:nvSpPr>
                <p:spPr>
                  <a:xfrm flipV="1">
                    <a:off x="6015960" y="2233440"/>
                    <a:ext cx="1832760" cy="218016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Прямая соединительная линия 32"/>
                  <p:cNvSpPr/>
                  <p:nvPr/>
                </p:nvSpPr>
                <p:spPr>
                  <a:xfrm flipV="1">
                    <a:off x="6177240" y="2142720"/>
                    <a:ext cx="1751400" cy="300024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Прямая соединительная линия 25"/>
                  <p:cNvSpPr/>
                  <p:nvPr/>
                </p:nvSpPr>
                <p:spPr>
                  <a:xfrm flipV="1">
                    <a:off x="6016680" y="3779280"/>
                    <a:ext cx="1912680" cy="63432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Прямая соединительная линия 29"/>
                  <p:cNvSpPr/>
                  <p:nvPr/>
                </p:nvSpPr>
                <p:spPr>
                  <a:xfrm flipV="1">
                    <a:off x="6176160" y="3779280"/>
                    <a:ext cx="1753200" cy="136368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Прямая соединительная линия 35"/>
                  <p:cNvSpPr/>
                  <p:nvPr/>
                </p:nvSpPr>
                <p:spPr>
                  <a:xfrm flipH="1" flipV="1">
                    <a:off x="5857200" y="3779280"/>
                    <a:ext cx="318600" cy="136368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Группа 37"/>
                <p:cNvGrpSpPr/>
                <p:nvPr/>
              </p:nvGrpSpPr>
              <p:grpSpPr>
                <a:xfrm>
                  <a:off x="5857560" y="2142720"/>
                  <a:ext cx="2073240" cy="1638360"/>
                  <a:chOff x="5857560" y="2142720"/>
                  <a:chExt cx="2073240" cy="1638360"/>
                </a:xfrm>
              </p:grpSpPr>
              <p:sp>
                <p:nvSpPr>
                  <p:cNvPr id="399" name="Прямая соединительная линия 24"/>
                  <p:cNvSpPr/>
                  <p:nvPr/>
                </p:nvSpPr>
                <p:spPr>
                  <a:xfrm>
                    <a:off x="5857560" y="3779280"/>
                    <a:ext cx="2071080" cy="18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Прямая соединительная линия 31"/>
                  <p:cNvSpPr/>
                  <p:nvPr/>
                </p:nvSpPr>
                <p:spPr>
                  <a:xfrm flipV="1">
                    <a:off x="5857560" y="2142720"/>
                    <a:ext cx="2071080" cy="163440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рямая соединительная линия 36"/>
                  <p:cNvSpPr/>
                  <p:nvPr/>
                </p:nvSpPr>
                <p:spPr>
                  <a:xfrm flipH="1" flipV="1">
                    <a:off x="7928640" y="2142720"/>
                    <a:ext cx="2160" cy="1636560"/>
                  </a:xfrm>
                  <a:prstGeom prst="line">
                    <a:avLst/>
                  </a:prstGeom>
                  <a:ln w="38160">
                    <a:solidFill>
                      <a:srgbClr val="7d926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2" name="TextBox 48"/>
              <p:cNvSpPr/>
              <p:nvPr/>
            </p:nvSpPr>
            <p:spPr>
              <a:xfrm>
                <a:off x="5572080" y="350028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49"/>
              <p:cNvSpPr/>
              <p:nvPr/>
            </p:nvSpPr>
            <p:spPr>
              <a:xfrm>
                <a:off x="7858080" y="200016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50"/>
              <p:cNvSpPr/>
              <p:nvPr/>
            </p:nvSpPr>
            <p:spPr>
              <a:xfrm>
                <a:off x="6000480" y="507204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Box 59"/>
              <p:cNvSpPr/>
              <p:nvPr/>
            </p:nvSpPr>
            <p:spPr>
              <a:xfrm>
                <a:off x="7858080" y="357156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Box 60"/>
              <p:cNvSpPr/>
              <p:nvPr/>
            </p:nvSpPr>
            <p:spPr>
              <a:xfrm>
                <a:off x="5714640" y="421452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7" name="Прямоугольник 63" descr=""/>
          <p:cNvPicPr/>
          <p:nvPr/>
        </p:nvPicPr>
        <p:blipFill>
          <a:blip r:embed="rId3"/>
          <a:stretch/>
        </p:blipFill>
        <p:spPr>
          <a:xfrm>
            <a:off x="249120" y="4516560"/>
            <a:ext cx="3780000" cy="195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4" name="push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2:04:15Z</dcterms:created>
  <dc:creator>user</dc:creator>
  <dc:description/>
  <dc:language>en-US</dc:language>
  <cp:lastModifiedBy>user</cp:lastModifiedBy>
  <dcterms:modified xsi:type="dcterms:W3CDTF">2008-03-10T13:38:48Z</dcterms:modified>
  <cp:revision>70</cp:revision>
  <dc:subject/>
  <dc:title>Проект по геометрии ученика 11 «Б» класса,   Шарынина Антона Александровича</dc:title>
</cp:coreProperties>
</file>