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C29-6646-4F33-BA5F-A104C45B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782-35F2-4AA4-A4DD-F1164886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589-2E80-4882-9AA7-3DE4F250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D98-CC61-411C-B98F-DBD11B36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53A-733A-45E6-8C3F-AC1AC3D8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1A5-A180-4FD6-AB58-C4E06AD4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70B-9347-4462-A1D8-01819D40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51B-8324-47CE-8107-B0B5B9CD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9E8-46DC-4CBC-BF4A-057AC613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CC7-1611-4B52-88B7-F53D0C25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26A-2971-49DE-967B-6DA36BAD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2A3-4BE4-43F4-AE28-CEC0FCB1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8C12-9A1F-426B-B52B-99043856F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95280" y="-1581840"/>
            <a:ext cx="8424720" cy="68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ДОУ «Детский сад №95 «Радуга» компенсирующего ви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Calibri"/>
              </a:rPr>
              <a:t>«Родители – не гости, а полноправные участники коррекционно-педагогического процесса в ДОУ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хайлова Екатерина Васильевна, учитель-логопе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ая квалификационная катег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4150800" y="628668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одвинск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5013360"/>
            <a:ext cx="243036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50920" y="0"/>
            <a:ext cx="864216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шрута логовыстав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альчиками играем – речь  развив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дышим – красиво говор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уем языч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ж здоровье сберегает, помогает, развив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ем – поставленный звук закрепля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ем – словарь расширя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250920" y="241308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выставка помогает родителям научиться    контактировать со своим ребёнком, в интересной форме разучить   различные игры и игровые упражнения по коррекции речи и перенести их в домашние условия, лучше увидеть и оценить своего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C:\Users\ДОМ\AppData\Local\Microsoft\Windows\Temporary Internet Files\Content.Word\DSC08545.jpg"/>
          <p:cNvPicPr/>
          <p:nvPr/>
        </p:nvPicPr>
        <p:blipFill>
          <a:blip r:embed="rId1"/>
          <a:stretch/>
        </p:blipFill>
        <p:spPr>
          <a:xfrm>
            <a:off x="324000" y="2349360"/>
            <a:ext cx="2838240" cy="16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C:\Users\ДОМ\AppData\Local\Microsoft\Windows\Temporary Internet Files\Content.Word\DSC08548.jpg"/>
          <p:cNvPicPr/>
          <p:nvPr/>
        </p:nvPicPr>
        <p:blipFill>
          <a:blip r:embed="rId2"/>
          <a:stretch/>
        </p:blipFill>
        <p:spPr>
          <a:xfrm>
            <a:off x="2411280" y="4149720"/>
            <a:ext cx="2886120" cy="1584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D:\КАТЯ\ЛОГОПЕДИЯ\конференции\фото игры на панно\DSC07438.JPG"/>
          <p:cNvPicPr/>
          <p:nvPr/>
        </p:nvPicPr>
        <p:blipFill>
          <a:blip r:embed="rId3"/>
          <a:stretch/>
        </p:blipFill>
        <p:spPr>
          <a:xfrm>
            <a:off x="5724360" y="2421000"/>
            <a:ext cx="2881440" cy="223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79280" y="0"/>
            <a:ext cx="8785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ворчество родителей и де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уктивная деятельность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дышим - красиво говорим (пособия на дыхание «Озорной ветерок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кие пальчики (пособия на развитие мелкой моторики «Волшебный шарик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е худож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D:\Таня\благодарности\дети гр. Солнышко\DSC08553.JPG"/>
          <p:cNvPicPr/>
          <p:nvPr/>
        </p:nvPicPr>
        <p:blipFill>
          <a:blip r:embed="rId1"/>
          <a:stretch/>
        </p:blipFill>
        <p:spPr>
          <a:xfrm>
            <a:off x="250920" y="2987640"/>
            <a:ext cx="3960720" cy="29685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D:\Таня\благодарности\дети гр. Солнышко\DSC08592.JPG"/>
          <p:cNvPicPr/>
          <p:nvPr/>
        </p:nvPicPr>
        <p:blipFill>
          <a:blip r:embed="rId2"/>
          <a:stretch/>
        </p:blipFill>
        <p:spPr>
          <a:xfrm>
            <a:off x="4859280" y="3357720"/>
            <a:ext cx="345600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179280" y="189000"/>
            <a:ext cx="878544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е сказочники (совместное создание книжки-малышки) – «Моя сказка» (по опорным схем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для род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ребенку сказки, а потом помогите ему сочинить свою. Подарите себе и ребенку минуты радости. Дайте ему «…эту дивную способность волноваться чужими несчастьями, радоваться радости другого, переживать чужую судьбу как свою» (К.И. Чуковский). Дайте ему возможность почувствовать себя настоящим сказочнико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! Учить ребенка творить  - важная, благородная задача! И пусть семейное творчество дарит радость сближения и взаимопонимани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" descr="C:\Users\ДОМ\AppData\Local\Microsoft\Windows\Temporary Internet Files\Content.Word\DSC08589.jpg"/>
          <p:cNvPicPr/>
          <p:nvPr/>
        </p:nvPicPr>
        <p:blipFill>
          <a:blip r:embed="rId1"/>
          <a:stretch/>
        </p:blipFill>
        <p:spPr>
          <a:xfrm>
            <a:off x="5435640" y="2492280"/>
            <a:ext cx="3251160" cy="3168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D:\Таня\благодарности\дети гр. Солнышко\DSC08593.JPG"/>
          <p:cNvPicPr/>
          <p:nvPr/>
        </p:nvPicPr>
        <p:blipFill>
          <a:blip r:embed="rId2"/>
          <a:stretch/>
        </p:blipFill>
        <p:spPr>
          <a:xfrm>
            <a:off x="826920" y="2852640"/>
            <a:ext cx="374508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79280" y="0"/>
            <a:ext cx="8713800" cy="71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детско-родительская деяте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казать значимость совместной работы взрослого и ребенка в развитии умений и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-родительская деятельность – одна из нетрадиционных форм организации взаимодействия родителей и ребенка, предусматривающая максимальную активность как детей, так и их родителей. Такая деятельность направлена не только на развитие детей, обобщение приобретенных ими знаний, но также способствуют формированию критичного отношения к своему ребенку и приобретению ряда педагогических компетенций взрос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тренин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«Играем - пальчики развиваем», «Играем - поставленный звук закрепляем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ире звуков и сл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нир знато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ники и умнич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D:\Таня\благодарности\дети гр. Солнышко\DSC08538.JPG"/>
          <p:cNvPicPr/>
          <p:nvPr/>
        </p:nvPicPr>
        <p:blipFill>
          <a:blip r:embed="rId1"/>
          <a:stretch/>
        </p:blipFill>
        <p:spPr>
          <a:xfrm>
            <a:off x="4859280" y="3789360"/>
            <a:ext cx="385308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250920" y="18900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, праздники, спектакли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подготовка детей к выступле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-конкурс «Речевич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чтецов «Радуга стих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детского творчества «У Белого мор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C:\Users\ДОМ\AppData\Local\Microsoft\Windows\Temporary Internet Files\Content.Word\SAM_0023.jpg"/>
          <p:cNvPicPr/>
          <p:nvPr/>
        </p:nvPicPr>
        <p:blipFill>
          <a:blip r:embed="rId1"/>
          <a:stretch/>
        </p:blipFill>
        <p:spPr>
          <a:xfrm>
            <a:off x="4643280" y="3213000"/>
            <a:ext cx="3573720" cy="241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D:\Таня\благодарности\дети гр. Солнышко\DSC08566.JPG"/>
          <p:cNvPicPr/>
          <p:nvPr/>
        </p:nvPicPr>
        <p:blipFill>
          <a:blip r:embed="rId2"/>
          <a:stretch/>
        </p:blipFill>
        <p:spPr>
          <a:xfrm>
            <a:off x="971640" y="2708280"/>
            <a:ext cx="252072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250920" y="2602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 «Мы сами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«День защитника Отече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кль «Волк и семеро козлят на новый лад», «Спящая красавиц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D:\фото\сафу12\P1110828.JPG"/>
          <p:cNvPicPr/>
          <p:nvPr/>
        </p:nvPicPr>
        <p:blipFill>
          <a:blip r:embed="rId1"/>
          <a:stretch/>
        </p:blipFill>
        <p:spPr>
          <a:xfrm>
            <a:off x="395280" y="1700280"/>
            <a:ext cx="3537000" cy="26524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355464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24000" y="-567360"/>
            <a:ext cx="856908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24000" y="620640"/>
            <a:ext cx="8496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традиционных и интерактивных форм работы по совместной деятельности родителей и ребенка способству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ю родителей в сферу педагогической деятель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сти, активному участию в коррекционно-образовательном процес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ю практических навыков по использованию методических пособий в домашних услов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ю условий для нормального личностного развития ребенка в семье и детском с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403280" y="131940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им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50920" y="189000"/>
            <a:ext cx="8642160" cy="63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Участие родителей в совместной с логопедом работ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ет   благоприятные условия  для преодо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овершенств детской речи»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.Е. Хватц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естественные учителя своего ребенка, от них зависит чрезвычайно много, в их руках очень сильное воспитательное средство - любовь к своему ребенку. А наше дело организовать такую среду и создать такие условия, чтобы эта любовь и поддержка развили в ребенке все необходимые для жизни в обществе навыки и умения. Вот тогда мы и сможем выстроить подлинное доверительное партнерство с семьей на основе диалогической стратегии сотрудничества логопеда и род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ая задач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ы с родителями  – это формирование и стимуляция мотивационного отношения родителей к коррекционно-развивающей работе с детьми. Чтобы родители помогали детскому учреждению, их надо «впустить» в него. Руководствуясь этим принципом и девизом: «Родитель - не гость, а полноправный член команды ДОУ», строим свое общение с родител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50920" y="189000"/>
            <a:ext cx="8642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разны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и фор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аналитической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а сотрудничества и взаимопонимания, обеспечивает единство взглядов на воспитание и обучение дошкольник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заняти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ффективная форма выявления динамики развития ребенк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http://cs409631.vk.me/v409631153/39a/r0gpLZxe58w.jpg"/>
          <p:cNvPicPr/>
          <p:nvPr/>
        </p:nvPicPr>
        <p:blipFill>
          <a:blip r:embed="rId1"/>
          <a:stretch/>
        </p:blipFill>
        <p:spPr>
          <a:xfrm>
            <a:off x="4788000" y="2421000"/>
            <a:ext cx="2179440" cy="17510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250920" y="422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класс, семинар-практикум, родительские пятиминутки, обучающий индивидуальный практику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енная форма обучения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D:\Таня\благодарности\дети гр. Солнышко\DSC08555.JPG"/>
          <p:cNvPicPr/>
          <p:nvPr/>
        </p:nvPicPr>
        <p:blipFill>
          <a:blip r:embed="rId2"/>
          <a:stretch/>
        </p:blipFill>
        <p:spPr>
          <a:xfrm>
            <a:off x="3132000" y="4941720"/>
            <a:ext cx="223200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50920" y="189000"/>
            <a:ext cx="86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лучение информации, выявление запросов, пожеланий способствуют значительно повысить эффективность коррекционно-воспитате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, тематические выставки, выставки игр и пособий, папки-передвижки, библиотечка для родител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ализуют потребность родителей  в зна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буклеты, специальные памятки, тематические консультации, газета «Радужка», интернет-ресурс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имулируют мотивацию родителей к педагогическим зн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D:\Таня\благодарности\дети гр. Солнышко\DSC08543.JPG"/>
          <p:cNvPicPr/>
          <p:nvPr/>
        </p:nvPicPr>
        <p:blipFill>
          <a:blip r:embed="rId1"/>
          <a:stretch/>
        </p:blipFill>
        <p:spPr>
          <a:xfrm>
            <a:off x="5003640" y="3284640"/>
            <a:ext cx="3889440" cy="2916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D:\Таня\благодарности\дети гр. Солнышко\DSC08500.JPG"/>
          <p:cNvPicPr/>
          <p:nvPr/>
        </p:nvPicPr>
        <p:blipFill>
          <a:blip r:embed="rId2"/>
          <a:stretch/>
        </p:blipFill>
        <p:spPr>
          <a:xfrm>
            <a:off x="611280" y="4941720"/>
            <a:ext cx="1871640" cy="1492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D:\Таня\благодарности\дети гр. Солнышко\DSC08591.JPG"/>
          <p:cNvPicPr/>
          <p:nvPr/>
        </p:nvPicPr>
        <p:blipFill>
          <a:blip r:embed="rId3"/>
          <a:stretch/>
        </p:blipFill>
        <p:spPr>
          <a:xfrm>
            <a:off x="2916360" y="3860640"/>
            <a:ext cx="1638000" cy="21844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D:\Таня\благодарности\дети гр. Солнышко\DSC08594.JPG"/>
          <p:cNvPicPr/>
          <p:nvPr/>
        </p:nvPicPr>
        <p:blipFill>
          <a:blip r:embed="rId4"/>
          <a:stretch/>
        </p:blipFill>
        <p:spPr>
          <a:xfrm>
            <a:off x="395280" y="3213000"/>
            <a:ext cx="22338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50920" y="1890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– создавать  условия  для  ситуативно-делового,  личностно-ориентированного  общения  на  основе  общего 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3203640" y="2565360"/>
            <a:ext cx="2089080" cy="194328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Е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я 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3"/>
          <p:cNvSpPr/>
          <p:nvPr/>
        </p:nvSpPr>
        <p:spPr>
          <a:xfrm>
            <a:off x="3276720" y="4797360"/>
            <a:ext cx="1582560" cy="152244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4"/>
          <p:cNvSpPr/>
          <p:nvPr/>
        </p:nvSpPr>
        <p:spPr>
          <a:xfrm>
            <a:off x="1476360" y="1125360"/>
            <a:ext cx="1781280" cy="172728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5"/>
          <p:cNvSpPr/>
          <p:nvPr/>
        </p:nvSpPr>
        <p:spPr>
          <a:xfrm>
            <a:off x="5651640" y="4437000"/>
            <a:ext cx="1873080" cy="180036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6"/>
          <p:cNvSpPr/>
          <p:nvPr/>
        </p:nvSpPr>
        <p:spPr>
          <a:xfrm>
            <a:off x="971640" y="3789360"/>
            <a:ext cx="1782720" cy="172728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7"/>
          <p:cNvSpPr/>
          <p:nvPr/>
        </p:nvSpPr>
        <p:spPr>
          <a:xfrm>
            <a:off x="4716360" y="836640"/>
            <a:ext cx="2232000" cy="208764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к  праздникам, конкур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9"/>
          <p:cNvSpPr/>
          <p:nvPr/>
        </p:nvSpPr>
        <p:spPr>
          <a:xfrm>
            <a:off x="6659640" y="2349360"/>
            <a:ext cx="2016000" cy="194328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ь в  спектак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1"/>
          <p:cNvCxnSpPr>
            <a:endCxn id="58" idx="1"/>
          </p:cNvCxnSpPr>
          <p:nvPr/>
        </p:nvCxnSpPr>
        <p:spPr>
          <a:xfrm>
            <a:off x="5148360" y="4005000"/>
            <a:ext cx="77832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12"/>
          <p:cNvCxnSpPr/>
          <p:nvPr/>
        </p:nvCxnSpPr>
        <p:spPr>
          <a:xfrm flipV="1">
            <a:off x="5292360" y="3212280"/>
            <a:ext cx="136764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Прямоугольник 16"/>
          <p:cNvSpPr/>
          <p:nvPr/>
        </p:nvSpPr>
        <p:spPr>
          <a:xfrm>
            <a:off x="179280" y="6021360"/>
            <a:ext cx="896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интересные дела помогают взрослым вступить с ребенком в об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7"/>
          <p:cNvCxnSpPr>
            <a:endCxn id="57" idx="5"/>
          </p:cNvCxnSpPr>
          <p:nvPr/>
        </p:nvCxnSpPr>
        <p:spPr>
          <a:xfrm flipH="1" flipV="1">
            <a:off x="2996640" y="2599920"/>
            <a:ext cx="423000" cy="32472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66" name="Прямая со стрелкой 26"/>
          <p:cNvCxnSpPr>
            <a:endCxn id="59" idx="7"/>
          </p:cNvCxnSpPr>
          <p:nvPr/>
        </p:nvCxnSpPr>
        <p:spPr>
          <a:xfrm flipH="1">
            <a:off x="2493360" y="3716280"/>
            <a:ext cx="7102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32"/>
          <p:cNvCxnSpPr>
            <a:stCxn id="55" idx="1"/>
          </p:cNvCxnSpPr>
          <p:nvPr/>
        </p:nvCxnSpPr>
        <p:spPr>
          <a:xfrm flipH="1" flipV="1">
            <a:off x="3058920" y="2491920"/>
            <a:ext cx="45144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37"/>
          <p:cNvCxnSpPr>
            <a:endCxn id="60" idx="3"/>
          </p:cNvCxnSpPr>
          <p:nvPr/>
        </p:nvCxnSpPr>
        <p:spPr>
          <a:xfrm flipV="1">
            <a:off x="4859280" y="2617560"/>
            <a:ext cx="185040" cy="16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45"/>
          <p:cNvCxnSpPr>
            <a:stCxn id="55" idx="4"/>
          </p:cNvCxnSpPr>
          <p:nvPr/>
        </p:nvCxnSpPr>
        <p:spPr>
          <a:xfrm flipH="1">
            <a:off x="4210920" y="4508640"/>
            <a:ext cx="37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324000" y="2890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о организации совместной деятельности родителей и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ординировать деятельность участников коррекционно-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ть эмоциональный контакт родителей с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партнерские взаимоотношения родителей 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лизовать планы по организации совместных дел родителей 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250920" y="76500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2843280" y="2349360"/>
            <a:ext cx="3000240" cy="122400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совместной деятельности родителя 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700360" y="765000"/>
            <a:ext cx="3000240" cy="107316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тренинг, викторина, турнир знат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4643280" y="5157720"/>
            <a:ext cx="3360960" cy="92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продуктивная деяте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24000" y="2708280"/>
            <a:ext cx="1774800" cy="85716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выст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6516720" y="2565360"/>
            <a:ext cx="2028960" cy="107964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о-развивающ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826920" y="5157720"/>
            <a:ext cx="3000600" cy="85716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и, конкурсы, спектак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1"/>
          <p:cNvCxnSpPr>
            <a:stCxn id="73" idx="2"/>
          </p:cNvCxnSpPr>
          <p:nvPr/>
        </p:nvCxnSpPr>
        <p:spPr>
          <a:xfrm>
            <a:off x="4200120" y="1838160"/>
            <a:ext cx="118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16"/>
          <p:cNvCxnSpPr>
            <a:stCxn id="77" idx="0"/>
          </p:cNvCxnSpPr>
          <p:nvPr/>
        </p:nvCxnSpPr>
        <p:spPr>
          <a:xfrm flipV="1">
            <a:off x="2327400" y="3572640"/>
            <a:ext cx="138168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22"/>
          <p:cNvCxnSpPr>
            <a:stCxn id="75" idx="3"/>
          </p:cNvCxnSpPr>
          <p:nvPr/>
        </p:nvCxnSpPr>
        <p:spPr>
          <a:xfrm>
            <a:off x="2098800" y="3136680"/>
            <a:ext cx="7452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24"/>
          <p:cNvCxnSpPr>
            <a:stCxn id="76" idx="1"/>
          </p:cNvCxnSpPr>
          <p:nvPr/>
        </p:nvCxnSpPr>
        <p:spPr>
          <a:xfrm flipH="1" flipV="1">
            <a:off x="5866920" y="3067920"/>
            <a:ext cx="65016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28"/>
          <p:cNvCxnSpPr>
            <a:stCxn id="74" idx="0"/>
          </p:cNvCxnSpPr>
          <p:nvPr/>
        </p:nvCxnSpPr>
        <p:spPr>
          <a:xfrm flipH="1" flipV="1">
            <a:off x="5003280" y="3572640"/>
            <a:ext cx="132120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250920" y="189000"/>
            <a:ext cx="86421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о-развивающая деятель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крепление речевых умений и навыков, привлечение родителей к активному участию в коррекционном процессе по преодолению речевого нарушения у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дителей в данном виде деятельности (выработка необходимых речевых навыков и умений) является мощным стимулом в формировании мотивации ребенка. Навык без тренировки – вещь бесполезная. А что может быть лучше для речевого навыка, чем тренинг в общении с близкими (с учетом ведущей деятельности дошкольного возраста – игры). Важно, чтобы игры были не только поучительными, но и вызывали интерес, радов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игровая, продуктивная деятельность позволяет родителям участвовать в коррекционно-развивающей работе, видеть динамику развития и коррекции речи своих детей. Дети чувствуют поддержку, одобрение, заинтересованность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50920" y="0"/>
            <a:ext cx="8642160" cy="69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выст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выстав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традиционная форма взаимодействия родителей и ребенка, наиболее подходящая для формирования у родителей активной позиции в развитии игровой деятельности детей. Родитель вместе с ребенком находится в логопедическом кабинете, выполняют игровые задания. Логопед объясняет правила игры, дает краткую информацию об особенности игрового материала, возможности использования в домашних услови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говыставки – формировать осознанное отношение родителей к вопросам воспитания ребенка с нарушением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гатить умение родителей взаимодействовать с ребенком; поддержать уверенность родителя в собственных педагогических возможностях; активизировать взаимодействие родителя с ребенком в пределах детской компетент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готовки и проведения логовыстав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ластей; выбор наиболее актуальных заданий; подготовка материала; оформление плаката-приглашения; подготовка игровой среды; проведение выставки; обратная связь: отзывы родителей; поощр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ДОМ</cp:lastModifiedBy>
  <dcterms:modified xsi:type="dcterms:W3CDTF">2013-10-19T15:55:30Z</dcterms:modified>
  <cp:revision>196</cp:revision>
  <dc:subject/>
  <dc:title>Слайд 1</dc:title>
</cp:coreProperties>
</file>