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28.png" ContentType="image/png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1.jpeg" ContentType="image/jpeg"/>
  <Override PartName="/ppt/media/image8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5.gif" ContentType="image/gif"/>
  <Override PartName="/ppt/media/image17.png" ContentType="image/png"/>
  <Override PartName="/ppt/media/image1.jpeg" ContentType="image/jpeg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8C9-85E0-4A82-BE61-142079B3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70B-D573-473B-A281-46B5B4D9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7601C-431F-4135-B7D1-7BB38C75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9D82C-FC54-4096-9FA7-DAE23882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E51FB-A622-4CD6-8AFF-0695E1EC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C4BAA-2915-484E-9C21-745554E3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59201-4517-45B8-B2AC-1A9C96B3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FA550-D2BD-4DEB-A6C8-AE0BE32F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E98E9-B344-44A7-BE53-ECD48A61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DFC71-5516-42CE-84C8-C628BE68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E6172-9212-4FBA-81C5-1CC5770E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EC8-6297-4AA9-AC09-A7894079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E80-C65C-44E6-A26B-F78D0264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08C8-1300-4778-80EB-47E6CCBD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9EF3-581E-4B76-B40C-55477714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7074-5B82-4392-BACF-06483C8F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AED0-380D-4334-A829-2E19BA1C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59B8-E914-412E-899D-6A9730D2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D2CD-AE3E-4329-A428-1B4E4329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799A-C551-46CC-83F4-DB6341E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D7A-80F1-42D4-82A8-6ADBA56F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73C3-3F47-4237-BD34-8A70BFE9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4769-559D-41CC-9DBA-71D2E21B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12E6-3D69-4301-B93F-039C2DBA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60C1-4890-4962-A6CA-E1654C2B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71CB-3F44-4456-BDFC-899566AD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FEDAA-887B-4894-A9F4-1EE3F051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7F866-8A63-4B85-992A-D973EEDE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E931-2CED-4CF8-BA2B-25C4870B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16AF-63DF-4495-AA72-61F738BA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C88D5-A569-4B12-8A71-35A86207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EBC-355D-4F7E-A668-31D531A0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9C871-954D-4D97-9BD7-0BBCBFFC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8D609-566F-48B1-9F9F-A7741715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E1558-C44A-4C09-A561-DC18356B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A95E-367A-46DC-BE82-6DD1DC6D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E3A93-9AB4-4D97-B046-20909755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3D04-F685-4808-B7B5-1CF7FE24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ED9AA-DD79-4C08-B4DA-5CDE4D70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21A30-8E6A-4972-83F3-58E20BFD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70199-B411-469A-958A-3A832A0B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6C804-11E6-4BEA-9429-39459DF9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CA5-01AA-433D-B3B2-AAFF3B87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1EE5E-78ED-4629-9D29-EAE74761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A233A-2429-4349-85D1-B916CD8B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3CB6D-AF72-409B-BEBB-BD244679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D4029-E30C-4EE9-9C7F-2D955BA2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AB3E9-E836-4DD2-98C8-D6B65051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EDBF9-5A21-49B6-AB07-66875AC5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8145C-09CB-46DF-AA00-067DB20D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1D028-5B08-4B66-AACE-219E9F8E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8BC06-FD19-434D-93F2-D6481B45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B60E-0B83-458A-A60F-29C5812B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9BF-4090-4C58-935E-AF8BAD35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99084-2CB1-442D-94DC-7F5F0556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9D0C6-D9ED-47AF-BE6A-6C006459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78CBB-1716-4935-A8E9-2EC16E6B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0ED7E-733D-49CE-B7BD-2F02B981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AB01D-61A2-47D4-81B1-6DE02E28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2C8C3-9957-4A4F-807C-8D07C7B2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96EA8-28D6-4954-8310-029E5248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05EA2-BCF9-4195-B0E8-198A7DEC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51DED-2523-4FB8-91D5-E645353E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38A5B-E312-4428-B76B-C8DB609A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B25-C7BF-4A7C-85B2-BC0D56FE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8F2AB-1EC2-4697-A3CA-CE2A0B0D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5B590-0299-4CCB-8709-C68FE0AA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A94DC-09D8-4C75-8647-C780C574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87F65-DB49-4578-8A64-F31737E2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77FED-652A-487C-8B55-7B7A9513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7DE34-D570-49D6-8980-E2A796D2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F93E0-29DF-475C-94D6-CB56F5DB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23CA8-1FA3-42A9-AA85-31801DE6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A8FDF-9A1C-47A7-89D1-B8307B31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BDA8F-A082-439A-8EBF-206DC8D8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523-9802-4351-91F7-AB2BE300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76059-49CD-4460-AA29-9D83B3B3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DE5EB-A892-477F-96DD-D2B1963D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BE5EB-5DA0-4145-A64A-4F2861C1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90A3D-0D93-4F72-910B-6C462761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4E86E-2583-4842-B876-A6BA0CE8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F54C1-53B5-4A0C-B3B3-75CA2A7D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A82CB-05E8-486E-8A51-9D6F3955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7CE32-A582-4863-B3F6-A13670E7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5BFAF-91D7-404C-BDD5-12D12E06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07F90-7FAF-42E7-8889-88FE0A55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A8F-7BAD-4868-B25B-2E5C817F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2599E-A4B3-435D-8BC9-F80E6A75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F29BB-82D4-4213-B6A7-DA005E21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F7917-AAF3-48E2-A97B-3362AAB4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BC44F-7EF7-4E1D-8321-56F33DF8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27AB7-E232-443C-B3D3-86A94696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01E66-90A8-4777-81AF-F1E3A203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662D0-1665-47B9-BA71-A2BB2A9A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04E5A-FE63-4E9A-A2B7-CA12C771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EACB2-7FBF-453B-8C23-3575E5B8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85FB9-1493-4ADB-B5C4-18355F78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37A-2335-4B4B-8C11-F93EBFCE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FCAF8-15F7-43B9-B58D-70FE46DF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25C24-3B35-49CA-BECF-6F7AAAE3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A748F-2A30-4B7C-8E0E-270F8E6B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CF508-A077-4C27-93B9-D5658C87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59126-F67B-4C5E-ADC8-E3897E2C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627FF-5BB0-4B20-BDB0-F7DC4045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231DC-10F9-432A-8132-611EF7F4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8B92A-A5C0-42F4-AE25-41F9530D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2350E-CF6A-472D-9D1A-C9486470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BF222-E3C8-4B41-B19B-DCA22B1F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E2BB-F86A-400B-AAE4-5B1FFA0E38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7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8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9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0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1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2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3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4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5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6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7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8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19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20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DFF5-0A4B-4DAD-BBC4-66151F13556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24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C132-B5E2-4469-9016-0F56DFF05D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8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9692-4D10-4B72-96EE-826CACB63D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6016-F7C8-4F0B-A4DF-C55F2D5DBD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CCE4-2FC3-4401-B80A-AED5A6FE75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FA0A-45E7-4FC6-B305-71E4438277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0621-6695-4049-AD30-62309808937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9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9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0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1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1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1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1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1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1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1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1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1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2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3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4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5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6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7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8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59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0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1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2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3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  <p:sp>
            <p:nvSpPr>
              <p:cNvPr id="64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85540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5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9B5C-7A20-4765-A1A1-7AEC6F9A7E9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WordArt 7"/>
          <p:cNvSpPr txBox="1"/>
          <p:nvPr/>
        </p:nvSpPr>
        <p:spPr>
          <a:xfrm>
            <a:off x="571680" y="1000080"/>
            <a:ext cx="742932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3895200" y="3771720"/>
            <a:ext cx="4884840" cy="20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dobe Caslon Pro"/>
              </a:rPr>
              <a:t>Выполнила: ученица 9В класс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dobe Caslon Pro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Adobe Caslon Pro"/>
              </a:rPr>
              <a:t>МБОУ «СОШ№2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dobe Caslon Pro"/>
              </a:rPr>
              <a:t>Андронова Юл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dobe Caslon Pro"/>
              </a:rPr>
              <a:t>Учитель:  истории и обществознания Горшонкова Н.Ю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Rectangle 7"/>
          <p:cNvSpPr/>
          <p:nvPr/>
        </p:nvSpPr>
        <p:spPr>
          <a:xfrm>
            <a:off x="2124000" y="549360"/>
            <a:ext cx="504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Blackadder ITC"/>
              </a:rPr>
              <a:t>Презентация </a:t>
            </a:r>
            <a:br>
              <a:rPr sz="4400"/>
            </a:br>
            <a:r>
              <a:rPr b="1" i="1" lang="ru-RU" sz="4400" spc="-1" strike="noStrike">
                <a:solidFill>
                  <a:srgbClr val="ffffcc"/>
                </a:solidFill>
                <a:latin typeface="Blackadder ITC"/>
              </a:rPr>
              <a:t>     </a:t>
            </a:r>
            <a:r>
              <a:rPr b="1" i="1" lang="en-US" sz="4400" spc="-1" strike="noStrike">
                <a:solidFill>
                  <a:srgbClr val="ffffcc"/>
                </a:solidFill>
                <a:latin typeface="Blackadder ITC"/>
              </a:rPr>
              <a:t>   </a:t>
            </a:r>
            <a:r>
              <a:rPr b="1" i="1" lang="ru-RU" sz="4400" spc="-1" strike="noStrike">
                <a:solidFill>
                  <a:srgbClr val="ffffcc"/>
                </a:solidFill>
                <a:latin typeface="Blackadder ITC"/>
              </a:rPr>
              <a:t>на тему:</a:t>
            </a:r>
            <a:br>
              <a:rPr sz="4400"/>
            </a:br>
            <a:r>
              <a:rPr b="1" i="1" lang="ru-RU" sz="4400" spc="-1" strike="noStrike">
                <a:solidFill>
                  <a:srgbClr val="ffffcc"/>
                </a:solidFill>
                <a:latin typeface="Blackadder ITC"/>
              </a:rPr>
              <a:t>Семейное право</a:t>
            </a:r>
            <a:endParaRPr b="1" lang="en-US" sz="4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540a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Rectangle 2" descr=""/>
          <p:cNvPicPr/>
          <p:nvPr/>
        </p:nvPicPr>
        <p:blipFill>
          <a:blip r:embed="rId1"/>
          <a:stretch/>
        </p:blipFill>
        <p:spPr>
          <a:xfrm>
            <a:off x="30240" y="79200"/>
            <a:ext cx="9010440" cy="798840"/>
          </a:xfrm>
          <a:prstGeom prst="rect">
            <a:avLst/>
          </a:prstGeom>
          <a:ln w="0">
            <a:noFill/>
          </a:ln>
        </p:spPr>
      </p:pic>
      <p:sp>
        <p:nvSpPr>
          <p:cNvPr id="762" name="Text Box 4"/>
          <p:cNvSpPr/>
          <p:nvPr/>
        </p:nvSpPr>
        <p:spPr>
          <a:xfrm>
            <a:off x="5000760" y="571680"/>
            <a:ext cx="392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ец и мать состоящие в браке записываются родителями по заявлению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юбого из них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63" name="WordArt 5"/>
          <p:cNvSpPr txBox="1"/>
          <p:nvPr/>
        </p:nvSpPr>
        <p:spPr>
          <a:xfrm>
            <a:off x="2000160" y="2214720"/>
            <a:ext cx="4791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Мать не состоит в браке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sp>
        <p:nvSpPr>
          <p:cNvPr id="764" name="Text Box 6"/>
          <p:cNvSpPr/>
          <p:nvPr/>
        </p:nvSpPr>
        <p:spPr>
          <a:xfrm>
            <a:off x="179280" y="2500200"/>
            <a:ext cx="885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если нет совместного заявления родителей, или решения суда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 установлении отцовства, записывается фамилия матери, а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мя и отчество - по ее указанию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65" name="WordArt 7"/>
          <p:cNvSpPr txBox="1"/>
          <p:nvPr/>
        </p:nvSpPr>
        <p:spPr>
          <a:xfrm>
            <a:off x="642960" y="3714840"/>
            <a:ext cx="79912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роисхождение ребенка от матери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766" name="Text Box 8"/>
          <p:cNvSpPr/>
          <p:nvPr/>
        </p:nvSpPr>
        <p:spPr>
          <a:xfrm>
            <a:off x="294480" y="4071960"/>
            <a:ext cx="866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авливается органом ЗАГСа на основании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окументов медицинского учреждения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и рождении вне медицинского учреждения - на основании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казаний свидетелей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67" name="WordArt 9"/>
          <p:cNvSpPr txBox="1"/>
          <p:nvPr/>
        </p:nvSpPr>
        <p:spPr>
          <a:xfrm>
            <a:off x="571680" y="5572080"/>
            <a:ext cx="79912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роисхождение ребенка от отца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768" name="Text Box 10"/>
          <p:cNvSpPr/>
          <p:nvPr/>
        </p:nvSpPr>
        <p:spPr>
          <a:xfrm>
            <a:off x="7200" y="585792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тцом признается супруг,бывший супруг,если не доказано иное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если не состоит в браке - на основании совместного заявления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pic>
        <p:nvPicPr>
          <p:cNvPr id="769" name="Picture 38" descr="j0344285"/>
          <p:cNvPicPr/>
          <p:nvPr/>
        </p:nvPicPr>
        <p:blipFill>
          <a:blip r:embed="rId2"/>
          <a:stretch/>
        </p:blipFill>
        <p:spPr>
          <a:xfrm>
            <a:off x="2857680" y="785880"/>
            <a:ext cx="17143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77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770" fill="hold"/>
                                        <p:tgtEl>
                                          <p:spTgt spid="7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1700"/>
                            </p:stCondLst>
                            <p:childTnLst>
                              <p:par>
                                <p:cTn id="5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3700"/>
                            </p:stCondLst>
                            <p:childTnLst>
                              <p:par>
                                <p:cTn id="5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7400"/>
                            </p:stCondLst>
                            <p:childTnLst>
                              <p:par>
                                <p:cTn id="5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7900"/>
                            </p:stCondLst>
                            <p:childTnLst>
                              <p:par>
                                <p:cTn id="5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2900"/>
                            </p:stCondLst>
                            <p:childTnLst>
                              <p:par>
                                <p:cTn id="55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7900"/>
                            </p:stCondLst>
                            <p:childTnLst>
                              <p:par>
                                <p:cTn id="5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Rectangle 2" descr=""/>
          <p:cNvPicPr/>
          <p:nvPr/>
        </p:nvPicPr>
        <p:blipFill>
          <a:blip r:embed="rId1"/>
          <a:stretch/>
        </p:blipFill>
        <p:spPr>
          <a:xfrm>
            <a:off x="30240" y="79200"/>
            <a:ext cx="9010440" cy="798840"/>
          </a:xfrm>
          <a:prstGeom prst="rect">
            <a:avLst/>
          </a:prstGeom>
          <a:ln w="0">
            <a:noFill/>
          </a:ln>
        </p:spPr>
      </p:pic>
      <p:sp>
        <p:nvSpPr>
          <p:cNvPr id="771" name="WordArt 3"/>
          <p:cNvSpPr txBox="1"/>
          <p:nvPr/>
        </p:nvSpPr>
        <p:spPr>
          <a:xfrm>
            <a:off x="214200" y="1143000"/>
            <a:ext cx="2714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99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а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99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99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совершеннолетних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99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99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тей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99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2" name="Text Box 4"/>
          <p:cNvSpPr/>
          <p:nvPr/>
        </p:nvSpPr>
        <p:spPr>
          <a:xfrm>
            <a:off x="5214960" y="928800"/>
            <a:ext cx="376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ебенок имеет право жить и воспитываться в семье, право на общение с родителями, бабушками, дедушками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73" name="Text Box 11"/>
          <p:cNvSpPr/>
          <p:nvPr/>
        </p:nvSpPr>
        <p:spPr>
          <a:xfrm>
            <a:off x="214200" y="307188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Ребенок имеет право 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на защиту своих прав и законных интересов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на защиту от злоупотреблений со стороны родителей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выражать свое мнение, которое учитывается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право на получение содержания от своих родителей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право собственности на доходы, наследство и т.д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 имеет права на собственность на имущество родителей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так же как и они не имеют права собственности на его имущество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pic>
        <p:nvPicPr>
          <p:cNvPr id="774" name="Picture 52" descr="j0310156"/>
          <p:cNvPicPr/>
          <p:nvPr/>
        </p:nvPicPr>
        <p:blipFill>
          <a:blip r:embed="rId2"/>
          <a:stretch/>
        </p:blipFill>
        <p:spPr>
          <a:xfrm>
            <a:off x="3357720" y="928800"/>
            <a:ext cx="1357200" cy="1832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77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8" dur="770" fill="hold"/>
                                        <p:tgtEl>
                                          <p:spTgt spid="7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000"/>
                            </p:stCondLst>
                            <p:childTnLst>
                              <p:par>
                                <p:cTn id="5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9000"/>
                            </p:stCondLst>
                            <p:childTnLst>
                              <p:par>
                                <p:cTn id="5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8700"/>
                            </p:stCondLst>
                            <p:childTnLst>
                              <p:par>
                                <p:cTn id="5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Rectangle 2" descr=""/>
          <p:cNvPicPr/>
          <p:nvPr/>
        </p:nvPicPr>
        <p:blipFill>
          <a:blip r:embed="rId1"/>
          <a:stretch/>
        </p:blipFill>
        <p:spPr>
          <a:xfrm>
            <a:off x="30240" y="79200"/>
            <a:ext cx="9010440" cy="798840"/>
          </a:xfrm>
          <a:prstGeom prst="rect">
            <a:avLst/>
          </a:prstGeom>
          <a:ln w="0">
            <a:noFill/>
          </a:ln>
        </p:spPr>
      </p:pic>
      <p:sp>
        <p:nvSpPr>
          <p:cNvPr id="776" name="WordArt 3"/>
          <p:cNvSpPr txBox="1"/>
          <p:nvPr/>
        </p:nvSpPr>
        <p:spPr>
          <a:xfrm>
            <a:off x="179280" y="1268280"/>
            <a:ext cx="234000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6fa9b7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а и</a:t>
            </a:r>
            <a:endParaRPr b="1" i="1" lang="en-US" sz="2400" spc="1" strike="noStrike">
              <a:ln w="9360">
                <a:solidFill>
                  <a:srgbClr val="6fa9b7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6fa9b7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язанности</a:t>
            </a:r>
            <a:endParaRPr b="1" i="1" lang="en-US" sz="2400" spc="1" strike="noStrike">
              <a:ln w="9360">
                <a:solidFill>
                  <a:srgbClr val="6fa9b7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6fa9b7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ителей</a:t>
            </a:r>
            <a:endParaRPr b="1" i="1" lang="en-US" sz="2400" spc="1" strike="noStrike">
              <a:ln w="9360">
                <a:solidFill>
                  <a:srgbClr val="6fa9b7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7" name="Text Box 4"/>
          <p:cNvSpPr/>
          <p:nvPr/>
        </p:nvSpPr>
        <p:spPr>
          <a:xfrm>
            <a:off x="2643120" y="714240"/>
            <a:ext cx="650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одители имеют равные права и несут равные обязанности в отношении своих детей. Они обязаны воспитывать своих детей, обеспечить получение ими образования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одители - законные представители своих детей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78" name="Text Box 6"/>
          <p:cNvSpPr/>
          <p:nvPr/>
        </p:nvSpPr>
        <p:spPr>
          <a:xfrm>
            <a:off x="109080" y="3141720"/>
            <a:ext cx="892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 вопросы с воспитанием детей родители решают совместно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сли возникают разногласия-вправе обратиться в органы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еки или суд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79" name="Text Box 7"/>
          <p:cNvSpPr/>
          <p:nvPr/>
        </p:nvSpPr>
        <p:spPr>
          <a:xfrm>
            <a:off x="113040" y="4292640"/>
            <a:ext cx="891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место жительства детей при раздельном проживании родите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й устанавливается соглашением родителей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родитель проживающий отдельно от ребенка, имеет право на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щение с ним, участие в его образовании и воспитании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едушка, бабушка, братья сестры и другие родственники име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т право на общение с ребенком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8800"/>
                            </p:stCondLst>
                            <p:childTnLst>
                              <p:par>
                                <p:cTn id="6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0700"/>
                            </p:stCondLst>
                            <p:childTnLst>
                              <p:par>
                                <p:cTn id="6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WordArt 3"/>
          <p:cNvSpPr txBox="1"/>
          <p:nvPr/>
        </p:nvSpPr>
        <p:spPr>
          <a:xfrm>
            <a:off x="214200" y="1000080"/>
            <a:ext cx="2584440" cy="15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6fa9b7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шение</a:t>
            </a:r>
            <a:endParaRPr b="1" i="1" lang="en-US" sz="2400" spc="1" strike="noStrike">
              <a:ln w="9360">
                <a:solidFill>
                  <a:srgbClr val="6fa9b7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6fa9b7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ительских</a:t>
            </a:r>
            <a:endParaRPr b="1" i="1" lang="en-US" sz="2400" spc="1" strike="noStrike">
              <a:ln w="9360">
                <a:solidFill>
                  <a:srgbClr val="6fa9b7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6fa9b7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</a:t>
            </a:r>
            <a:endParaRPr b="1" i="1" lang="en-US" sz="2400" spc="1" strike="noStrike">
              <a:ln w="9360">
                <a:solidFill>
                  <a:srgbClr val="6fa9b7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5643720" y="714240"/>
            <a:ext cx="324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оисходит по основаниям, предусмотренным законом и только в судебном порядке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82" name="Text Box 6"/>
          <p:cNvSpPr/>
          <p:nvPr/>
        </p:nvSpPr>
        <p:spPr>
          <a:xfrm>
            <a:off x="185040" y="2852640"/>
            <a:ext cx="8721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д может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осстановить родителей в правах, если они изменили образ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зни и отношение к воспитанию ребенк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тобрать ребенка у одного из родителей без лишения родите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ьских прав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ограничение родительских прав)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лица, родительские права которых ограничены утрачивают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о на личное воспитание ребенка, а также право на льго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ы и государственные пособия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рассмотрении в суде дел должен бвть привлечен орган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печительства и опеки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pic>
        <p:nvPicPr>
          <p:cNvPr id="783" name="Rectangle 2" descr=""/>
          <p:cNvPicPr/>
          <p:nvPr/>
        </p:nvPicPr>
        <p:blipFill>
          <a:blip r:embed="rId1"/>
          <a:stretch/>
        </p:blipFill>
        <p:spPr>
          <a:xfrm>
            <a:off x="30240" y="79200"/>
            <a:ext cx="9010440" cy="79884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24" descr="j0343229"/>
          <p:cNvPicPr/>
          <p:nvPr/>
        </p:nvPicPr>
        <p:blipFill>
          <a:blip r:embed="rId2"/>
          <a:stretch/>
        </p:blipFill>
        <p:spPr>
          <a:xfrm>
            <a:off x="3571920" y="785880"/>
            <a:ext cx="17143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800"/>
                            </p:stCondLst>
                            <p:childTnLst>
                              <p:par>
                                <p:cTn id="6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Rectangle 2" descr=""/>
          <p:cNvPicPr/>
          <p:nvPr/>
        </p:nvPicPr>
        <p:blipFill>
          <a:blip r:embed="rId1"/>
          <a:stretch/>
        </p:blipFill>
        <p:spPr>
          <a:xfrm>
            <a:off x="103320" y="23760"/>
            <a:ext cx="8937360" cy="951120"/>
          </a:xfrm>
          <a:prstGeom prst="rect">
            <a:avLst/>
          </a:prstGeom>
          <a:ln w="0">
            <a:noFill/>
          </a:ln>
        </p:spPr>
      </p:pic>
      <p:sp>
        <p:nvSpPr>
          <p:cNvPr id="786" name="WordArt 3"/>
          <p:cNvSpPr txBox="1"/>
          <p:nvPr/>
        </p:nvSpPr>
        <p:spPr>
          <a:xfrm>
            <a:off x="214200" y="714240"/>
            <a:ext cx="875052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latin typeface="Impact"/>
              </a:rPr>
              <a:t>Родители  обязаны  содержать  несовершеннолетних  детей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81320" y="9507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 противном случае взыскиваются алименты в судебном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рядке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468360" y="1790640"/>
            <a:ext cx="85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Порядок взыскания алиментов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размер алиментов определяется по взаимному согласию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Если соглашение не достигнуто - взыскивается судом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один ребенок - 25 % от доходов (ежемесячно)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два ребенка – 33%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три и более – 50%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89" name="Text Box 6"/>
          <p:cNvSpPr/>
          <p:nvPr/>
        </p:nvSpPr>
        <p:spPr>
          <a:xfrm>
            <a:off x="222480" y="4119480"/>
            <a:ext cx="871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мер алиментов может быть изменен в зависимости от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териального положения родителей. Алименты могут быть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лены в твердой денежной сумме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90" name="WordArt 7"/>
          <p:cNvSpPr txBox="1"/>
          <p:nvPr/>
        </p:nvSpPr>
        <p:spPr>
          <a:xfrm>
            <a:off x="179280" y="5300640"/>
            <a:ext cx="882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latin typeface="Impact"/>
              </a:rPr>
              <a:t>Трудоспособные совершеннолетние дети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latin typeface="Impact"/>
              </a:rPr>
              <a:t>обязаны содержать своих нетрудоспособных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791" name="Text Box 8"/>
          <p:cNvSpPr/>
          <p:nvPr/>
        </p:nvSpPr>
        <p:spPr>
          <a:xfrm>
            <a:off x="775440" y="5991120"/>
            <a:ext cx="75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имеют права на содержание родители, лишенные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тельских прав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</p:spTree>
  </p:cSld>
  <p:transition spd="slow" advTm="0">
    <p:blinds dir="vert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100"/>
                            </p:stCondLst>
                            <p:childTnLst>
                              <p:par>
                                <p:cTn id="6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4500"/>
                            </p:stCondLst>
                            <p:childTnLst>
                              <p:par>
                                <p:cTn id="7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1300"/>
                            </p:stCondLst>
                            <p:childTnLst>
                              <p:par>
                                <p:cTn id="7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1800"/>
                            </p:stCondLst>
                            <p:childTnLst>
                              <p:par>
                                <p:cTn id="7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77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0" dur="770" fill="hold"/>
                                        <p:tgtEl>
                                          <p:spTgt spid="7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2" dur="77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4" dur="77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Rectangle 2" descr=""/>
          <p:cNvPicPr/>
          <p:nvPr/>
        </p:nvPicPr>
        <p:blipFill>
          <a:blip r:embed="rId1"/>
          <a:stretch/>
        </p:blipFill>
        <p:spPr>
          <a:xfrm>
            <a:off x="0" y="23760"/>
            <a:ext cx="9040680" cy="951120"/>
          </a:xfrm>
          <a:prstGeom prst="rect">
            <a:avLst/>
          </a:prstGeom>
          <a:ln w="0">
            <a:noFill/>
          </a:ln>
        </p:spPr>
      </p:pic>
      <p:sp>
        <p:nvSpPr>
          <p:cNvPr id="793" name="WordArt 3"/>
          <p:cNvSpPr txBox="1"/>
          <p:nvPr/>
        </p:nvSpPr>
        <p:spPr>
          <a:xfrm>
            <a:off x="144360" y="692280"/>
            <a:ext cx="882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latin typeface="Impact"/>
              </a:rPr>
              <a:t>Супруги обязаны материально поддерживать друг друга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794" name="Text Box 4"/>
          <p:cNvSpPr/>
          <p:nvPr/>
        </p:nvSpPr>
        <p:spPr>
          <a:xfrm>
            <a:off x="435240" y="107172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 противном случае взыскиваются алименты в судебном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рядке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95" name="Text Box 5"/>
          <p:cNvSpPr/>
          <p:nvPr/>
        </p:nvSpPr>
        <p:spPr>
          <a:xfrm>
            <a:off x="357120" y="1857240"/>
            <a:ext cx="83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Право на получение алиментов имеют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нетрудоспособный нуждающийся супруг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жена, в период беременности и в течение 3 лет с момента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ождения ребенк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нуждающийся супруг, осуществляющий уход за ребенком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нвалидом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221760" y="4214880"/>
            <a:ext cx="87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мер алиментов определяется добровольно, или в судебном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рядке в твердой денежной сумме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97" name="Text Box 9"/>
          <p:cNvSpPr/>
          <p:nvPr/>
        </p:nvSpPr>
        <p:spPr>
          <a:xfrm>
            <a:off x="0" y="51436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о на содержание могут иметь нетрудоспособные бабушки и дедушки, сестры и братья, внуки, усыновители и фактические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спитатели. Размер содержание устанавливается в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вердой денежной сумме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77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3" dur="770" fill="hold"/>
                                        <p:tgtEl>
                                          <p:spTgt spid="7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5" dur="77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8200"/>
                            </p:stCondLst>
                            <p:childTnLst>
                              <p:par>
                                <p:cTn id="7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7600"/>
                            </p:stCondLst>
                            <p:childTnLst>
                              <p:par>
                                <p:cTn id="7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77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9" dur="770" fill="hold"/>
                                        <p:tgtEl>
                                          <p:spTgt spid="7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1" dur="77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9600"/>
                            </p:stCondLst>
                            <p:childTnLst>
                              <p:par>
                                <p:cTn id="7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-973080" y="-4859640"/>
            <a:ext cx="1220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Спасиб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Rectangle 2" descr=""/>
          <p:cNvPicPr/>
          <p:nvPr/>
        </p:nvPicPr>
        <p:blipFill>
          <a:blip r:embed="rId1"/>
          <a:stretch/>
        </p:blipFill>
        <p:spPr>
          <a:xfrm>
            <a:off x="249120" y="6480"/>
            <a:ext cx="8894880" cy="1170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 txBox="1"/>
          <p:nvPr/>
        </p:nvSpPr>
        <p:spPr>
          <a:xfrm>
            <a:off x="-360" y="3929040"/>
            <a:ext cx="89917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расль права, нормы которой регулируют личные и имущественные отношения, вытекающие из брака и принадлежащие сем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2195640" y="836640"/>
            <a:ext cx="661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авливает условия, порядок, вступления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брак, прекращения брака и признания его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действительным, регулирует личные неимущественные и имущественные отношения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 членами семьи, определяет порядок и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рмы устройства в семью детей оставшихся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ез попечения родителей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695" name="WordArt 10"/>
          <p:cNvSpPr txBox="1"/>
          <p:nvPr/>
        </p:nvSpPr>
        <p:spPr>
          <a:xfrm>
            <a:off x="544680" y="1998720"/>
            <a:ext cx="1218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 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96" name="WordArt 14"/>
          <p:cNvSpPr txBox="1"/>
          <p:nvPr/>
        </p:nvSpPr>
        <p:spPr>
          <a:xfrm>
            <a:off x="468360" y="5877000"/>
            <a:ext cx="81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Относится  к  ведению  РФ  и  субъектов  РФ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grpSp>
        <p:nvGrpSpPr>
          <p:cNvPr id="697" name="Group 33"/>
          <p:cNvGrpSpPr/>
          <p:nvPr/>
        </p:nvGrpSpPr>
        <p:grpSpPr>
          <a:xfrm>
            <a:off x="0" y="2357280"/>
            <a:ext cx="1851840" cy="1488960"/>
            <a:chOff x="0" y="2357280"/>
            <a:chExt cx="1851840" cy="1488960"/>
          </a:xfrm>
        </p:grpSpPr>
        <p:pic>
          <p:nvPicPr>
            <p:cNvPr id="698" name="Picture 31" descr="j0280200"/>
            <p:cNvPicPr/>
            <p:nvPr/>
          </p:nvPicPr>
          <p:blipFill>
            <a:blip r:embed="rId4"/>
            <a:stretch/>
          </p:blipFill>
          <p:spPr>
            <a:xfrm>
              <a:off x="218160" y="2357280"/>
              <a:ext cx="1633680" cy="10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Text Box 32"/>
            <p:cNvSpPr/>
            <p:nvPr/>
          </p:nvSpPr>
          <p:spPr>
            <a:xfrm>
              <a:off x="0" y="338436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300"/>
                            </p:stCondLst>
                            <p:childTnLst>
                              <p:par>
                                <p:cTn id="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64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840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6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Rectangle 2" descr=""/>
          <p:cNvPicPr/>
          <p:nvPr/>
        </p:nvPicPr>
        <p:blipFill>
          <a:blip r:embed="rId1"/>
          <a:stretch/>
        </p:blipFill>
        <p:spPr>
          <a:xfrm>
            <a:off x="0" y="23760"/>
            <a:ext cx="9040680" cy="951120"/>
          </a:xfrm>
          <a:prstGeom prst="rect">
            <a:avLst/>
          </a:prstGeom>
          <a:ln w="0">
            <a:noFill/>
          </a:ln>
        </p:spPr>
      </p:pic>
      <p:sp>
        <p:nvSpPr>
          <p:cNvPr id="701" name="WordArt 3"/>
          <p:cNvSpPr txBox="1"/>
          <p:nvPr/>
        </p:nvSpPr>
        <p:spPr>
          <a:xfrm>
            <a:off x="3635280" y="836640"/>
            <a:ext cx="187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 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02" name="WordArt 10"/>
          <p:cNvSpPr txBox="1"/>
          <p:nvPr/>
        </p:nvSpPr>
        <p:spPr>
          <a:xfrm>
            <a:off x="214200" y="785880"/>
            <a:ext cx="224784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емейный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кодекс РФ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703" name="WordArt 11"/>
          <p:cNvSpPr txBox="1"/>
          <p:nvPr/>
        </p:nvSpPr>
        <p:spPr>
          <a:xfrm>
            <a:off x="5929200" y="1785960"/>
            <a:ext cx="22478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Федеральные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законы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704" name="WordArt 12"/>
          <p:cNvSpPr txBox="1"/>
          <p:nvPr/>
        </p:nvSpPr>
        <p:spPr>
          <a:xfrm>
            <a:off x="6715080" y="642960"/>
            <a:ext cx="22478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Законы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убъектов РФ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705" name="WordArt 13"/>
          <p:cNvSpPr txBox="1"/>
          <p:nvPr/>
        </p:nvSpPr>
        <p:spPr>
          <a:xfrm>
            <a:off x="1000080" y="1785960"/>
            <a:ext cx="22478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Международные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договоры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706" name="Text Box 15"/>
          <p:cNvSpPr/>
          <p:nvPr/>
        </p:nvSpPr>
        <p:spPr>
          <a:xfrm>
            <a:off x="172800" y="3860640"/>
            <a:ext cx="877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венция  «О защите прав человека и основных свобод»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ый пакт об экономических, социальных и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ультурных правах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венция ООН «О правах ребенка»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венция стран СНГ «О правовой помощи и правовых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ношениях по гражданским, семейным и уголовным делам»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07" name="WordArt 16"/>
          <p:cNvSpPr txBox="1"/>
          <p:nvPr/>
        </p:nvSpPr>
        <p:spPr>
          <a:xfrm>
            <a:off x="3214800" y="2786040"/>
            <a:ext cx="29509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равовые акты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равительства РФ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708" name="Picture 35" descr="j0237338"/>
          <p:cNvPicPr/>
          <p:nvPr/>
        </p:nvPicPr>
        <p:blipFill>
          <a:blip r:embed="rId2"/>
          <a:stretch/>
        </p:blipFill>
        <p:spPr>
          <a:xfrm>
            <a:off x="3743280" y="928800"/>
            <a:ext cx="161460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7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Rectangle 2" descr=""/>
          <p:cNvPicPr/>
          <p:nvPr/>
        </p:nvPicPr>
        <p:blipFill>
          <a:blip r:embed="rId1"/>
          <a:stretch/>
        </p:blipFill>
        <p:spPr>
          <a:xfrm>
            <a:off x="-23760" y="-73080"/>
            <a:ext cx="9064440" cy="103680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4"/>
          <p:cNvSpPr/>
          <p:nvPr/>
        </p:nvSpPr>
        <p:spPr>
          <a:xfrm>
            <a:off x="2000160" y="128592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гулируются в ограниченных масштабах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11" name="Text Box 6"/>
          <p:cNvSpPr/>
          <p:nvPr/>
        </p:nvSpPr>
        <p:spPr>
          <a:xfrm>
            <a:off x="2145240" y="71424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венство супругов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12" name="Text Box 7"/>
          <p:cNvSpPr/>
          <p:nvPr/>
        </p:nvSpPr>
        <p:spPr>
          <a:xfrm>
            <a:off x="182520" y="2492280"/>
            <a:ext cx="888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аво на свободу в выборе рода занятий,профессии, мест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ебывания и жительств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вместное решение вопросов материнства, отцовства, вос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итания, образования детей и других вопросов жизни семьи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бязанность строить свои отношения в семье на основе взаи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уважения и взаимопомощи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1481040" y="4869000"/>
            <a:ext cx="61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упруги не обязаны проживать совместно)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14" name="Text Box 9"/>
          <p:cNvSpPr/>
          <p:nvPr/>
        </p:nvSpPr>
        <p:spPr>
          <a:xfrm>
            <a:off x="297000" y="5445000"/>
            <a:ext cx="85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анкции за нарушение этих прав не следуют, следовательно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озможно лишь расторжение брака.(Но возможно уголовное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аказание, или материальные санкции)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grpSp>
        <p:nvGrpSpPr>
          <p:cNvPr id="715" name="Group 50"/>
          <p:cNvGrpSpPr/>
          <p:nvPr/>
        </p:nvGrpSpPr>
        <p:grpSpPr>
          <a:xfrm>
            <a:off x="5000760" y="642960"/>
            <a:ext cx="2285640" cy="1857240"/>
            <a:chOff x="5000760" y="642960"/>
            <a:chExt cx="2285640" cy="1857240"/>
          </a:xfrm>
        </p:grpSpPr>
        <p:pic>
          <p:nvPicPr>
            <p:cNvPr id="716" name="Picture 47" descr="j0316850"/>
            <p:cNvPicPr/>
            <p:nvPr/>
          </p:nvPicPr>
          <p:blipFill>
            <a:blip r:embed="rId2"/>
            <a:stretch/>
          </p:blipFill>
          <p:spPr>
            <a:xfrm>
              <a:off x="5825880" y="642960"/>
              <a:ext cx="146052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48"/>
            <p:cNvSpPr/>
            <p:nvPr/>
          </p:nvSpPr>
          <p:spPr>
            <a:xfrm>
              <a:off x="5000760" y="1823760"/>
              <a:ext cx="26964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300"/>
                            </p:stCondLst>
                            <p:childTnLst>
                              <p:par>
                                <p:cTn id="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1300"/>
                            </p:stCondLst>
                            <p:childTnLst>
                              <p:par>
                                <p:cTn id="2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7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Rectangle 2" descr=""/>
          <p:cNvPicPr/>
          <p:nvPr/>
        </p:nvPicPr>
        <p:blipFill>
          <a:blip r:embed="rId1"/>
          <a:stretch/>
        </p:blipFill>
        <p:spPr>
          <a:xfrm>
            <a:off x="0" y="23760"/>
            <a:ext cx="9040680" cy="95112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9"/>
          <p:cNvSpPr/>
          <p:nvPr/>
        </p:nvSpPr>
        <p:spPr>
          <a:xfrm>
            <a:off x="468360" y="785880"/>
            <a:ext cx="845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 личным неимущественным правам также относится выбор фамилии (общая, сохранение своей, двойная, если одна уже не была двойной)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250920" y="278136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мена фамилии одним из супругов не влечет автоматической смены фамилии у другого супруга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21" name="Text Box 12"/>
          <p:cNvSpPr/>
          <p:nvPr/>
        </p:nvSpPr>
        <p:spPr>
          <a:xfrm>
            <a:off x="214200" y="200016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мена фамилии после регистрации брака возможна лишь в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ответствии с Законом об актах гражданского состояния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22" name="WordArt 13"/>
          <p:cNvSpPr txBox="1"/>
          <p:nvPr/>
        </p:nvSpPr>
        <p:spPr>
          <a:xfrm>
            <a:off x="571680" y="3929040"/>
            <a:ext cx="7929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При расторжении брака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723" name="Text Box 14"/>
          <p:cNvSpPr/>
          <p:nvPr/>
        </p:nvSpPr>
        <p:spPr>
          <a:xfrm>
            <a:off x="214200" y="4429080"/>
            <a:ext cx="585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прос о фамилии решается самостоятельно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хранение общей фамилии (согласие другого супруга не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буется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вращение добрачной фамилии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grpSp>
        <p:nvGrpSpPr>
          <p:cNvPr id="724" name="Group 49"/>
          <p:cNvGrpSpPr/>
          <p:nvPr/>
        </p:nvGrpSpPr>
        <p:grpSpPr>
          <a:xfrm>
            <a:off x="6000840" y="4643280"/>
            <a:ext cx="2714040" cy="2428560"/>
            <a:chOff x="6000840" y="4643280"/>
            <a:chExt cx="2714040" cy="2428560"/>
          </a:xfrm>
        </p:grpSpPr>
        <p:pic>
          <p:nvPicPr>
            <p:cNvPr id="725" name="Picture 47" descr="j0240359"/>
            <p:cNvPicPr/>
            <p:nvPr/>
          </p:nvPicPr>
          <p:blipFill>
            <a:blip r:embed="rId2"/>
            <a:stretch/>
          </p:blipFill>
          <p:spPr>
            <a:xfrm>
              <a:off x="6000840" y="4643280"/>
              <a:ext cx="2714040" cy="17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Text Box 48"/>
            <p:cNvSpPr/>
            <p:nvPr/>
          </p:nvSpPr>
          <p:spPr>
            <a:xfrm>
              <a:off x="6319440" y="6383880"/>
              <a:ext cx="268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8900"/>
                            </p:stCondLst>
                            <p:childTnLst>
                              <p:par>
                                <p:cTn id="2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930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3600"/>
                            </p:stCondLst>
                            <p:childTnLst>
                              <p:par>
                                <p:cTn id="2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60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Rectangle 2" descr=""/>
          <p:cNvPicPr/>
          <p:nvPr/>
        </p:nvPicPr>
        <p:blipFill>
          <a:blip r:embed="rId1"/>
          <a:stretch/>
        </p:blipFill>
        <p:spPr>
          <a:xfrm>
            <a:off x="0" y="23760"/>
            <a:ext cx="9040680" cy="951120"/>
          </a:xfrm>
          <a:prstGeom prst="rect">
            <a:avLst/>
          </a:prstGeom>
          <a:ln w="0">
            <a:noFill/>
          </a:ln>
        </p:spPr>
      </p:pic>
      <p:sp>
        <p:nvSpPr>
          <p:cNvPr id="728" name="WordArt 3"/>
          <p:cNvSpPr txBox="1"/>
          <p:nvPr/>
        </p:nvSpPr>
        <p:spPr>
          <a:xfrm>
            <a:off x="214200" y="857160"/>
            <a:ext cx="2000520" cy="10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мущественные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ава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9" name="Text Box 4"/>
          <p:cNvSpPr/>
          <p:nvPr/>
        </p:nvSpPr>
        <p:spPr>
          <a:xfrm>
            <a:off x="4000680" y="71424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емейное право регулирует режим общей собственности, нажитой суп-ругами во время брака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268920" y="2857680"/>
            <a:ext cx="879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оходы каждого из супругов от трудовой, предпринимательс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ой, интеллектуальной деятельности,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енсии, пособия, и иные денежные выплаты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вижимые и недвижимые вещи, ценные бумаги, паи, вклады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 др., приобретенные за счет общих доходов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(не имеет значения на чьё имя оформлено и кем приобретено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бщим собственником признается даже не работающий суп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уг)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31" name="WordArt 9"/>
          <p:cNvSpPr txBox="1"/>
          <p:nvPr/>
        </p:nvSpPr>
        <p:spPr>
          <a:xfrm>
            <a:off x="1428840" y="2214720"/>
            <a:ext cx="64389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Общее совместное имущество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732" name="WordArt 10"/>
          <p:cNvSpPr txBox="1"/>
          <p:nvPr/>
        </p:nvSpPr>
        <p:spPr>
          <a:xfrm>
            <a:off x="108000" y="6165720"/>
            <a:ext cx="8964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упруги имеют равные права на общее имущество</a:t>
            </a:r>
            <a:endParaRPr b="1" i="1" lang="en-US" sz="24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33" name="Group 35"/>
          <p:cNvGrpSpPr/>
          <p:nvPr/>
        </p:nvGrpSpPr>
        <p:grpSpPr>
          <a:xfrm>
            <a:off x="2357280" y="785880"/>
            <a:ext cx="1579320" cy="1356840"/>
            <a:chOff x="2357280" y="785880"/>
            <a:chExt cx="1579320" cy="1356840"/>
          </a:xfrm>
        </p:grpSpPr>
        <p:pic>
          <p:nvPicPr>
            <p:cNvPr id="734" name="Picture 33" descr="j0288891"/>
            <p:cNvPicPr/>
            <p:nvPr/>
          </p:nvPicPr>
          <p:blipFill>
            <a:blip r:embed="rId2"/>
            <a:stretch/>
          </p:blipFill>
          <p:spPr>
            <a:xfrm>
              <a:off x="2679840" y="785880"/>
              <a:ext cx="125676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Text Box 34"/>
            <p:cNvSpPr/>
            <p:nvPr/>
          </p:nvSpPr>
          <p:spPr>
            <a:xfrm>
              <a:off x="2357280" y="1699200"/>
              <a:ext cx="1929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7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500"/>
                            </p:stCondLst>
                            <p:childTnLst>
                              <p:par>
                                <p:cTn id="3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Rectangle 2" descr=""/>
          <p:cNvPicPr/>
          <p:nvPr/>
        </p:nvPicPr>
        <p:blipFill>
          <a:blip r:embed="rId1"/>
          <a:stretch/>
        </p:blipFill>
        <p:spPr>
          <a:xfrm>
            <a:off x="0" y="23760"/>
            <a:ext cx="9040680" cy="951120"/>
          </a:xfrm>
          <a:prstGeom prst="rect">
            <a:avLst/>
          </a:prstGeom>
          <a:ln w="0">
            <a:noFill/>
          </a:ln>
        </p:spPr>
      </p:pic>
      <p:sp>
        <p:nvSpPr>
          <p:cNvPr id="737" name="WordArt 7"/>
          <p:cNvSpPr txBox="1"/>
          <p:nvPr/>
        </p:nvSpPr>
        <p:spPr>
          <a:xfrm>
            <a:off x="179280" y="3571920"/>
            <a:ext cx="8964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пруги могут иметь и собственное имущество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8" name="Text Box 8"/>
          <p:cNvSpPr/>
          <p:nvPr/>
        </p:nvSpPr>
        <p:spPr>
          <a:xfrm>
            <a:off x="84240" y="549360"/>
            <a:ext cx="923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совершении сделки с общим имуществом, предполагается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то он действует с согласия другого супруг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лучае совершения сделки с особо важным для семьи иму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ществом (дом), требуется нотариальная регистрация согласия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торого супруга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делка может быть аннулирована, если второй супруг предос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вил доказательства о том, что вторая сторона сделки заведо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 знала о несогласии одного из супругов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245520" y="3933720"/>
            <a:ext cx="88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мущество принадлежавшее до брак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ученное в дар,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ледство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грады и премии не предусмотренные системой оплаты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уд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щи индивидуального пользования(за исключением драго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нностей и предметов роскоши)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7200"/>
                            </p:stCondLst>
                            <p:childTnLst>
                              <p:par>
                                <p:cTn id="3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9200"/>
                            </p:stCondLst>
                            <p:childTnLst>
                              <p:par>
                                <p:cTn id="3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Rectangle 2" descr=""/>
          <p:cNvPicPr/>
          <p:nvPr/>
        </p:nvPicPr>
        <p:blipFill>
          <a:blip r:embed="rId1"/>
          <a:stretch/>
        </p:blipFill>
        <p:spPr>
          <a:xfrm>
            <a:off x="0" y="23760"/>
            <a:ext cx="9040680" cy="951120"/>
          </a:xfrm>
          <a:prstGeom prst="rect">
            <a:avLst/>
          </a:prstGeom>
          <a:ln w="0">
            <a:noFill/>
          </a:ln>
        </p:spPr>
      </p:pic>
      <p:sp>
        <p:nvSpPr>
          <p:cNvPr id="741" name="WordArt 3"/>
          <p:cNvSpPr txBox="1"/>
          <p:nvPr/>
        </p:nvSpPr>
        <p:spPr>
          <a:xfrm>
            <a:off x="857160" y="642960"/>
            <a:ext cx="76438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99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дел совместного имущества</a:t>
            </a:r>
            <a:endParaRPr b="1" lang="en-US" sz="2400" spc="1" strike="noStrike">
              <a:ln w="12600">
                <a:solidFill>
                  <a:srgbClr val="ff6600"/>
                </a:solidFill>
                <a:miter/>
              </a:ln>
              <a:solidFill>
                <a:srgbClr val="99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42" name="WordArt 6"/>
          <p:cNvSpPr txBox="1"/>
          <p:nvPr/>
        </p:nvSpPr>
        <p:spPr>
          <a:xfrm>
            <a:off x="500040" y="1214280"/>
            <a:ext cx="221472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Добровольно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sp>
        <p:nvSpPr>
          <p:cNvPr id="743" name="WordArt 7"/>
          <p:cNvSpPr txBox="1"/>
          <p:nvPr/>
        </p:nvSpPr>
        <p:spPr>
          <a:xfrm>
            <a:off x="5786280" y="1143000"/>
            <a:ext cx="31276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В  судебном  порядке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0" y="1571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длежит нотариальному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достоверению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715000" y="150012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если нет согласия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пределяется размер доли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285840" y="26431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щи, приобретенные для удовлетворения потребностей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тей разделу не подлежат и передаются супругу с которым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живают дети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10800" y="3857760"/>
            <a:ext cx="88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 требованиям супругов о разделе имущества применяется 3-х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тний срок исковой давности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162000" y="4724280"/>
            <a:ext cx="879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и разделе имущество доли супругов признаются равными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(доля может быть изменена, в пользу супруга у которого оста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ются дети, или уменьшена если супруг не получал доходов по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уважительной причине, либо расходовал общее имущество 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 ущерб интересам семьи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grpSp>
        <p:nvGrpSpPr>
          <p:cNvPr id="749" name="Group 56"/>
          <p:cNvGrpSpPr/>
          <p:nvPr/>
        </p:nvGrpSpPr>
        <p:grpSpPr>
          <a:xfrm>
            <a:off x="3643200" y="1285920"/>
            <a:ext cx="1428480" cy="1428480"/>
            <a:chOff x="3643200" y="1285920"/>
            <a:chExt cx="1428480" cy="1428480"/>
          </a:xfrm>
        </p:grpSpPr>
        <p:pic>
          <p:nvPicPr>
            <p:cNvPr id="750" name="Picture 50" descr="j0294991"/>
            <p:cNvPicPr/>
            <p:nvPr/>
          </p:nvPicPr>
          <p:blipFill>
            <a:blip r:embed="rId2"/>
            <a:stretch/>
          </p:blipFill>
          <p:spPr>
            <a:xfrm>
              <a:off x="3643200" y="1285920"/>
              <a:ext cx="1428480" cy="96192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751" name="Text Box 51"/>
            <p:cNvSpPr/>
            <p:nvPr/>
          </p:nvSpPr>
          <p:spPr>
            <a:xfrm>
              <a:off x="3696120" y="2217240"/>
              <a:ext cx="2282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77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7" dur="770" fill="hold"/>
                                        <p:tgtEl>
                                          <p:spTgt spid="7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7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8000"/>
                            </p:stCondLst>
                            <p:childTnLst>
                              <p:par>
                                <p:cTn id="3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77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7" dur="770" fill="hold"/>
                                        <p:tgtEl>
                                          <p:spTgt spid="7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1700"/>
                            </p:stCondLst>
                            <p:childTnLst>
                              <p:par>
                                <p:cTn id="412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3700"/>
                            </p:stCondLst>
                            <p:childTnLst>
                              <p:par>
                                <p:cTn id="4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2200"/>
                            </p:stCondLst>
                            <p:childTnLst>
                              <p:par>
                                <p:cTn id="4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Rectangle 2" descr=""/>
          <p:cNvPicPr/>
          <p:nvPr/>
        </p:nvPicPr>
        <p:blipFill>
          <a:blip r:embed="rId1"/>
          <a:stretch/>
        </p:blipFill>
        <p:spPr>
          <a:xfrm>
            <a:off x="0" y="23760"/>
            <a:ext cx="9040680" cy="951120"/>
          </a:xfrm>
          <a:prstGeom prst="rect">
            <a:avLst/>
          </a:prstGeom>
          <a:ln w="0">
            <a:noFill/>
          </a:ln>
        </p:spPr>
      </p:pic>
      <p:sp>
        <p:nvSpPr>
          <p:cNvPr id="753" name="WordArt 3"/>
          <p:cNvSpPr txBox="1"/>
          <p:nvPr/>
        </p:nvSpPr>
        <p:spPr>
          <a:xfrm>
            <a:off x="250920" y="981000"/>
            <a:ext cx="21430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рачный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говор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4143240" y="785880"/>
            <a:ext cx="478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глашение, определяющее имущественные права и обязанности супругов в браке или в случае его расторжения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55" name="Text Box 9"/>
          <p:cNvSpPr/>
          <p:nvPr/>
        </p:nvSpPr>
        <p:spPr>
          <a:xfrm>
            <a:off x="344520" y="2637000"/>
            <a:ext cx="859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ecff"/>
                </a:solidFill>
                <a:uFillTx/>
                <a:latin typeface="Times New Roman"/>
              </a:rPr>
              <a:t>В брачном договоре указываются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способы участия каждого из супругов в доходах друг друг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порядок несения семейных расходов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имущество отходящее супругам в случае развод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293400" y="4392720"/>
            <a:ext cx="861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Брачный договор не может: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граничивать правоспособность и дееспособность супругов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регулировать личные неимущественные права,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ставить одного из супругов в неблагоприятные отношения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sp>
        <p:nvSpPr>
          <p:cNvPr id="757" name="Text Box 13"/>
          <p:cNvSpPr/>
          <p:nvPr/>
        </p:nvSpPr>
        <p:spPr>
          <a:xfrm>
            <a:off x="176040" y="5950080"/>
            <a:ext cx="878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екращается с момента прекращения брака, после исполне-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я всех положений.</a:t>
            </a:r>
            <a:endParaRPr b="1" lang="en-US" sz="2400" spc="-1" strike="noStrike">
              <a:solidFill>
                <a:srgbClr val="85540a"/>
              </a:solidFill>
              <a:latin typeface="Times New Roman"/>
            </a:endParaRPr>
          </a:p>
        </p:txBody>
      </p:sp>
      <p:grpSp>
        <p:nvGrpSpPr>
          <p:cNvPr id="758" name="Group 37"/>
          <p:cNvGrpSpPr/>
          <p:nvPr/>
        </p:nvGrpSpPr>
        <p:grpSpPr>
          <a:xfrm>
            <a:off x="2786040" y="857160"/>
            <a:ext cx="1425600" cy="1269720"/>
            <a:chOff x="2786040" y="857160"/>
            <a:chExt cx="1425600" cy="1269720"/>
          </a:xfrm>
        </p:grpSpPr>
        <p:pic>
          <p:nvPicPr>
            <p:cNvPr id="759" name="Picture 35" descr="j0282372"/>
            <p:cNvPicPr/>
            <p:nvPr/>
          </p:nvPicPr>
          <p:blipFill>
            <a:blip r:embed="rId2"/>
            <a:stretch/>
          </p:blipFill>
          <p:spPr>
            <a:xfrm>
              <a:off x="3013200" y="857160"/>
              <a:ext cx="119844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Text Box 36"/>
            <p:cNvSpPr/>
            <p:nvPr/>
          </p:nvSpPr>
          <p:spPr>
            <a:xfrm>
              <a:off x="2786040" y="16650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5540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77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770" fill="hold"/>
                                        <p:tgtEl>
                                          <p:spTgt spid="7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1800"/>
                            </p:stCondLst>
                            <p:childTnLst>
                              <p:par>
                                <p:cTn id="4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9100"/>
                            </p:stCondLst>
                            <p:childTnLst>
                              <p:par>
                                <p:cTn id="4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 </cp:lastModifiedBy>
  <dcterms:modified xsi:type="dcterms:W3CDTF">2004-12-31T21:39:42Z</dcterms:modified>
  <cp:revision>38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