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28.png" ContentType="image/png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1.jpeg" ContentType="image/jpeg"/>
  <Override PartName="/ppt/media/image8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5.gif" ContentType="image/gif"/>
  <Override PartName="/ppt/media/image17.png" ContentType="image/png"/>
  <Override PartName="/ppt/media/image1.jpeg" ContentType="image/jpeg"/>
  <Override PartName="/ppt/media/image10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A23B-5B3B-4B48-BB92-75166824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87BE-9439-4DB7-86F4-2A42FC44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E8623-9D75-4337-BE36-2451C7E9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AEBA4-358F-4B89-9A73-6A75A15B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B8E64-47F3-4E56-8953-2B2927CF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85695-4E67-4389-B69F-2879A9FE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8005D-B8FB-45A6-B0CA-FD57ABCC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9A0A2-D640-4225-AAA0-4118D5A5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655B6-9474-44FF-A36E-25D86D55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10866-2F51-4EC1-B788-D7DA3430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7F12C-B355-4D70-8916-EB33E53D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0B84-6410-48F4-891A-9056C203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C3E-E8C0-45A9-B637-D134F059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34B5-A477-4827-9AFF-5B00A48B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B192-4DAF-4863-AF40-76D278FF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6B90-8243-42FD-A8CA-A83280C4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DDD1-B1C7-4204-88EB-2752B18B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2BF1-28D6-49FF-84FF-CB7C38AB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54C7-67A8-4CBD-B9D9-C19034E2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ECDD-8BF2-4A9D-B83C-8BF2B6A3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FDC-E2AB-4574-883B-C61BFE73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2406-D8F8-4F00-BA31-ECDC570F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4D86-90A2-4075-96F5-371383CC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F344-B67E-4BC4-83A1-FF7CC308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B79D-A0C3-4A46-8BAD-4650E2A5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BDC7-35C6-4956-9A0E-92153E26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61A08-870C-4391-979E-EF0B8110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FB42C-AB77-4EE0-9681-9AEF3DE8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61976-4D33-4186-9612-63D53670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23E97-C47E-4A1E-841D-F46C0787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F53E7-6971-4DE9-A16F-5433FAA3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EF7-B7AF-4B7D-A71C-F814CA21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6F5DA-6D7E-4B61-A05E-B7F28CBA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554E2-37AB-4926-9E41-BD0B9402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81129-3394-40F6-96D2-FF44168B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0282A-98A3-409D-A112-09F08F0D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EDDE4-7EF4-4AE4-8F64-FB207514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BFBC6-9662-40D2-BADC-D3EF5B9F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178CC-3A57-420C-BA15-2DB9E42D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BC56A-1BCA-4F7B-A1E6-2CBD7E30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788BE-2933-4FA3-8ABC-AD0977B7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F8A0E-8E62-472A-B5D3-E0231239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EA1-64B3-4B4E-9D12-B3DBFE48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BD2A0-6E83-4721-800C-A23FF5B6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1A657-EF77-4641-A407-11C856EC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56597-CFDB-45DC-AD38-AA099495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9F738-A8AA-4A74-A524-75B82022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9E48F-E4D5-4856-8326-9389EE9C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74F25-739B-4DA4-BCEF-1692A1EB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E4CCB-F1BA-4EFA-AEBF-507CAC29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EFA3E-45CB-4570-A0AC-4782FE89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E73FF-1500-49C4-8B76-A41F8458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36239-0B0B-4DAA-874B-086FE181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6D5-1C62-448C-A1AD-2562C62F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8AD52-88CD-4484-A6DD-93D98971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21FD5-B44E-4ECD-B344-A41692E7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F6A49-BAE7-4DD6-BA3E-A009ECB7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E8412-8A2A-435E-A01F-84A10E80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DC0DC-0DAF-4414-81B7-2D0521B0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43C9F-7ACE-4275-9637-B01F4FCC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86B7F-6425-4C09-8461-139EE107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96457-A3C3-49E7-B077-C57D5049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796CE-33F1-4AAF-BEBD-E2E8CC1D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3A463-6E2E-4ACC-A6E4-1A940564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A4E5-E689-41F6-9814-CAE0ACE3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50A8E-99E4-4A15-B453-402080B3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9D0C8-BE44-48E6-B4D0-9097DC26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022EE-E077-4437-AF5C-D414F46A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83BAB-2FCE-4517-824A-03BB95B5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72BBF-70B4-4EE6-910A-8E432277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E9C55-F878-4CF3-9632-3090BA2A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DC359-5B90-4642-9403-422A2AB1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03D52-31B4-494E-AE74-3CD720D2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B8538-4BAF-4E76-B830-91B2B236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51250-C09E-4A49-9B4D-72A1C3CA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C4E-AFB7-422F-9E09-374D873D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E0BB6-9356-40CA-95CC-0A554106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2B762-48B1-4181-B9A3-E4EB6C9C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EA331-C2A5-4753-96FA-908D01A0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1CA52-E5C7-4B28-9A15-A76A74C6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C5A89-C57F-4986-8F82-9196AF6F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A258E-4596-48A0-A3C6-1FEE9414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2524B-1BF3-41D5-AD35-F04F5992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E90C0-3F58-4DC9-AD7E-15B75D8A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D1EE4-13D8-4313-A956-E675F712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1AB89-83B6-4ACA-BA6C-E836CA7A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9E7-B5AE-4892-AF05-E446B2FB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F3CCC-D7D6-454B-A6CC-9AFCDC11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78C4A-E342-4381-BEA1-B59F1E48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6022A-73C0-46C9-B5E0-856BEABB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81604-D998-4C2A-B677-B1DD8E20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5988D-8E9F-4198-A700-B7BC3EFB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641F0-0147-4302-9CAA-A4EFBBC7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1B700-F479-46FD-8619-8B302562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565E4-A074-403B-A120-F955405E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2707B-306E-408A-B141-3E3F2AA9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BF34B-F868-4B60-A2E9-451461C0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6877-0981-43F2-807E-DD91C22A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F0F2B-6EDE-4A5E-9E33-8896CE68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4EE96-175C-49AB-BD93-7AE59E49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93DB0-BAEB-42B0-9C3F-5252C5FA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31006-59A5-407D-B74F-93496858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F3343-5728-471B-ABF5-BA704BC2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1FFF4-DFB4-4739-8A08-16344995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35C75-AE3D-4761-8736-F8719629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285B1-0679-4DB5-B13C-F02A9143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E7346-BA16-470F-8CFA-26FBCC6D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AB580-B4D8-461B-A96D-5D1A40B2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1C93-D31D-4824-989E-D9F33B41098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7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7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7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7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7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7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7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7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7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7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8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8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8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8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8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8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8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8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8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8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9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9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9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9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9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9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9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9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9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9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0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0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0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0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0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0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0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0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0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0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1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1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1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1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1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1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1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1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1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1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2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2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2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2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2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2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2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2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2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2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3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3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3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3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3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3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3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3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3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3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4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4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4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4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4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4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4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4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4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4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5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5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5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5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5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5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5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5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5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5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6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6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6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6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6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6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6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6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6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6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7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7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7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7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7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7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7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7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7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7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8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8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8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8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8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8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8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8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8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8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9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9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9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9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9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9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9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9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9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9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20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BA97-1AAF-40D1-BE3F-68F3E64F24D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243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2894-94B6-4377-8954-AD4E38A0802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87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C7BD-F71B-4458-A8AF-6B63707F1E8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7F8D-E3BA-4727-92DD-1295A359F7F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C44B-D5B5-4076-A947-1AD6E4DA2BB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737B-6966-4E24-986E-B5E9D06A9C2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8562-3125-4C30-B4E4-4AC44A4CC85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9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9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0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0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0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0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0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0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0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0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0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0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1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1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13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1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15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1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17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18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1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20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21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22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23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24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2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2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27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2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2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30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3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32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33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34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3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3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3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3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3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4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4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4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4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4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4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4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4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4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4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5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5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5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5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5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5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5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5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5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5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6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6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6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6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6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6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6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6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6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6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7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7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7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7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7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7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7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7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7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79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8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8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8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8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8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85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86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8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8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89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90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91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92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9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94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9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96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97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9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9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0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0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02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03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04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0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0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0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0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0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1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1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1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1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1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1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1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1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1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1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2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2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2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2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2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2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2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2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2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2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3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3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3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3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3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3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3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3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3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39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40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4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4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4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4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4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4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4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5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C3D0-6D5B-4C31-8853-27AA0F02DD2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WordArt 7"/>
          <p:cNvSpPr txBox="1"/>
          <p:nvPr/>
        </p:nvSpPr>
        <p:spPr>
          <a:xfrm>
            <a:off x="571680" y="1000080"/>
            <a:ext cx="7429320" cy="30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3895200" y="3771720"/>
            <a:ext cx="4884840" cy="20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dobe Caslon Pro"/>
              </a:rPr>
              <a:t>Выполнила: ученица 9В класс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dobe Caslon Pro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Adobe Caslon Pro"/>
              </a:rPr>
              <a:t>МБОУ «СОШ№2»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dobe Caslon Pro"/>
              </a:rPr>
              <a:t>Андронова Юл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dobe Caslon Pro"/>
              </a:rPr>
              <a:t>Учитель:  истории и обществознания Горшонкова Н.Ю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Rectangle 7"/>
          <p:cNvSpPr/>
          <p:nvPr/>
        </p:nvSpPr>
        <p:spPr>
          <a:xfrm>
            <a:off x="2124000" y="549360"/>
            <a:ext cx="504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Blackadder ITC"/>
              </a:rPr>
              <a:t>Презентация </a:t>
            </a:r>
            <a:br>
              <a:rPr sz="4400"/>
            </a:br>
            <a:r>
              <a:rPr b="1" i="1" lang="ru-RU" sz="4400" spc="-1" strike="noStrike">
                <a:solidFill>
                  <a:srgbClr val="ffffcc"/>
                </a:solidFill>
                <a:latin typeface="Blackadder ITC"/>
              </a:rPr>
              <a:t>     </a:t>
            </a:r>
            <a:r>
              <a:rPr b="1" i="1" lang="en-US" sz="4400" spc="-1" strike="noStrike">
                <a:solidFill>
                  <a:srgbClr val="ffffcc"/>
                </a:solidFill>
                <a:latin typeface="Blackadder ITC"/>
              </a:rPr>
              <a:t>   </a:t>
            </a:r>
            <a:r>
              <a:rPr b="1" i="1" lang="ru-RU" sz="4400" spc="-1" strike="noStrike">
                <a:solidFill>
                  <a:srgbClr val="ffffcc"/>
                </a:solidFill>
                <a:latin typeface="Blackadder ITC"/>
              </a:rPr>
              <a:t>на тему:</a:t>
            </a:r>
            <a:br>
              <a:rPr sz="4400"/>
            </a:br>
            <a:r>
              <a:rPr b="1" i="1" lang="ru-RU" sz="4400" spc="-1" strike="noStrike">
                <a:solidFill>
                  <a:srgbClr val="ffffcc"/>
                </a:solidFill>
                <a:latin typeface="Blackadder ITC"/>
              </a:rPr>
              <a:t>Семейное право</a:t>
            </a:r>
            <a:endParaRPr b="1" lang="en-US" sz="4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540a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Rectangle 2" descr=""/>
          <p:cNvPicPr/>
          <p:nvPr/>
        </p:nvPicPr>
        <p:blipFill>
          <a:blip r:embed="rId1"/>
          <a:stretch/>
        </p:blipFill>
        <p:spPr>
          <a:xfrm>
            <a:off x="30240" y="79200"/>
            <a:ext cx="9010440" cy="798840"/>
          </a:xfrm>
          <a:prstGeom prst="rect">
            <a:avLst/>
          </a:prstGeom>
          <a:ln w="0">
            <a:noFill/>
          </a:ln>
        </p:spPr>
      </p:pic>
      <p:sp>
        <p:nvSpPr>
          <p:cNvPr id="762" name="Text Box 4"/>
          <p:cNvSpPr/>
          <p:nvPr/>
        </p:nvSpPr>
        <p:spPr>
          <a:xfrm>
            <a:off x="5000760" y="571680"/>
            <a:ext cx="392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ец и мать состоящие в браке записываются родителями по заявлению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юбого из них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63" name="WordArt 5"/>
          <p:cNvSpPr txBox="1"/>
          <p:nvPr/>
        </p:nvSpPr>
        <p:spPr>
          <a:xfrm>
            <a:off x="2000160" y="2214720"/>
            <a:ext cx="4791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Мать не состоит в браке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  <p:sp>
        <p:nvSpPr>
          <p:cNvPr id="764" name="Text Box 6"/>
          <p:cNvSpPr/>
          <p:nvPr/>
        </p:nvSpPr>
        <p:spPr>
          <a:xfrm>
            <a:off x="179280" y="2500200"/>
            <a:ext cx="885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если нет совместного заявления родителей, или решения суда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 установлении отцовства, записывается фамилия матери, а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мя и отчество - по ее указанию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65" name="WordArt 7"/>
          <p:cNvSpPr txBox="1"/>
          <p:nvPr/>
        </p:nvSpPr>
        <p:spPr>
          <a:xfrm>
            <a:off x="642960" y="3714840"/>
            <a:ext cx="799128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роисхождение ребенка от матери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766" name="Text Box 8"/>
          <p:cNvSpPr/>
          <p:nvPr/>
        </p:nvSpPr>
        <p:spPr>
          <a:xfrm>
            <a:off x="294480" y="4071960"/>
            <a:ext cx="866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авливается органом ЗАГСа на основании: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документов медицинского учреждения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ри рождении вне медицинского учреждения - на основании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казаний свидетелей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67" name="WordArt 9"/>
          <p:cNvSpPr txBox="1"/>
          <p:nvPr/>
        </p:nvSpPr>
        <p:spPr>
          <a:xfrm>
            <a:off x="571680" y="5572080"/>
            <a:ext cx="799128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роисхождение ребенка от отца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768" name="Text Box 10"/>
          <p:cNvSpPr/>
          <p:nvPr/>
        </p:nvSpPr>
        <p:spPr>
          <a:xfrm>
            <a:off x="7200" y="585792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тцом признается супруг,бывший супруг,если не доказано иное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если не состоит в браке - на основании совместного заявления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pic>
        <p:nvPicPr>
          <p:cNvPr id="769" name="Picture 38" descr="j0344285"/>
          <p:cNvPicPr/>
          <p:nvPr/>
        </p:nvPicPr>
        <p:blipFill>
          <a:blip r:embed="rId2"/>
          <a:stretch/>
        </p:blipFill>
        <p:spPr>
          <a:xfrm>
            <a:off x="2857680" y="785880"/>
            <a:ext cx="171432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77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7" dur="770" fill="hold"/>
                                        <p:tgtEl>
                                          <p:spTgt spid="7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1" dur="77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1700"/>
                            </p:stCondLst>
                            <p:childTnLst>
                              <p:par>
                                <p:cTn id="5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3700"/>
                            </p:stCondLst>
                            <p:childTnLst>
                              <p:par>
                                <p:cTn id="5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7400"/>
                            </p:stCondLst>
                            <p:childTnLst>
                              <p:par>
                                <p:cTn id="5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7900"/>
                            </p:stCondLst>
                            <p:childTnLst>
                              <p:par>
                                <p:cTn id="5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2900"/>
                            </p:stCondLst>
                            <p:childTnLst>
                              <p:par>
                                <p:cTn id="55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7900"/>
                            </p:stCondLst>
                            <p:childTnLst>
                              <p:par>
                                <p:cTn id="5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Rectangle 2" descr=""/>
          <p:cNvPicPr/>
          <p:nvPr/>
        </p:nvPicPr>
        <p:blipFill>
          <a:blip r:embed="rId1"/>
          <a:stretch/>
        </p:blipFill>
        <p:spPr>
          <a:xfrm>
            <a:off x="30240" y="79200"/>
            <a:ext cx="9010440" cy="798840"/>
          </a:xfrm>
          <a:prstGeom prst="rect">
            <a:avLst/>
          </a:prstGeom>
          <a:ln w="0">
            <a:noFill/>
          </a:ln>
        </p:spPr>
      </p:pic>
      <p:sp>
        <p:nvSpPr>
          <p:cNvPr id="771" name="WordArt 3"/>
          <p:cNvSpPr txBox="1"/>
          <p:nvPr/>
        </p:nvSpPr>
        <p:spPr>
          <a:xfrm>
            <a:off x="214200" y="1143000"/>
            <a:ext cx="2714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99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ава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99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99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совершеннолетних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99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99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етей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99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2" name="Text Box 4"/>
          <p:cNvSpPr/>
          <p:nvPr/>
        </p:nvSpPr>
        <p:spPr>
          <a:xfrm>
            <a:off x="5214960" y="928800"/>
            <a:ext cx="376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ебенок имеет право жить и воспитываться в семье, право на общение с родителями, бабушками, дедушками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73" name="Text Box 11"/>
          <p:cNvSpPr/>
          <p:nvPr/>
        </p:nvSpPr>
        <p:spPr>
          <a:xfrm>
            <a:off x="214200" y="3071880"/>
            <a:ext cx="871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Ребенок имеет право :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на защиту своих прав и законных интересов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на защиту от злоупотреблений со стороны родителей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выражать свое мнение, которое учитывается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право на получение содержания от своих родителей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право собственности на доходы, наследство и т.д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е имеет права на собственность на имущество родителей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так же как и они не имеют права собственности на его имущество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pic>
        <p:nvPicPr>
          <p:cNvPr id="774" name="Picture 52" descr="j0310156"/>
          <p:cNvPicPr/>
          <p:nvPr/>
        </p:nvPicPr>
        <p:blipFill>
          <a:blip r:embed="rId2"/>
          <a:stretch/>
        </p:blipFill>
        <p:spPr>
          <a:xfrm>
            <a:off x="3357720" y="928800"/>
            <a:ext cx="1357200" cy="1832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77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8" dur="770" fill="hold"/>
                                        <p:tgtEl>
                                          <p:spTgt spid="7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0" dur="77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2" dur="77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4000"/>
                            </p:stCondLst>
                            <p:childTnLst>
                              <p:par>
                                <p:cTn id="5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9000"/>
                            </p:stCondLst>
                            <p:childTnLst>
                              <p:par>
                                <p:cTn id="5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8700"/>
                            </p:stCondLst>
                            <p:childTnLst>
                              <p:par>
                                <p:cTn id="5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Rectangle 2" descr=""/>
          <p:cNvPicPr/>
          <p:nvPr/>
        </p:nvPicPr>
        <p:blipFill>
          <a:blip r:embed="rId1"/>
          <a:stretch/>
        </p:blipFill>
        <p:spPr>
          <a:xfrm>
            <a:off x="30240" y="79200"/>
            <a:ext cx="9010440" cy="798840"/>
          </a:xfrm>
          <a:prstGeom prst="rect">
            <a:avLst/>
          </a:prstGeom>
          <a:ln w="0">
            <a:noFill/>
          </a:ln>
        </p:spPr>
      </p:pic>
      <p:sp>
        <p:nvSpPr>
          <p:cNvPr id="776" name="WordArt 3"/>
          <p:cNvSpPr txBox="1"/>
          <p:nvPr/>
        </p:nvSpPr>
        <p:spPr>
          <a:xfrm>
            <a:off x="179280" y="1268280"/>
            <a:ext cx="234000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6fa9b7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а и</a:t>
            </a:r>
            <a:endParaRPr b="1" i="1" lang="en-US" sz="2400" spc="1" strike="noStrike">
              <a:ln w="9360">
                <a:solidFill>
                  <a:srgbClr val="6fa9b7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6fa9b7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язанности</a:t>
            </a:r>
            <a:endParaRPr b="1" i="1" lang="en-US" sz="2400" spc="1" strike="noStrike">
              <a:ln w="9360">
                <a:solidFill>
                  <a:srgbClr val="6fa9b7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6fa9b7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дителей</a:t>
            </a:r>
            <a:endParaRPr b="1" i="1" lang="en-US" sz="2400" spc="1" strike="noStrike">
              <a:ln w="9360">
                <a:solidFill>
                  <a:srgbClr val="6fa9b7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7" name="Text Box 4"/>
          <p:cNvSpPr/>
          <p:nvPr/>
        </p:nvSpPr>
        <p:spPr>
          <a:xfrm>
            <a:off x="2643120" y="714240"/>
            <a:ext cx="6500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одители имеют равные права и несут равные обязанности в отношении своих детей. Они обязаны воспитывать своих детей, обеспечить получение ими образования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одители - законные представители своих детей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78" name="Text Box 6"/>
          <p:cNvSpPr/>
          <p:nvPr/>
        </p:nvSpPr>
        <p:spPr>
          <a:xfrm>
            <a:off x="109080" y="3141720"/>
            <a:ext cx="892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се вопросы с воспитанием детей родители решают совместно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сли возникают разногласия-вправе обратиться в органы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еки или суд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79" name="Text Box 7"/>
          <p:cNvSpPr/>
          <p:nvPr/>
        </p:nvSpPr>
        <p:spPr>
          <a:xfrm>
            <a:off x="113040" y="4292640"/>
            <a:ext cx="891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место жительства детей при раздельном проживании родите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й устанавливается соглашением родителей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родитель проживающий отдельно от ребенка, имеет право на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щение с ним, участие в его образовании и воспитании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дедушка, бабушка, братья сестры и другие родственники име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ют право на общение с ребенком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8800"/>
                            </p:stCondLst>
                            <p:childTnLst>
                              <p:par>
                                <p:cTn id="6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0700"/>
                            </p:stCondLst>
                            <p:childTnLst>
                              <p:par>
                                <p:cTn id="6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WordArt 3"/>
          <p:cNvSpPr txBox="1"/>
          <p:nvPr/>
        </p:nvSpPr>
        <p:spPr>
          <a:xfrm>
            <a:off x="214200" y="1000080"/>
            <a:ext cx="2584440" cy="15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6fa9b7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шение</a:t>
            </a:r>
            <a:endParaRPr b="1" i="1" lang="en-US" sz="2400" spc="1" strike="noStrike">
              <a:ln w="9360">
                <a:solidFill>
                  <a:srgbClr val="6fa9b7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6fa9b7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дительских</a:t>
            </a:r>
            <a:endParaRPr b="1" i="1" lang="en-US" sz="2400" spc="1" strike="noStrike">
              <a:ln w="9360">
                <a:solidFill>
                  <a:srgbClr val="6fa9b7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6fa9b7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</a:t>
            </a:r>
            <a:endParaRPr b="1" i="1" lang="en-US" sz="2400" spc="1" strike="noStrike">
              <a:ln w="9360">
                <a:solidFill>
                  <a:srgbClr val="6fa9b7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5643720" y="714240"/>
            <a:ext cx="324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оисходит по основаниям, предусмотренным законом и только в судебном порядке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82" name="Text Box 6"/>
          <p:cNvSpPr/>
          <p:nvPr/>
        </p:nvSpPr>
        <p:spPr>
          <a:xfrm>
            <a:off x="185040" y="2852640"/>
            <a:ext cx="8721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д может: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восстановить родителей в правах, если они изменили образ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зни и отношение к воспитанию ребенка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тобрать ребенка у одного из родителей без лишения родите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ьских прав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ограничение родительских прав)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лица, родительские права которых ограничены утрачивают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о на личное воспитание ребенка, а также право на льго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ы и государственные пособия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 рассмотрении в суде дел должен бвть привлечен орган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печительства и опеки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pic>
        <p:nvPicPr>
          <p:cNvPr id="783" name="Rectangle 2" descr=""/>
          <p:cNvPicPr/>
          <p:nvPr/>
        </p:nvPicPr>
        <p:blipFill>
          <a:blip r:embed="rId1"/>
          <a:stretch/>
        </p:blipFill>
        <p:spPr>
          <a:xfrm>
            <a:off x="30240" y="79200"/>
            <a:ext cx="9010440" cy="79884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24" descr="j0343229"/>
          <p:cNvPicPr/>
          <p:nvPr/>
        </p:nvPicPr>
        <p:blipFill>
          <a:blip r:embed="rId2"/>
          <a:stretch/>
        </p:blipFill>
        <p:spPr>
          <a:xfrm>
            <a:off x="3571920" y="785880"/>
            <a:ext cx="17143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800"/>
                            </p:stCondLst>
                            <p:childTnLst>
                              <p:par>
                                <p:cTn id="6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Rectangle 2" descr=""/>
          <p:cNvPicPr/>
          <p:nvPr/>
        </p:nvPicPr>
        <p:blipFill>
          <a:blip r:embed="rId1"/>
          <a:stretch/>
        </p:blipFill>
        <p:spPr>
          <a:xfrm>
            <a:off x="103320" y="23760"/>
            <a:ext cx="8937360" cy="951120"/>
          </a:xfrm>
          <a:prstGeom prst="rect">
            <a:avLst/>
          </a:prstGeom>
          <a:ln w="0">
            <a:noFill/>
          </a:ln>
        </p:spPr>
      </p:pic>
      <p:sp>
        <p:nvSpPr>
          <p:cNvPr id="786" name="WordArt 3"/>
          <p:cNvSpPr txBox="1"/>
          <p:nvPr/>
        </p:nvSpPr>
        <p:spPr>
          <a:xfrm>
            <a:off x="214200" y="714240"/>
            <a:ext cx="8750520" cy="3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00000"/>
                </a:solidFill>
                <a:latin typeface="Impact"/>
              </a:rPr>
              <a:t>Родители  обязаны  содержать  несовершеннолетних  детей</a:t>
            </a:r>
            <a:endParaRPr b="1" lang="en-US" sz="2400" spc="1" strike="noStrike">
              <a:ln w="0">
                <a:noFill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81320" y="9507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в противном случае взыскиваются алименты в судебном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рядке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468360" y="1790640"/>
            <a:ext cx="85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Порядок взыскания алиментов: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размер алиментов определяется по взаимному согласию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Если соглашение не достигнуто - взыскивается судом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один ребенок - 25 % от доходов (ежемесячно)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два ребенка – 33%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три и более – 50%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89" name="Text Box 6"/>
          <p:cNvSpPr/>
          <p:nvPr/>
        </p:nvSpPr>
        <p:spPr>
          <a:xfrm>
            <a:off x="222480" y="4119480"/>
            <a:ext cx="871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мер алиментов может быть изменен в зависимости от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териального положения родителей. Алименты могут быть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лены в твердой денежной сумме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90" name="WordArt 7"/>
          <p:cNvSpPr txBox="1"/>
          <p:nvPr/>
        </p:nvSpPr>
        <p:spPr>
          <a:xfrm>
            <a:off x="179280" y="5300640"/>
            <a:ext cx="882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00000"/>
                </a:solidFill>
                <a:latin typeface="Impact"/>
              </a:rPr>
              <a:t>Трудоспособные совершеннолетние дети</a:t>
            </a:r>
            <a:endParaRPr b="1" lang="en-US" sz="2400" spc="1" strike="noStrike">
              <a:ln w="0">
                <a:noFill/>
              </a:ln>
              <a:solidFill>
                <a:srgbClr val="8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00000"/>
                </a:solidFill>
                <a:latin typeface="Impact"/>
              </a:rPr>
              <a:t>обязаны содержать своих нетрудоспособных</a:t>
            </a:r>
            <a:endParaRPr b="1" lang="en-US" sz="2400" spc="1" strike="noStrike">
              <a:ln w="0">
                <a:noFill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791" name="Text Box 8"/>
          <p:cNvSpPr/>
          <p:nvPr/>
        </p:nvSpPr>
        <p:spPr>
          <a:xfrm>
            <a:off x="775440" y="5991120"/>
            <a:ext cx="755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 имеют права на содержание родители, лишенные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ительских прав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</p:spTree>
  </p:cSld>
  <p:transition spd="slow" advTm="0">
    <p:blinds dir="vert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100"/>
                            </p:stCondLst>
                            <p:childTnLst>
                              <p:par>
                                <p:cTn id="6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4500"/>
                            </p:stCondLst>
                            <p:childTnLst>
                              <p:par>
                                <p:cTn id="7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1300"/>
                            </p:stCondLst>
                            <p:childTnLst>
                              <p:par>
                                <p:cTn id="7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1800"/>
                            </p:stCondLst>
                            <p:childTnLst>
                              <p:par>
                                <p:cTn id="7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77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0" dur="770" fill="hold"/>
                                        <p:tgtEl>
                                          <p:spTgt spid="7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2" dur="77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4" dur="77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Rectangle 2" descr=""/>
          <p:cNvPicPr/>
          <p:nvPr/>
        </p:nvPicPr>
        <p:blipFill>
          <a:blip r:embed="rId1"/>
          <a:stretch/>
        </p:blipFill>
        <p:spPr>
          <a:xfrm>
            <a:off x="0" y="23760"/>
            <a:ext cx="9040680" cy="951120"/>
          </a:xfrm>
          <a:prstGeom prst="rect">
            <a:avLst/>
          </a:prstGeom>
          <a:ln w="0">
            <a:noFill/>
          </a:ln>
        </p:spPr>
      </p:pic>
      <p:sp>
        <p:nvSpPr>
          <p:cNvPr id="793" name="WordArt 3"/>
          <p:cNvSpPr txBox="1"/>
          <p:nvPr/>
        </p:nvSpPr>
        <p:spPr>
          <a:xfrm>
            <a:off x="144360" y="692280"/>
            <a:ext cx="882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00000"/>
                </a:solidFill>
                <a:latin typeface="Impact"/>
              </a:rPr>
              <a:t>Супруги обязаны материально поддерживать друг друга</a:t>
            </a:r>
            <a:endParaRPr b="1" lang="en-US" sz="2400" spc="1" strike="noStrike">
              <a:ln w="0">
                <a:noFill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794" name="Text Box 4"/>
          <p:cNvSpPr/>
          <p:nvPr/>
        </p:nvSpPr>
        <p:spPr>
          <a:xfrm>
            <a:off x="435240" y="107172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в противном случае взыскиваются алименты в судебном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рядке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95" name="Text Box 5"/>
          <p:cNvSpPr/>
          <p:nvPr/>
        </p:nvSpPr>
        <p:spPr>
          <a:xfrm>
            <a:off x="357120" y="1857240"/>
            <a:ext cx="839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Право на получение алиментов имеют: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нетрудоспособный нуждающийся супруг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жена, в период беременности и в течение 3 лет с момента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рождения ребенка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нуждающийся супруг, осуществляющий уход за ребенком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Инвалидом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96" name="Text Box 8"/>
          <p:cNvSpPr/>
          <p:nvPr/>
        </p:nvSpPr>
        <p:spPr>
          <a:xfrm>
            <a:off x="221760" y="4214880"/>
            <a:ext cx="87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мер алиментов определяется добровольно, или в судебном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рядке в твердой денежной сумме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97" name="Text Box 9"/>
          <p:cNvSpPr/>
          <p:nvPr/>
        </p:nvSpPr>
        <p:spPr>
          <a:xfrm>
            <a:off x="0" y="51436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о на содержание могут иметь нетрудоспособные бабушки и дедушки, сестры и братья, внуки, усыновители и фактические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спитатели. Размер содержание устанавливается в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вердой денежной сумме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77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3" dur="770" fill="hold"/>
                                        <p:tgtEl>
                                          <p:spTgt spid="7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5" dur="77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8200"/>
                            </p:stCondLst>
                            <p:childTnLst>
                              <p:par>
                                <p:cTn id="7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7600"/>
                            </p:stCondLst>
                            <p:childTnLst>
                              <p:par>
                                <p:cTn id="7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77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9" dur="770" fill="hold"/>
                                        <p:tgtEl>
                                          <p:spTgt spid="7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1" dur="77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3" dur="77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9600"/>
                            </p:stCondLst>
                            <p:childTnLst>
                              <p:par>
                                <p:cTn id="7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-973080" y="-4859640"/>
            <a:ext cx="1220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Спасиб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за внимание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Rectangle 2" descr=""/>
          <p:cNvPicPr/>
          <p:nvPr/>
        </p:nvPicPr>
        <p:blipFill>
          <a:blip r:embed="rId1"/>
          <a:stretch/>
        </p:blipFill>
        <p:spPr>
          <a:xfrm>
            <a:off x="249120" y="6480"/>
            <a:ext cx="8894880" cy="1170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 txBox="1"/>
          <p:nvPr/>
        </p:nvSpPr>
        <p:spPr>
          <a:xfrm>
            <a:off x="-360" y="3929040"/>
            <a:ext cx="89917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трасль права, нормы которой регулируют личные и имущественные отношения, вытекающие из брака и принадлежащие семь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Text Box 9"/>
          <p:cNvSpPr/>
          <p:nvPr/>
        </p:nvSpPr>
        <p:spPr>
          <a:xfrm>
            <a:off x="2195640" y="836640"/>
            <a:ext cx="661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авливает условия, порядок, вступления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брак, прекращения брака и признания его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действительным, регулирует личные неимущественные и имущественные отношения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жду членами семьи, определяет порядок и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ормы устройства в семью детей оставшихся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ез попечения родителей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695" name="WordArt 10"/>
          <p:cNvSpPr txBox="1"/>
          <p:nvPr/>
        </p:nvSpPr>
        <p:spPr>
          <a:xfrm>
            <a:off x="544680" y="1998720"/>
            <a:ext cx="1218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 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96" name="WordArt 14"/>
          <p:cNvSpPr txBox="1"/>
          <p:nvPr/>
        </p:nvSpPr>
        <p:spPr>
          <a:xfrm>
            <a:off x="468360" y="5877000"/>
            <a:ext cx="81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Относится  к  ведению  РФ  и  субъектов  РФ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grpSp>
        <p:nvGrpSpPr>
          <p:cNvPr id="697" name="Group 33"/>
          <p:cNvGrpSpPr/>
          <p:nvPr/>
        </p:nvGrpSpPr>
        <p:grpSpPr>
          <a:xfrm>
            <a:off x="0" y="2357280"/>
            <a:ext cx="1851840" cy="1488960"/>
            <a:chOff x="0" y="2357280"/>
            <a:chExt cx="1851840" cy="1488960"/>
          </a:xfrm>
        </p:grpSpPr>
        <p:pic>
          <p:nvPicPr>
            <p:cNvPr id="698" name="Picture 31" descr="j0280200"/>
            <p:cNvPicPr/>
            <p:nvPr/>
          </p:nvPicPr>
          <p:blipFill>
            <a:blip r:embed="rId4"/>
            <a:stretch/>
          </p:blipFill>
          <p:spPr>
            <a:xfrm>
              <a:off x="218160" y="2357280"/>
              <a:ext cx="1633680" cy="10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Text Box 32"/>
            <p:cNvSpPr/>
            <p:nvPr/>
          </p:nvSpPr>
          <p:spPr>
            <a:xfrm>
              <a:off x="0" y="338436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300"/>
                            </p:stCondLst>
                            <p:childTnLst>
                              <p:par>
                                <p:cTn id="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6400"/>
                            </p:stCondLst>
                            <p:childTnLst>
                              <p:par>
                                <p:cTn id="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8400"/>
                            </p:stCondLst>
                            <p:childTnLst>
                              <p:par>
                                <p:cTn id="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6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Rectangle 2" descr=""/>
          <p:cNvPicPr/>
          <p:nvPr/>
        </p:nvPicPr>
        <p:blipFill>
          <a:blip r:embed="rId1"/>
          <a:stretch/>
        </p:blipFill>
        <p:spPr>
          <a:xfrm>
            <a:off x="0" y="23760"/>
            <a:ext cx="9040680" cy="951120"/>
          </a:xfrm>
          <a:prstGeom prst="rect">
            <a:avLst/>
          </a:prstGeom>
          <a:ln w="0">
            <a:noFill/>
          </a:ln>
        </p:spPr>
      </p:pic>
      <p:sp>
        <p:nvSpPr>
          <p:cNvPr id="701" name="WordArt 3"/>
          <p:cNvSpPr txBox="1"/>
          <p:nvPr/>
        </p:nvSpPr>
        <p:spPr>
          <a:xfrm>
            <a:off x="3635280" y="836640"/>
            <a:ext cx="1871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 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02" name="WordArt 10"/>
          <p:cNvSpPr txBox="1"/>
          <p:nvPr/>
        </p:nvSpPr>
        <p:spPr>
          <a:xfrm>
            <a:off x="214200" y="785880"/>
            <a:ext cx="224784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Семейный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кодекс РФ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703" name="WordArt 11"/>
          <p:cNvSpPr txBox="1"/>
          <p:nvPr/>
        </p:nvSpPr>
        <p:spPr>
          <a:xfrm>
            <a:off x="5929200" y="1785960"/>
            <a:ext cx="22478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Федеральные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законы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704" name="WordArt 12"/>
          <p:cNvSpPr txBox="1"/>
          <p:nvPr/>
        </p:nvSpPr>
        <p:spPr>
          <a:xfrm>
            <a:off x="6715080" y="642960"/>
            <a:ext cx="22478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Законы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субъектов РФ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705" name="WordArt 13"/>
          <p:cNvSpPr txBox="1"/>
          <p:nvPr/>
        </p:nvSpPr>
        <p:spPr>
          <a:xfrm>
            <a:off x="1000080" y="1785960"/>
            <a:ext cx="22478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Международные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договоры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706" name="Text Box 15"/>
          <p:cNvSpPr/>
          <p:nvPr/>
        </p:nvSpPr>
        <p:spPr>
          <a:xfrm>
            <a:off x="172800" y="3860640"/>
            <a:ext cx="877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венция  «О защите прав человека и основных свобод»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ждународный пакт об экономических, социальных и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ультурных правах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венция ООН «О правах ребенка»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венция стран СНГ «О правовой помощи и правовых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ношениях по гражданским, семейным и уголовным делам»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07" name="WordArt 16"/>
          <p:cNvSpPr txBox="1"/>
          <p:nvPr/>
        </p:nvSpPr>
        <p:spPr>
          <a:xfrm>
            <a:off x="3214800" y="2786040"/>
            <a:ext cx="295092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равовые акты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равительства РФ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708" name="Picture 35" descr="j0237338"/>
          <p:cNvPicPr/>
          <p:nvPr/>
        </p:nvPicPr>
        <p:blipFill>
          <a:blip r:embed="rId2"/>
          <a:stretch/>
        </p:blipFill>
        <p:spPr>
          <a:xfrm>
            <a:off x="3743280" y="928800"/>
            <a:ext cx="1614600" cy="14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7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Rectangle 2" descr=""/>
          <p:cNvPicPr/>
          <p:nvPr/>
        </p:nvPicPr>
        <p:blipFill>
          <a:blip r:embed="rId1"/>
          <a:stretch/>
        </p:blipFill>
        <p:spPr>
          <a:xfrm>
            <a:off x="-23760" y="-73080"/>
            <a:ext cx="9064440" cy="103680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4"/>
          <p:cNvSpPr/>
          <p:nvPr/>
        </p:nvSpPr>
        <p:spPr>
          <a:xfrm>
            <a:off x="2000160" y="128592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гулируются в ограниченных масштабах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11" name="Text Box 6"/>
          <p:cNvSpPr/>
          <p:nvPr/>
        </p:nvSpPr>
        <p:spPr>
          <a:xfrm>
            <a:off x="2145240" y="71424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венство супругов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12" name="Text Box 7"/>
          <p:cNvSpPr/>
          <p:nvPr/>
        </p:nvSpPr>
        <p:spPr>
          <a:xfrm>
            <a:off x="182520" y="2492280"/>
            <a:ext cx="888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аво на свободу в выборе рода занятий,профессии, мест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ебывания и жительства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вместное решение вопросов материнства, отцовства, вос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итания, образования детей и других вопросов жизни семьи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бязанность строить свои отношения в семье на основе взаи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уважения и взаимопомощи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1481040" y="4869000"/>
            <a:ext cx="618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упруги не обязаны проживать совместно)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14" name="Text Box 9"/>
          <p:cNvSpPr/>
          <p:nvPr/>
        </p:nvSpPr>
        <p:spPr>
          <a:xfrm>
            <a:off x="297000" y="5445000"/>
            <a:ext cx="85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анкции за нарушение этих прав не следуют, следовательно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озможно лишь расторжение брака.(Но возможно уголовное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аказание, или материальные санкции)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grpSp>
        <p:nvGrpSpPr>
          <p:cNvPr id="715" name="Group 50"/>
          <p:cNvGrpSpPr/>
          <p:nvPr/>
        </p:nvGrpSpPr>
        <p:grpSpPr>
          <a:xfrm>
            <a:off x="5000760" y="642960"/>
            <a:ext cx="2285640" cy="1857240"/>
            <a:chOff x="5000760" y="642960"/>
            <a:chExt cx="2285640" cy="1857240"/>
          </a:xfrm>
        </p:grpSpPr>
        <p:pic>
          <p:nvPicPr>
            <p:cNvPr id="716" name="Picture 47" descr="j0316850"/>
            <p:cNvPicPr/>
            <p:nvPr/>
          </p:nvPicPr>
          <p:blipFill>
            <a:blip r:embed="rId2"/>
            <a:stretch/>
          </p:blipFill>
          <p:spPr>
            <a:xfrm>
              <a:off x="5825880" y="642960"/>
              <a:ext cx="146052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48"/>
            <p:cNvSpPr/>
            <p:nvPr/>
          </p:nvSpPr>
          <p:spPr>
            <a:xfrm>
              <a:off x="5000760" y="1823760"/>
              <a:ext cx="26964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300"/>
                            </p:stCondLst>
                            <p:childTnLst>
                              <p:par>
                                <p:cTn id="1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1300"/>
                            </p:stCondLst>
                            <p:childTnLst>
                              <p:par>
                                <p:cTn id="2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77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/>
                                        <p:tgtEl>
                                          <p:spTgt spid="7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Rectangle 2" descr=""/>
          <p:cNvPicPr/>
          <p:nvPr/>
        </p:nvPicPr>
        <p:blipFill>
          <a:blip r:embed="rId1"/>
          <a:stretch/>
        </p:blipFill>
        <p:spPr>
          <a:xfrm>
            <a:off x="0" y="23760"/>
            <a:ext cx="9040680" cy="95112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9"/>
          <p:cNvSpPr/>
          <p:nvPr/>
        </p:nvSpPr>
        <p:spPr>
          <a:xfrm>
            <a:off x="468360" y="785880"/>
            <a:ext cx="845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К личным неимущественным правам также относится выбор фамилии (общая, сохранение своей, двойная, если одна уже не была двойной)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250920" y="2781360"/>
            <a:ext cx="86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мена фамилии одним из супругов не влечет автоматической смены фамилии у другого супруга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21" name="Text Box 12"/>
          <p:cNvSpPr/>
          <p:nvPr/>
        </p:nvSpPr>
        <p:spPr>
          <a:xfrm>
            <a:off x="214200" y="200016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мена фамилии после регистрации брака возможна лишь в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ответствии с Законом об актах гражданского состояния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22" name="WordArt 13"/>
          <p:cNvSpPr txBox="1"/>
          <p:nvPr/>
        </p:nvSpPr>
        <p:spPr>
          <a:xfrm>
            <a:off x="571680" y="3929040"/>
            <a:ext cx="7929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При расторжении брака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723" name="Text Box 14"/>
          <p:cNvSpPr/>
          <p:nvPr/>
        </p:nvSpPr>
        <p:spPr>
          <a:xfrm>
            <a:off x="214200" y="4429080"/>
            <a:ext cx="585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прос о фамилии решается самостоятельно: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хранение общей фамилии (согласие другого супруга не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буется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звращение добрачной фамилии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grpSp>
        <p:nvGrpSpPr>
          <p:cNvPr id="724" name="Group 49"/>
          <p:cNvGrpSpPr/>
          <p:nvPr/>
        </p:nvGrpSpPr>
        <p:grpSpPr>
          <a:xfrm>
            <a:off x="6000840" y="4643280"/>
            <a:ext cx="2714040" cy="2428560"/>
            <a:chOff x="6000840" y="4643280"/>
            <a:chExt cx="2714040" cy="2428560"/>
          </a:xfrm>
        </p:grpSpPr>
        <p:pic>
          <p:nvPicPr>
            <p:cNvPr id="725" name="Picture 47" descr="j0240359"/>
            <p:cNvPicPr/>
            <p:nvPr/>
          </p:nvPicPr>
          <p:blipFill>
            <a:blip r:embed="rId2"/>
            <a:stretch/>
          </p:blipFill>
          <p:spPr>
            <a:xfrm>
              <a:off x="6000840" y="4643280"/>
              <a:ext cx="2714040" cy="17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Text Box 48"/>
            <p:cNvSpPr/>
            <p:nvPr/>
          </p:nvSpPr>
          <p:spPr>
            <a:xfrm>
              <a:off x="6319440" y="6383880"/>
              <a:ext cx="2689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8900"/>
                            </p:stCondLst>
                            <p:childTnLst>
                              <p:par>
                                <p:cTn id="2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9300"/>
                            </p:stCondLst>
                            <p:childTnLst>
                              <p:par>
                                <p:cTn id="2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3600"/>
                            </p:stCondLst>
                            <p:childTnLst>
                              <p:par>
                                <p:cTn id="2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5600"/>
                            </p:stCondLst>
                            <p:childTnLst>
                              <p:par>
                                <p:cTn id="2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Rectangle 2" descr=""/>
          <p:cNvPicPr/>
          <p:nvPr/>
        </p:nvPicPr>
        <p:blipFill>
          <a:blip r:embed="rId1"/>
          <a:stretch/>
        </p:blipFill>
        <p:spPr>
          <a:xfrm>
            <a:off x="0" y="23760"/>
            <a:ext cx="9040680" cy="951120"/>
          </a:xfrm>
          <a:prstGeom prst="rect">
            <a:avLst/>
          </a:prstGeom>
          <a:ln w="0">
            <a:noFill/>
          </a:ln>
        </p:spPr>
      </p:pic>
      <p:sp>
        <p:nvSpPr>
          <p:cNvPr id="728" name="WordArt 3"/>
          <p:cNvSpPr txBox="1"/>
          <p:nvPr/>
        </p:nvSpPr>
        <p:spPr>
          <a:xfrm>
            <a:off x="214200" y="857160"/>
            <a:ext cx="2000520" cy="10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мущественные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ава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9" name="Text Box 4"/>
          <p:cNvSpPr/>
          <p:nvPr/>
        </p:nvSpPr>
        <p:spPr>
          <a:xfrm>
            <a:off x="4000680" y="71424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емейное право регулирует режим общей собственности, нажитой суп-ругами во время брака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268920" y="2857680"/>
            <a:ext cx="879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оходы каждого из супругов от трудовой, предпринимательс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кой, интеллектуальной деятельности,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енсии, пособия, и иные денежные выплаты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вижимые и недвижимые вещи, ценные бумаги, паи, вклады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и др., приобретенные за счет общих доходов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(не имеет значения на чьё имя оформлено и кем приобретено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бщим собственником признается даже не работающий суп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руг)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31" name="WordArt 9"/>
          <p:cNvSpPr txBox="1"/>
          <p:nvPr/>
        </p:nvSpPr>
        <p:spPr>
          <a:xfrm>
            <a:off x="1428840" y="2214720"/>
            <a:ext cx="64389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Общее совместное имущество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732" name="WordArt 10"/>
          <p:cNvSpPr txBox="1"/>
          <p:nvPr/>
        </p:nvSpPr>
        <p:spPr>
          <a:xfrm>
            <a:off x="108000" y="6165720"/>
            <a:ext cx="896472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упруги имеют равные права на общее имущество</a:t>
            </a:r>
            <a:endParaRPr b="1" i="1" lang="en-US" sz="24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733" name="Group 35"/>
          <p:cNvGrpSpPr/>
          <p:nvPr/>
        </p:nvGrpSpPr>
        <p:grpSpPr>
          <a:xfrm>
            <a:off x="2357280" y="785880"/>
            <a:ext cx="1579320" cy="1356840"/>
            <a:chOff x="2357280" y="785880"/>
            <a:chExt cx="1579320" cy="1356840"/>
          </a:xfrm>
        </p:grpSpPr>
        <p:pic>
          <p:nvPicPr>
            <p:cNvPr id="734" name="Picture 33" descr="j0288891"/>
            <p:cNvPicPr/>
            <p:nvPr/>
          </p:nvPicPr>
          <p:blipFill>
            <a:blip r:embed="rId2"/>
            <a:stretch/>
          </p:blipFill>
          <p:spPr>
            <a:xfrm>
              <a:off x="2679840" y="785880"/>
              <a:ext cx="125676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Text Box 34"/>
            <p:cNvSpPr/>
            <p:nvPr/>
          </p:nvSpPr>
          <p:spPr>
            <a:xfrm>
              <a:off x="2357280" y="1699200"/>
              <a:ext cx="1929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77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770" fill="hold"/>
                                        <p:tgtEl>
                                          <p:spTgt spid="7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500"/>
                            </p:stCondLst>
                            <p:childTnLst>
                              <p:par>
                                <p:cTn id="3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Rectangle 2" descr=""/>
          <p:cNvPicPr/>
          <p:nvPr/>
        </p:nvPicPr>
        <p:blipFill>
          <a:blip r:embed="rId1"/>
          <a:stretch/>
        </p:blipFill>
        <p:spPr>
          <a:xfrm>
            <a:off x="0" y="23760"/>
            <a:ext cx="9040680" cy="951120"/>
          </a:xfrm>
          <a:prstGeom prst="rect">
            <a:avLst/>
          </a:prstGeom>
          <a:ln w="0">
            <a:noFill/>
          </a:ln>
        </p:spPr>
      </p:pic>
      <p:sp>
        <p:nvSpPr>
          <p:cNvPr id="737" name="WordArt 7"/>
          <p:cNvSpPr txBox="1"/>
          <p:nvPr/>
        </p:nvSpPr>
        <p:spPr>
          <a:xfrm>
            <a:off x="179280" y="3571920"/>
            <a:ext cx="896472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упруги могут иметь и собственное имущество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8" name="Text Box 8"/>
          <p:cNvSpPr/>
          <p:nvPr/>
        </p:nvSpPr>
        <p:spPr>
          <a:xfrm>
            <a:off x="84240" y="549360"/>
            <a:ext cx="923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 совершении сделки с общим имуществом, предполагается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то он действует с согласия другого супруга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случае совершения сделки с особо важным для семьи иму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ществом (дом), требуется нотариальная регистрация согласия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торого супруга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делка может быть аннулирована, если второй супруг предос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вил доказательства о том, что вторая сторона сделки заведо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 знала о несогласии одного из супругов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245520" y="3933720"/>
            <a:ext cx="88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мущество принадлежавшее до брака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ученное в дар,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ледство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грады и премии не предусмотренные системой оплаты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уда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щи индивидуального пользования(за исключением драго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енностей и предметов роскоши)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7200"/>
                            </p:stCondLst>
                            <p:childTnLst>
                              <p:par>
                                <p:cTn id="3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7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9200"/>
                            </p:stCondLst>
                            <p:childTnLst>
                              <p:par>
                                <p:cTn id="3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Rectangle 2" descr=""/>
          <p:cNvPicPr/>
          <p:nvPr/>
        </p:nvPicPr>
        <p:blipFill>
          <a:blip r:embed="rId1"/>
          <a:stretch/>
        </p:blipFill>
        <p:spPr>
          <a:xfrm>
            <a:off x="0" y="23760"/>
            <a:ext cx="9040680" cy="951120"/>
          </a:xfrm>
          <a:prstGeom prst="rect">
            <a:avLst/>
          </a:prstGeom>
          <a:ln w="0">
            <a:noFill/>
          </a:ln>
        </p:spPr>
      </p:pic>
      <p:sp>
        <p:nvSpPr>
          <p:cNvPr id="741" name="WordArt 3"/>
          <p:cNvSpPr txBox="1"/>
          <p:nvPr/>
        </p:nvSpPr>
        <p:spPr>
          <a:xfrm>
            <a:off x="857160" y="642960"/>
            <a:ext cx="764388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99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здел совместного имущества</a:t>
            </a:r>
            <a:endParaRPr b="1" lang="en-US" sz="2400" spc="1" strike="noStrike">
              <a:ln w="12600">
                <a:solidFill>
                  <a:srgbClr val="ff6600"/>
                </a:solidFill>
                <a:miter/>
              </a:ln>
              <a:solidFill>
                <a:srgbClr val="99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42" name="WordArt 6"/>
          <p:cNvSpPr txBox="1"/>
          <p:nvPr/>
        </p:nvSpPr>
        <p:spPr>
          <a:xfrm>
            <a:off x="500040" y="1214280"/>
            <a:ext cx="221472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Добровольно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  <p:sp>
        <p:nvSpPr>
          <p:cNvPr id="743" name="WordArt 7"/>
          <p:cNvSpPr txBox="1"/>
          <p:nvPr/>
        </p:nvSpPr>
        <p:spPr>
          <a:xfrm>
            <a:off x="5786280" y="1143000"/>
            <a:ext cx="31276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В  судебном  порядке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0" y="1571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длежит нотариальному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достоверению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5715000" y="1500120"/>
            <a:ext cx="32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если нет согласия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пределяется размер доли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285840" y="26431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щи, приобретенные для удовлетворения потребностей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тей разделу не подлежат и передаются супругу с которым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живают дети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10800" y="3857760"/>
            <a:ext cx="88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 требованиям супругов о разделе имущества применяется 3-х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тний срок исковой давности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48" name="Text Box 12"/>
          <p:cNvSpPr/>
          <p:nvPr/>
        </p:nvSpPr>
        <p:spPr>
          <a:xfrm>
            <a:off x="162000" y="4724280"/>
            <a:ext cx="879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ри разделе имущество доли супругов признаются равными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(доля может быть изменена, в пользу супруга у которого оста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ются дети, или уменьшена если супруг не получал доходов по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еуважительной причине, либо расходовал общее имущество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 ущерб интересам семьи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grpSp>
        <p:nvGrpSpPr>
          <p:cNvPr id="749" name="Group 56"/>
          <p:cNvGrpSpPr/>
          <p:nvPr/>
        </p:nvGrpSpPr>
        <p:grpSpPr>
          <a:xfrm>
            <a:off x="3643200" y="1285920"/>
            <a:ext cx="1428480" cy="1428480"/>
            <a:chOff x="3643200" y="1285920"/>
            <a:chExt cx="1428480" cy="1428480"/>
          </a:xfrm>
        </p:grpSpPr>
        <p:pic>
          <p:nvPicPr>
            <p:cNvPr id="750" name="Picture 50" descr="j0294991"/>
            <p:cNvPicPr/>
            <p:nvPr/>
          </p:nvPicPr>
          <p:blipFill>
            <a:blip r:embed="rId2"/>
            <a:stretch/>
          </p:blipFill>
          <p:spPr>
            <a:xfrm>
              <a:off x="3643200" y="1285920"/>
              <a:ext cx="1428480" cy="96192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751" name="Text Box 51"/>
            <p:cNvSpPr/>
            <p:nvPr/>
          </p:nvSpPr>
          <p:spPr>
            <a:xfrm>
              <a:off x="3696120" y="2217240"/>
              <a:ext cx="2282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77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7" dur="770" fill="hold"/>
                                        <p:tgtEl>
                                          <p:spTgt spid="7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9" dur="77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1" dur="77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000"/>
                            </p:stCondLst>
                            <p:childTnLst>
                              <p:par>
                                <p:cTn id="3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77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770" fill="hold"/>
                                        <p:tgtEl>
                                          <p:spTgt spid="7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8000"/>
                            </p:stCondLst>
                            <p:childTnLst>
                              <p:par>
                                <p:cTn id="3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77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7" dur="770" fill="hold"/>
                                        <p:tgtEl>
                                          <p:spTgt spid="7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9" dur="77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1700"/>
                            </p:stCondLst>
                            <p:childTnLst>
                              <p:par>
                                <p:cTn id="412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3700"/>
                            </p:stCondLst>
                            <p:childTnLst>
                              <p:par>
                                <p:cTn id="4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2200"/>
                            </p:stCondLst>
                            <p:childTnLst>
                              <p:par>
                                <p:cTn id="4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Rectangle 2" descr=""/>
          <p:cNvPicPr/>
          <p:nvPr/>
        </p:nvPicPr>
        <p:blipFill>
          <a:blip r:embed="rId1"/>
          <a:stretch/>
        </p:blipFill>
        <p:spPr>
          <a:xfrm>
            <a:off x="0" y="23760"/>
            <a:ext cx="9040680" cy="951120"/>
          </a:xfrm>
          <a:prstGeom prst="rect">
            <a:avLst/>
          </a:prstGeom>
          <a:ln w="0">
            <a:noFill/>
          </a:ln>
        </p:spPr>
      </p:pic>
      <p:sp>
        <p:nvSpPr>
          <p:cNvPr id="753" name="WordArt 3"/>
          <p:cNvSpPr txBox="1"/>
          <p:nvPr/>
        </p:nvSpPr>
        <p:spPr>
          <a:xfrm>
            <a:off x="250920" y="981000"/>
            <a:ext cx="21430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рачный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говор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4143240" y="785880"/>
            <a:ext cx="478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глашение, определяющее имущественные права и обязанности супругов в браке или в случае его расторжения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55" name="Text Box 9"/>
          <p:cNvSpPr/>
          <p:nvPr/>
        </p:nvSpPr>
        <p:spPr>
          <a:xfrm>
            <a:off x="344520" y="2637000"/>
            <a:ext cx="859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ecff"/>
                </a:solidFill>
                <a:uFillTx/>
                <a:latin typeface="Times New Roman"/>
              </a:rPr>
              <a:t>В брачном договоре указываются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способы участия каждого из супругов в доходах друг друга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порядок несения семейных расходов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имущество отходящее супругам в случае развода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293400" y="4392720"/>
            <a:ext cx="861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Брачный договор не может: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граничивать правоспособность и дееспособность супругов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регулировать личные неимущественные права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ставить одного из супругов в неблагоприятные отношения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57" name="Text Box 13"/>
          <p:cNvSpPr/>
          <p:nvPr/>
        </p:nvSpPr>
        <p:spPr>
          <a:xfrm>
            <a:off x="176040" y="5950080"/>
            <a:ext cx="878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рекращается с момента прекращения брака, после исполне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ия всех положений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grpSp>
        <p:nvGrpSpPr>
          <p:cNvPr id="758" name="Group 37"/>
          <p:cNvGrpSpPr/>
          <p:nvPr/>
        </p:nvGrpSpPr>
        <p:grpSpPr>
          <a:xfrm>
            <a:off x="2786040" y="857160"/>
            <a:ext cx="1425600" cy="1269720"/>
            <a:chOff x="2786040" y="857160"/>
            <a:chExt cx="1425600" cy="1269720"/>
          </a:xfrm>
        </p:grpSpPr>
        <p:pic>
          <p:nvPicPr>
            <p:cNvPr id="759" name="Picture 35" descr="j0282372"/>
            <p:cNvPicPr/>
            <p:nvPr/>
          </p:nvPicPr>
          <p:blipFill>
            <a:blip r:embed="rId2"/>
            <a:stretch/>
          </p:blipFill>
          <p:spPr>
            <a:xfrm>
              <a:off x="3013200" y="857160"/>
              <a:ext cx="119844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Text Box 36"/>
            <p:cNvSpPr/>
            <p:nvPr/>
          </p:nvSpPr>
          <p:spPr>
            <a:xfrm>
              <a:off x="2786040" y="16650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77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770" fill="hold"/>
                                        <p:tgtEl>
                                          <p:spTgt spid="7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9" dur="77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1" dur="77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6000"/>
                            </p:stCondLst>
                            <p:childTnLst>
                              <p:par>
                                <p:cTn id="4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1800"/>
                            </p:stCondLst>
                            <p:childTnLst>
                              <p:par>
                                <p:cTn id="4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9100"/>
                            </p:stCondLst>
                            <p:childTnLst>
                              <p:par>
                                <p:cTn id="4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 </cp:lastModifiedBy>
  <dcterms:modified xsi:type="dcterms:W3CDTF">2004-12-31T21:39:42Z</dcterms:modified>
  <cp:revision>38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