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453E8-88D2-4367-A003-C3C252E5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4546B-ADFE-43DA-9BBE-88ECF7A4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34D83-A4EB-4BE8-8BE0-AE5D28C4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F0878-3922-4EC5-9CBA-A8D52F6A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0D77-1D95-4A95-BA04-F65D0806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455A-A5BB-4FB1-8E84-469F2C0C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F90A-987D-4ACA-AFC7-697EC731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AE4E-F93E-419A-B268-16182661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C481-1DBD-4A42-AAC7-40F109DF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5F87-8A7F-4426-A87C-585C004D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C0C2-42B5-45CB-B0BF-2F236510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15CA6-FE99-4889-9D0B-F3C6906C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D2FD-DA93-4B39-99E4-89A5B4F7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5DF5-3A5B-4A7F-B1D8-353374CF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D09C-6AE2-43C8-BDCE-4C81E6DD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DEEB-B2C7-4828-9DD7-F1E6ACD2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BDE6-8496-4FD5-8E9A-DE19EB09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DB043-8C05-45BA-A89D-17E63404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A4BB9-BDF1-440C-83FD-794F2B50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48A7B-B76A-4D01-89A2-960E3E28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47C17-FEB0-4886-9F01-1B1AA60C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B2A7B-F1BD-44B1-8E68-025A86C8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82557-D1F1-4E6B-93ED-51ACB9DC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6CF31-2475-443E-90D9-566BC351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182D-2FE7-449F-B007-A8AD510065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F00A-2436-4082-A979-2F46449ADB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ПРАКТИЧЕСКОЕ ЗАДАНИЕ ПО ПРОФЕССИИ «Повар»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«Щука фаршированная. По щучьему велению»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3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Лимон для украшения блюд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07960" y="1628640"/>
            <a:ext cx="8128080" cy="484848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вежие помидоры для украшения блюд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7960" y="1557360"/>
            <a:ext cx="8128080" cy="491976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чищаем рыбу, отрезаем голову и плавники    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07960" y="1557360"/>
            <a:ext cx="3343320" cy="4919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4135320" cy="477684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нимаем кожу «чулком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07960" y="1341360"/>
            <a:ext cx="8128080" cy="513576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тделяем мякоть от косте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07960" y="1268280"/>
            <a:ext cx="8128080" cy="520884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У головы удаляем жаб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7960" y="1413000"/>
            <a:ext cx="8128080" cy="506412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епчатый лук очищаем и нарезаем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7960" y="2565360"/>
            <a:ext cx="3919680" cy="3911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4135680" cy="501516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ук пассеруе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7960" y="1484280"/>
            <a:ext cx="8128080" cy="499284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Морковь отварить, очистить и нарезать кубика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224320" y="1484280"/>
            <a:ext cx="3919680" cy="4703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07960" y="2276640"/>
            <a:ext cx="4208400" cy="420048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189440" y="549000"/>
            <a:ext cx="1033308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    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полнила учащаяся группы №2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     Бловацкая Виктория Викторов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71740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360" y="476280"/>
            <a:ext cx="2952720" cy="266544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Филе рыбы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c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ассерованным луком пропускаем через мясорубку 2 раз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497800" cy="537372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Добавляем соль, яйца, замоченную в молоке булк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07960" y="1844640"/>
            <a:ext cx="8128080" cy="463248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арезанную морков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960" y="1268280"/>
            <a:ext cx="8128080" cy="520884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олученной массой наполняем кожу рыбы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07960" y="1484280"/>
            <a:ext cx="8128080" cy="499284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Заворачиваем в марлю и припускаем в котле с добавлением лука, свеклы, со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На блюдо наливаем слой желе. Даём застыть . На желе укладываем рыбу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3000">
    <p:cover dir="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68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68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6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6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Готовую рыбу украшаем овоща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7960" y="2781360"/>
            <a:ext cx="5288040" cy="36957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4140360" cy="470376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Monotype Corsiva"/>
              </a:rPr>
              <a:t>Мастер производственного обучения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Monotype Corsiva"/>
              </a:rPr>
              <a:t>Резникова Ирина Владимировна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435640" y="4005360"/>
            <a:ext cx="3219480" cy="237636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Для приготовления блюда нам понадобятся следующие продукты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3000">
    <p:cover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Щу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7960" y="1700280"/>
            <a:ext cx="8128080" cy="477684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орковь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7960" y="1844640"/>
            <a:ext cx="8128080" cy="463248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аргарин сливочны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7960" y="1557360"/>
            <a:ext cx="8128080" cy="491976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иправа из смеси перцев для рыб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7960" y="1628640"/>
            <a:ext cx="8128080" cy="484848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56:47Z</dcterms:created>
  <dc:creator>Admin</dc:creator>
  <dc:description/>
  <dc:language>en-US</dc:language>
  <cp:lastModifiedBy>Ezcool</cp:lastModifiedBy>
  <dcterms:modified xsi:type="dcterms:W3CDTF">2013-10-19T16:43:11Z</dcterms:modified>
  <cp:revision>5</cp:revision>
  <dc:subject/>
  <dc:title>Слайд 1</dc:title>
</cp:coreProperties>
</file>