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TYPE.WAV" ContentType="audio/x-wav"/>
  <Override PartName="/ppt/media/image7.wmf" ContentType="image/x-wmf"/>
  <Override PartName="/ppt/media/chimes.wav" ContentType="audio/x-wav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8.wmf" ContentType="image/x-wmf"/>
  <Override PartName="/ppt/media/drumroll.wav" ContentType="audio/x-wav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7D8A-0C9F-4B41-9898-C11F85D70A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3C76-E149-4EEF-A783-B7C9F51371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E9F7-287F-41D4-98B7-B04FCCF585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3839-D2F1-4284-94CD-4A2BBEEF39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F3EE-D260-42A0-8837-153E79EB48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F3FD-928B-46F7-A78E-F7D3B58190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3B2C-F2B0-499F-A263-5F503DE806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D10E-0CED-4FF6-BF29-A678792FB4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0CC6-C508-4F89-A924-D81F3AA73C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47D2-365A-40B1-A8F2-931AF8F0B7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2F10-EEC0-47A2-90C7-2A4F59132B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256F-8AE2-44B4-AC74-8052C015CD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E7A2-6FF8-4974-B0E3-CCC8155B0E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E94D-2515-402D-AE09-C73E9CAC20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9604-2E02-4672-B349-0E471E0AEF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4655-1052-49A0-8698-B68683506D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CFE5-71D0-40E3-AE79-3D2DD52772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157A-AF6D-4376-BC13-5BC1176F10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AB98-5BF5-4E1F-A8C5-C9D6BD4AE2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7911-B5CE-4AAD-A671-A25B571FD1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0989-7EAF-4333-9F12-759C38E38B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0224-D57F-41B9-BAAE-2792D3289B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8E33-78BE-47B2-8850-5D23595CFB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88C5-0239-407D-ABC4-5D518090F1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C774-5B26-41F1-9F56-27DEB2AE8F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2051-2A63-47EC-B197-9DC60F74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AEB1-CA89-4EFA-B2AE-BED5CB61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8A51-2666-4798-941D-EAF0A1F3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1AE9-F095-4EBB-855C-EB14A4D3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2E6-BFC3-4E6A-A7FA-DB1FEB01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34C-146B-4DE0-9CE7-758F6085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3426-D539-4148-8EB4-470E78EE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AC2-E41D-4AE4-8182-61DC0F69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DB5-09F5-4D2A-AD26-0AD9BF7A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DE73-B840-4573-B2FE-ADFE1539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EE7-872D-4195-BE17-29465D85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E867-F70E-4035-883E-CC52FE8F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035B-BB5F-41BF-8A58-4A46145829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TYPE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Program Files\Common Files\Microsoft Shared\Clipart\themes1\Lines\BD21315_.GIF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58248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214280" y="838080"/>
            <a:ext cx="6858000" cy="15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+mn-lt"/>
              </a:rPr>
              <a:t>Аксютченко Жанна Владимировн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50" name="Line 7"/>
          <p:cNvSpPr/>
          <p:nvPr/>
        </p:nvSpPr>
        <p:spPr>
          <a:xfrm>
            <a:off x="1600200" y="2590920"/>
            <a:ext cx="632448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571680" y="3000240"/>
            <a:ext cx="781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Учитель матема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БОУ Краснополянской СОШ №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Рисунок 8" descr="C:\Users\7\Desktop\методическая капилка\разное\жанна.jpg"/>
          <p:cNvPicPr/>
          <p:nvPr/>
        </p:nvPicPr>
        <p:blipFill>
          <a:blip r:embed="rId2"/>
          <a:stretch/>
        </p:blipFill>
        <p:spPr>
          <a:xfrm>
            <a:off x="6643800" y="2714760"/>
            <a:ext cx="2500200" cy="38574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  <p:sndAc>
      <p:stSnd>
        <p:snd r:embed="rId3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ЗАПОМНИ 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86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66ff"/>
                </a:solidFill>
                <a:latin typeface="Times New Roman"/>
              </a:rPr>
              <a:t>Правая часть формулы - это конечный результат умножения двух двучлен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66ff"/>
                </a:solidFill>
                <a:latin typeface="Times New Roman"/>
              </a:rPr>
              <a:t>Необходимо запомнить эти формулы, чтобы каждый раз не делать промежуточных вычисл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Object 4" descr=""/>
          <p:cNvPicPr/>
          <p:nvPr/>
        </p:nvPicPr>
        <p:blipFill>
          <a:blip r:embed="rId1"/>
          <a:stretch/>
        </p:blipFill>
        <p:spPr>
          <a:xfrm>
            <a:off x="7467480" y="4419720"/>
            <a:ext cx="1316160" cy="21333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5"/>
          <p:cNvSpPr/>
          <p:nvPr/>
        </p:nvSpPr>
        <p:spPr>
          <a:xfrm>
            <a:off x="4876920" y="3886200"/>
            <a:ext cx="2361960" cy="213372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dissolve/>
    <p:sndAc>
      <p:stSnd>
        <p:snd r:embed="rId2" name="TYPE.WAV"/>
      </p:stSnd>
    </p:sndAc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3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800"/>
                            </p:stCondLst>
                            <p:childTnLst>
                              <p:par>
                                <p:cTn id="27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3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 запоминания формул и успешного их применения необходимо помнить их словесную формулировку.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( а  +  в )</a:t>
            </a:r>
            <a:r>
              <a:rPr b="1" lang="ru-RU" sz="40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 =  а</a:t>
            </a:r>
            <a:r>
              <a:rPr b="1" lang="ru-RU" sz="4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  + 2ав  +  в</a:t>
            </a:r>
            <a:r>
              <a:rPr b="1" lang="ru-RU" sz="4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baseline="30000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4000" spc="-1" strike="noStrike" baseline="30000">
                <a:solidFill>
                  <a:srgbClr val="ff3300"/>
                </a:solidFill>
                <a:latin typeface="Times New Roman"/>
              </a:rPr>
              <a:t>Квадрат суммы двух чисел равен :  квадрату первого числа,    удвоенному произведению первого числа на второе и квадрату второго числ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dissolve/>
    <p:sndAc>
      <p:stSnd>
        <p:snd r:embed="rId1" name="TYPE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86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3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86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91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3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( а  +  в )</a:t>
            </a:r>
            <a:r>
              <a:rPr b="1" lang="ru-RU" sz="44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 =  а</a:t>
            </a:r>
            <a:r>
              <a:rPr b="1" lang="ru-RU" sz="4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  + 2ав  +  в</a:t>
            </a:r>
            <a:r>
              <a:rPr b="1" lang="ru-RU" sz="4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baseline="30000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4000" spc="-1" strike="noStrike" baseline="30000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ru-RU" sz="5400" spc="-1" strike="noStrike" baseline="30000">
                <a:solidFill>
                  <a:srgbClr val="ff3300"/>
                </a:solidFill>
                <a:latin typeface="Times New Roman"/>
              </a:rPr>
              <a:t>ПОПРОБУЙТЕ     СКАЗА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baseline="30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5400" spc="-1" strike="noStrike" baseline="30000">
                <a:solidFill>
                  <a:srgbClr val="ff3300"/>
                </a:solidFill>
                <a:latin typeface="Times New Roman"/>
              </a:rPr>
              <a:t>САМИ 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5410080" y="4495680"/>
            <a:ext cx="1219320" cy="1371600"/>
          </a:xfrm>
          <a:prstGeom prst="smileyFace">
            <a:avLst>
              <a:gd name="adj" fmla="val -4652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Object 14" descr=""/>
          <p:cNvPicPr/>
          <p:nvPr/>
        </p:nvPicPr>
        <p:blipFill>
          <a:blip r:embed="rId1"/>
          <a:stretch/>
        </p:blipFill>
        <p:spPr>
          <a:xfrm>
            <a:off x="7162920" y="4800600"/>
            <a:ext cx="457200" cy="838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dissolve/>
    <p:sndAc>
      <p:stSnd>
        <p:snd r:embed="rId2" name="TYPE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8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5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7640" y="609480"/>
            <a:ext cx="7810560" cy="19814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алогична словесная формулировка формулы</a:t>
            </a:r>
            <a:br>
              <a:rPr sz="3200"/>
            </a:b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( а – в )</a:t>
            </a:r>
            <a:r>
              <a:rPr b="1" lang="ru-RU" sz="4800" spc="-1" strike="noStrike" baseline="30000">
                <a:solidFill>
                  <a:srgbClr val="ff3300"/>
                </a:solidFill>
                <a:latin typeface="Times New Roman"/>
              </a:rPr>
              <a:t>2 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= а</a:t>
            </a:r>
            <a:r>
              <a:rPr b="1" lang="ru-RU" sz="4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 – 2ав + в</a:t>
            </a:r>
            <a:r>
              <a:rPr b="1" lang="ru-RU" sz="4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ru-RU" sz="4400" spc="-1" strike="noStrike" baseline="30000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ВЕРЬ    СЕБЯ 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вадрат разности двух чисел равен квадрату первого числа минус удвоенное произведение первого числа на второе плюс квадрат второго чис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dissolve/>
    <p:sndAc>
      <p:stSnd>
        <p:snd r:embed="rId1" name="TYPE.WAV"/>
      </p:stSnd>
    </p:sndAc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800"/>
                            </p:stCondLst>
                            <p:childTnLst>
                              <p:par>
                                <p:cTn id="327" nodeType="afterEffect" fill="hold" presetClass="entr" presetID="16" presetSubtype="21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9" dur="3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700"/>
                            </p:stCondLst>
                            <p:childTnLst>
                              <p:par>
                                <p:cTn id="331" nodeType="afterEffect" fill="hold" presetClass="entr" presetID="16" presetSubtype="21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3" dur="3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cc"/>
                </a:solidFill>
                <a:latin typeface="Times New Roman"/>
              </a:rPr>
              <a:t>РАСКРЫТЬ СКОБКИ В ВЫРАЖЕНИИ</a:t>
            </a:r>
            <a:br>
              <a:rPr sz="3200"/>
            </a:br>
            <a:r>
              <a:rPr b="0" lang="ru-RU" sz="2400" spc="-1" strike="noStrike">
                <a:solidFill>
                  <a:srgbClr val="ff66cc"/>
                </a:solidFill>
                <a:latin typeface="Times New Roman"/>
              </a:rPr>
              <a:t>При выполнении упражнений желательно практиковать подробную зап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3733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  х  +  2  )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0600" y="2133720"/>
            <a:ext cx="365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РОВЕРЬ СЕБЯ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х</a:t>
            </a:r>
            <a:r>
              <a:rPr b="1" lang="ru-RU" sz="3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+ 2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•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х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•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2 + 2</a:t>
            </a:r>
            <a:r>
              <a:rPr b="1" lang="ru-RU" sz="3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= х</a:t>
            </a:r>
            <a:r>
              <a:rPr b="1" lang="ru-RU" sz="3600" spc="-1" strike="noStrike" baseline="30000">
                <a:solidFill>
                  <a:srgbClr val="ff3300"/>
                </a:solidFill>
                <a:latin typeface="Times New Roman"/>
              </a:rPr>
              <a:t>2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+ 4х +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5715000" y="5029200"/>
            <a:ext cx="1600200" cy="1461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  <p:sndAc>
      <p:stSnd>
        <p:snd r:embed="rId2" name="TYPE.WAV"/>
      </p:stSnd>
    </p:sndAc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14" presetSubtype="5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0" nodeType="afterEffect" fill="hold" presetClass="entr" presetID="14" presetSubtype="5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4" nodeType="afterEffect" fill="hold" presetClass="entr" presetID="14" presetSubtype="5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3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ЗАПОМНИ 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а и в  в формул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могут быть любы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числами   и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алгебраически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выражения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3605040" cy="3276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  <p:sndAc>
      <p:stSnd>
        <p:snd r:embed="rId2" name="TYPE.WAV"/>
      </p:stSnd>
    </p:sndAc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6000"/>
                            </p:stCondLst>
                            <p:childTnLst>
                              <p:par>
                                <p:cTn id="38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5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90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8000" spc="-1" strike="noStrike">
                <a:solidFill>
                  <a:srgbClr val="ff3300"/>
                </a:solidFill>
                <a:latin typeface="Times New Roman"/>
              </a:rPr>
              <a:t>(             +          )</a:t>
            </a:r>
            <a:r>
              <a:rPr b="1" lang="ru-RU" sz="80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ru-RU" sz="8000" spc="-1" strike="noStrike">
                <a:solidFill>
                  <a:srgbClr val="ff3300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Times New Roman"/>
              </a:rPr>
              <a:t>=         +2         +     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1282680" cy="1447920"/>
          </a:xfrm>
          <a:prstGeom prst="rect">
            <a:avLst/>
          </a:prstGeom>
          <a:ln w="0">
            <a:noFill/>
          </a:ln>
        </p:spPr>
      </p:pic>
      <p:sp>
        <p:nvSpPr>
          <p:cNvPr id="107" name="Tree"/>
          <p:cNvSpPr/>
          <p:nvPr/>
        </p:nvSpPr>
        <p:spPr>
          <a:xfrm>
            <a:off x="7848720" y="3505320"/>
            <a:ext cx="1295280" cy="13716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1752480" y="1143000"/>
            <a:ext cx="1282680" cy="1447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1905120" y="3581280"/>
            <a:ext cx="1282680" cy="1447920"/>
          </a:xfrm>
          <a:prstGeom prst="rect">
            <a:avLst/>
          </a:prstGeom>
          <a:ln w="0">
            <a:noFill/>
          </a:ln>
        </p:spPr>
      </p:pic>
      <p:sp>
        <p:nvSpPr>
          <p:cNvPr id="110" name="Tree"/>
          <p:cNvSpPr/>
          <p:nvPr/>
        </p:nvSpPr>
        <p:spPr>
          <a:xfrm>
            <a:off x="6934320" y="3581280"/>
            <a:ext cx="1295280" cy="13716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ree"/>
          <p:cNvSpPr/>
          <p:nvPr/>
        </p:nvSpPr>
        <p:spPr>
          <a:xfrm>
            <a:off x="5791320" y="1219320"/>
            <a:ext cx="1295280" cy="13716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4"/>
          <a:stretch/>
        </p:blipFill>
        <p:spPr>
          <a:xfrm>
            <a:off x="4343400" y="3581280"/>
            <a:ext cx="1282680" cy="1447920"/>
          </a:xfrm>
          <a:prstGeom prst="rect">
            <a:avLst/>
          </a:prstGeom>
          <a:ln w="0">
            <a:noFill/>
          </a:ln>
        </p:spPr>
      </p:pic>
      <p:sp>
        <p:nvSpPr>
          <p:cNvPr id="113" name="Tree"/>
          <p:cNvSpPr/>
          <p:nvPr/>
        </p:nvSpPr>
        <p:spPr>
          <a:xfrm>
            <a:off x="5334120" y="3657600"/>
            <a:ext cx="1295280" cy="13716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dissolve/>
    <p:sndAc>
      <p:stSnd>
        <p:snd r:embed="rId5" name="TYPE.WAV"/>
      </p:stSnd>
    </p:sndAc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50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РАСКРОЙТЕ  СКОБКИ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0" lang="ru-RU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971800" y="1676520"/>
            <a:ext cx="388620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 а + х )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 х + 1 )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 7 - а )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 -х + 1)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 2а + 1)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 8х + 3у)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 0,2х - 0,5а)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dissolve/>
    <p:sndAc>
      <p:stSnd>
        <p:snd r:embed="rId1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895480" y="838080"/>
            <a:ext cx="38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ОВЕРЬ    СЕБЯ 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09480" y="251460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( а + х )</a:t>
            </a:r>
            <a:r>
              <a:rPr b="1" lang="ru-RU" sz="6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=  а</a:t>
            </a:r>
            <a:r>
              <a:rPr b="1" lang="ru-RU" sz="6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+ 2ах + х</a:t>
            </a:r>
            <a:r>
              <a:rPr b="1" lang="ru-RU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dissolve/>
    <p:sndAc>
      <p:stSnd>
        <p:snd r:embed="rId1" name="TYPE.WAV"/>
      </p:stSnd>
    </p:sndAc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3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895480" y="838080"/>
            <a:ext cx="38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ОВЕРЬ    СЕБЯ 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09480" y="25146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( х + 1 )</a:t>
            </a:r>
            <a:r>
              <a:rPr b="1" lang="ru-RU" sz="6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=  х</a:t>
            </a:r>
            <a:r>
              <a:rPr b="1" lang="ru-RU" sz="6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+ 2х + 1</a:t>
            </a:r>
            <a:r>
              <a:rPr b="1" lang="ru-RU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=  х</a:t>
            </a:r>
            <a:r>
              <a:rPr b="1" lang="ru-RU" sz="6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+ 2х + 1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dissolve/>
    <p:sndAc>
      <p:stSnd>
        <p:snd r:embed="rId1" name="TYPE.WAV"/>
      </p:stSnd>
    </p:sndAc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762120" y="2819520"/>
            <a:ext cx="7543800" cy="22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ЕБРА 7 КЛАСС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5000">
    <p:dissolve/>
    <p:sndAc>
      <p:stSnd>
        <p:snd r:embed="rId1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895480" y="838080"/>
            <a:ext cx="38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ОВЕРЬ    СЕБЯ 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09480" y="251460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( 7 - а )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=  7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 2·7·а + а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=  49 - 14а + а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dissolve/>
    <p:sndAc>
      <p:stSnd>
        <p:snd r:embed="rId1" name="TYPE.WAV"/>
      </p:stSnd>
    </p:sndAc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2895480" y="838080"/>
            <a:ext cx="38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ОВЕРЬ    СЕБЯ 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09480" y="2514600"/>
            <a:ext cx="85345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 -х + 1 )</a:t>
            </a:r>
            <a:r>
              <a:rPr b="1" lang="ru-RU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 (-х)</a:t>
            </a:r>
            <a:r>
              <a:rPr b="1" lang="ru-RU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+ 2·(-х)·1 + 1</a:t>
            </a:r>
            <a:r>
              <a:rPr b="1" lang="ru-RU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- 2х + 1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dissolve/>
    <p:sndAc>
      <p:stSnd>
        <p:snd r:embed="rId1" name="TYPE.WAV"/>
      </p:stSnd>
    </p:sndAc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895480" y="838080"/>
            <a:ext cx="38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ОВЕРЬ    СЕБЯ 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09480" y="2514600"/>
            <a:ext cx="85345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( 2а + 1 )</a:t>
            </a:r>
            <a:r>
              <a:rPr b="1" lang="ru-RU" sz="4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= (2а)</a:t>
            </a:r>
            <a:r>
              <a:rPr b="1" lang="ru-RU" sz="4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+ 2·2а·1 +1</a:t>
            </a:r>
            <a:r>
              <a:rPr b="1" lang="ru-RU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= 4а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+ 4а + 1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dissolve/>
    <p:sndAc>
      <p:stSnd>
        <p:snd r:embed="rId1" name="TYPE.WAV"/>
      </p:stSnd>
    </p:sndAc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895480" y="838080"/>
            <a:ext cx="38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ОВЕРЬ    СЕБЯ 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09480" y="2514600"/>
            <a:ext cx="85345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( 8х + 3у )</a:t>
            </a:r>
            <a:r>
              <a:rPr b="1" lang="ru-RU" sz="4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=(8х)</a:t>
            </a:r>
            <a:r>
              <a:rPr b="1" lang="ru-RU" sz="4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+2·8х·3у+1</a:t>
            </a:r>
            <a:r>
              <a:rPr b="1" lang="ru-RU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= 64х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+ 48ху + 1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dissolve/>
    <p:sndAc>
      <p:stSnd>
        <p:snd r:embed="rId1" name="TYPE.WAV"/>
      </p:stSnd>
    </p:sndAc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895480" y="838080"/>
            <a:ext cx="38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ОВЕРЬ    СЕБЯ 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0" y="25146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( 0,2х - 0,5а )</a:t>
            </a:r>
            <a:r>
              <a:rPr b="1" lang="ru-RU" sz="6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=(0,2х)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·0,2х·0,5а+(0,5а)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=0,04х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0,2ха+0,25а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dissolve/>
    <p:sndAc>
      <p:stSnd>
        <p:snd r:embed="rId1" name="TYPE.WAV"/>
      </p:stSnd>
    </p:sndAc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КВАДРАТ СУМ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КВАДРАТ РАЗ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РАЗНОСТЬ КВАДРА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КУБ СУМ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КУБ РАЗ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7"/>
          <p:cNvSpPr txBox="1"/>
          <p:nvPr/>
        </p:nvSpPr>
        <p:spPr>
          <a:xfrm>
            <a:off x="838080" y="990720"/>
            <a:ext cx="784872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ОРМУЛЫ СОКРАЩЕННОГО УМНОЖ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6" name="Picture 9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257800" y="2286000"/>
            <a:ext cx="3200400" cy="3390840"/>
          </a:xfrm>
          <a:prstGeom prst="rect">
            <a:avLst/>
          </a:prstGeom>
          <a:ln w="0">
            <a:noFill/>
          </a:ln>
        </p:spPr>
      </p:pic>
      <p:cxnSp>
        <p:nvCxnSpPr>
          <p:cNvPr id="57" name="AutoShape 12"/>
          <p:cNvCxnSpPr/>
          <p:nvPr/>
        </p:nvCxnSpPr>
        <p:spPr>
          <a:xfrm>
            <a:off x="380880" y="533520"/>
            <a:ext cx="8382600" cy="21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8" name="AutoShape 13"/>
          <p:cNvCxnSpPr/>
          <p:nvPr/>
        </p:nvCxnSpPr>
        <p:spPr>
          <a:xfrm>
            <a:off x="8762760" y="533520"/>
            <a:ext cx="1080" cy="59443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9" name="AutoShape 17"/>
          <p:cNvCxnSpPr/>
          <p:nvPr/>
        </p:nvCxnSpPr>
        <p:spPr>
          <a:xfrm flipH="1">
            <a:off x="380880" y="6477120"/>
            <a:ext cx="8382600" cy="21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60" name="AutoShape 18"/>
          <p:cNvCxnSpPr/>
          <p:nvPr/>
        </p:nvCxnSpPr>
        <p:spPr>
          <a:xfrm flipV="1">
            <a:off x="380520" y="533160"/>
            <a:ext cx="1080" cy="5944320"/>
          </a:xfrm>
          <a:prstGeom prst="straightConnector1">
            <a:avLst/>
          </a:prstGeom>
          <a:ln w="0">
            <a:noFill/>
          </a:ln>
        </p:spPr>
      </p:cxnSp>
      <p:pic>
        <p:nvPicPr>
          <p:cNvPr id="61" name="звук.wav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  <p:sndAc>
      <p:stSnd>
        <p:snd r:embed="rId3" name="TYPE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3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3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3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СЕГОДНЯ   ИЗУЧАЕМ 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ВАДРАТ СУМ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ВАДРАТ РАЗ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Object 5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2940120" cy="2324160"/>
          </a:xfrm>
          <a:prstGeom prst="rect">
            <a:avLst/>
          </a:prstGeom>
          <a:ln w="0">
            <a:noFill/>
          </a:ln>
        </p:spPr>
      </p:pic>
      <p:pic>
        <p:nvPicPr>
          <p:cNvPr id="65" name="звук1.wav" descr=""/>
          <p:cNvPicPr/>
          <p:nvPr/>
        </p:nvPicPr>
        <p:blipFill>
          <a:blip r:embed="rId2"/>
          <a:stretch/>
        </p:blipFill>
        <p:spPr>
          <a:xfrm>
            <a:off x="7621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  <p:sndAc>
      <p:stSnd>
        <p:snd r:embed="rId3" name="TYPE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3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3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В РЕЗУЛЬТАТЕ ИЗУЧЕН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НАУЧИТЬСЯ ПРАКТИЧЕСКИ ПРИМЕНЯТЬ ФОРМУЛЫ КВАДРАТА СУММЫ И РАЗ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ОБРАТИТЬ ВНИМАНИЕ НА ЧТЕНИЕ ФОРМУЛ ПО ИХ СИМВОЛИЧЕСКОЙ ЗАПИС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ОБРАТИТЬ ВНИМАНИЕ НА НАХОЖДЕНИЕ КОМПОНЕНТОВ: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ВАДРАТА ДВУЧЛЕНА, КВАДРАТОВ ОДНОЧЛЕНОВ, УДВОЕННОГО ПРОИЗВЕДЕНИЯ ДВУХ ОДНОЧЛЕН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Object 4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1652760" cy="3200400"/>
          </a:xfrm>
          <a:prstGeom prst="rect">
            <a:avLst/>
          </a:prstGeom>
          <a:ln w="0">
            <a:noFill/>
          </a:ln>
        </p:spPr>
      </p:pic>
      <p:pic>
        <p:nvPicPr>
          <p:cNvPr id="69" name="звук2.wav" descr=""/>
          <p:cNvPicPr/>
          <p:nvPr/>
        </p:nvPicPr>
        <p:blipFill>
          <a:blip r:embed="rId2"/>
          <a:stretch/>
        </p:blipFill>
        <p:spPr>
          <a:xfrm>
            <a:off x="533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  <p:sndAc>
      <p:stSnd>
        <p:snd r:embed="rId3" name="TYPE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3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9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3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6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3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cc"/>
                </a:solidFill>
                <a:latin typeface="Times New Roman"/>
              </a:rPr>
              <a:t>ПОДГОТОВИТЕЛЬНЫЕ  УПРАЖНЕНИЯ</a:t>
            </a:r>
            <a:r>
              <a:rPr b="0" lang="ru-RU" sz="2400" spc="-1" strike="noStrike">
                <a:solidFill>
                  <a:srgbClr val="ff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Чему равен квадрат одночле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0,3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0,4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Найти удвоенное произведение одночлен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 и в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2а и в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а и 3в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Записат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умму (разность) одночленов 2а и 3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вадрат суммы (разности) одночленов X и 3Y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0" descr=""/>
          <p:cNvPicPr/>
          <p:nvPr/>
        </p:nvPicPr>
        <p:blipFill>
          <a:blip r:embed="rId1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dissolve/>
    <p:sndAc>
      <p:stSnd>
        <p:snd r:embed="rId2" name="TYPE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4096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96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996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496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996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496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996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496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7996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Times New Roman"/>
              </a:rPr>
              <a:t>ПРОЧИТАТЬ АЛГЕБРАИЧЕСКОЕ ВЫРА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898560" y="2206800"/>
            <a:ext cx="230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( а + 3 )</a:t>
            </a:r>
            <a:r>
              <a:rPr b="1" lang="ru-RU" sz="4000" spc="-1" strike="noStrike" baseline="30000">
                <a:solidFill>
                  <a:srgbClr val="ff0000"/>
                </a:solidFill>
                <a:latin typeface="Times New Roman"/>
              </a:rPr>
              <a:t>2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343400" y="2133720"/>
            <a:ext cx="44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Квадрат суммы а и 3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936720" y="2971800"/>
            <a:ext cx="190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( 4 - в )</a:t>
            </a:r>
            <a:r>
              <a:rPr b="1" lang="ru-RU" sz="4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4343400" y="29718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Квадрат разности 4 и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838080" y="38098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( а + в )</a:t>
            </a:r>
            <a:r>
              <a:rPr b="1" lang="ru-RU" sz="4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4343400" y="3733920"/>
            <a:ext cx="45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Квадрат суммы а и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914040" y="4721400"/>
            <a:ext cx="187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( а - в )</a:t>
            </a:r>
            <a:r>
              <a:rPr b="1" lang="ru-RU" sz="4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4343400" y="474336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Квадрат разности а и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dissolve/>
    <p:sndAc>
      <p:stSnd>
        <p:snd r:embed="rId1" name="TYPE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7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7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7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7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25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7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825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1275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625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7075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12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265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ВЫВОД           ФОРМУ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( а  +  в )</a:t>
            </a:r>
            <a:r>
              <a:rPr b="0" lang="ru-RU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( а  +  в ) ( а  +  в ) = аа + ав +   + ва + вв = 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ав + ав + 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+ 2ав + в</a:t>
            </a:r>
            <a:r>
              <a:rPr b="0" lang="ru-RU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( а  +  в )</a:t>
            </a:r>
            <a:r>
              <a:rPr b="1" lang="ru-RU" sz="4400" spc="-1" strike="noStrike" baseline="30000">
                <a:solidFill>
                  <a:srgbClr val="ff3300"/>
                </a:solidFill>
                <a:latin typeface="Times New Roman"/>
              </a:rPr>
              <a:t>2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=   а</a:t>
            </a:r>
            <a:r>
              <a:rPr b="1" lang="ru-RU" sz="4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  +  2ав  +  в</a:t>
            </a:r>
            <a:r>
              <a:rPr b="1" lang="ru-RU" sz="4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dissolve/>
    <p:sndAc>
      <p:stSnd>
        <p:snd r:embed="rId1" name="TYPE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3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1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3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Н А Л О Г И Ч Н 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ПРОБУЙТЕ  ВЫВЕСТИ САМ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ЕДУЮЩЮЮ ФОРМУЛ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(  а  -  в )</a:t>
            </a:r>
            <a:r>
              <a:rPr b="1" lang="ru-RU" sz="4400" spc="-1" strike="noStrike" baseline="30000">
                <a:solidFill>
                  <a:srgbClr val="ff3300"/>
                </a:solidFill>
                <a:latin typeface="Times New Roman"/>
              </a:rPr>
              <a:t>2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=   а</a:t>
            </a:r>
            <a:r>
              <a:rPr b="1" lang="ru-RU" sz="4400" spc="-1" strike="noStrike" baseline="30000">
                <a:solidFill>
                  <a:srgbClr val="ff3300"/>
                </a:solidFill>
                <a:latin typeface="Times New Roman"/>
              </a:rPr>
              <a:t>2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 -   2ав   +   в</a:t>
            </a:r>
            <a:r>
              <a:rPr b="1" lang="ru-RU" sz="4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ru-RU" sz="4000" spc="-1" strike="noStrike" baseline="30000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dissolve/>
    <p:sndAc>
      <p:stSnd>
        <p:snd r:embed="rId1" name="TYPE.WAV"/>
      </p:stSnd>
    </p:sndAc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75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</cp:lastModifiedBy>
  <dcterms:modified xsi:type="dcterms:W3CDTF">2013-10-13T09:21:06Z</dcterms:modified>
  <cp:revision>29</cp:revision>
  <dc:subject/>
  <dc:title>Презентация PowerPoint</dc:title>
</cp:coreProperties>
</file>