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575-169F-4A63-BB9A-CAFEA183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B2D-0BC4-4DDC-87BF-1E55D15E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26C-26CE-456B-8DA3-112B8C96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F85-1E62-4503-8D90-1F20CE5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BBA-A3CE-4370-9AD9-987BDB9B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8C5-6290-4ECB-94B4-4942EEAE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DFDA-EB45-400F-9754-D205696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7A4-7C06-4E11-B824-B2EF8C8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495D-9650-4EA8-8F29-8EABF84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1B9-3F7F-4D7A-95AD-9EC55894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B09-B286-40FB-A838-C10153C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E3D-38BF-4F3A-A295-EBCF675E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B79-8D1B-4A88-9771-0C06C9A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DAE-284F-428E-85FF-643991A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388-1381-4143-B07D-1A108146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B4D8-34D0-468E-AF55-94A273D4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C1E-B2E8-491E-B261-43EE3EBA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A2D7-06ED-4894-A950-8729DC6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8747-4C10-4D85-8A66-669F39C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4B2D-0638-4DB5-A621-01AFED0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DC2D-F434-42E5-87CF-FF046245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5E87-EBD2-4B79-8960-7F88294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3B0-59DD-426A-AD37-F60D816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CE81-7F9D-4031-A638-DDD0C2A6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FEA8-D24E-47AD-B7CF-2F499C7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0F0B-EF98-4EE6-99A5-1B736E6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0F51-9E5C-4F28-8CBE-764B977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E4E0-7EF1-4D09-BD46-28A4A89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F1B9-C89B-4319-AF6C-62834521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D344-1C2D-45D1-BAAD-EA80D1CC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9B03-E38A-4431-9B47-73F8D676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CD49-9BBB-4AC4-87DC-1A66287F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0DC5-0B2D-46A5-89DA-673C9205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AF8-A045-4879-AB21-2E5B000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DA4E-ED6E-4A19-8C58-347F162D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95FD-2100-43F4-B055-43B669C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0EEA-9FBB-4EB9-BA4E-D932019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9BA9-E2EF-4B30-A44B-D90B836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3199-6D06-4EC4-BF0A-31CC50E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1274-ED8D-46D1-B5D3-E872389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D134-0C72-4669-A990-1115168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3E10-730F-4A7B-8981-9B30D488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3193-86B3-40B7-9721-A086A8F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67C-608B-485E-B531-D6C96125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697-C83C-4452-86E3-FA883D7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E96-8261-45EB-85EE-47350CA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570-6D0A-4C2B-A9BC-F8B92C2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E8C-9C86-414B-A705-D3D7670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318-AD7D-4283-9D24-362A22FA0C4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9D9D-919A-47E2-B5D3-4C0BCAA0008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341C-DEF5-4835-BB5F-63451C8A8CA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3511-53B9-42F0-A626-AD96666B49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6" descr=""/>
          <p:cNvPicPr/>
          <p:nvPr/>
        </p:nvPicPr>
        <p:blipFill>
          <a:blip r:embed="rId1"/>
          <a:stretch/>
        </p:blipFill>
        <p:spPr>
          <a:xfrm>
            <a:off x="579600" y="1365120"/>
            <a:ext cx="8319960" cy="1627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432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полнил: ученик 11 класс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убочкин Ива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Александр Григорьевич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толетов (1839-1896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в городе Владимире, в купеческой семье. Окончил Московский  университ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66 года А.Г.Столетов - преподаватель Московского университета, а затем профессо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8 году Столетов создал лабораторию в Московском университете. Изобрёл фотометр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сследования Столетова посвящены проблемам электричества и магнетиз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кры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фотоэфф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л на возможность применения фотоэффекта для фотометрии,  изобрёл фотоэлемент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ил зависимость фототока от частоты падающего света, явление утомления фотокатода при продолжительном облучен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5916600" y="2438280"/>
            <a:ext cx="32274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Чаплыгин Сергей Алексеевич (1869 - 1942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571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лся в Рязанской губернии в г. Раненбурге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890 окончил физико-математический факультет Московского университета и по представлению Жуковского был оставлен там для подготовки к профессорскому званию. Чаплыгиным написаны университетский курс аналитической механики «Механика системы» и сокращенный "Преподавательский курс механики" для втузов и естественных факультетов университет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труды Чаплыгина, созданные под влиянием Жуковского, относятся к обла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дромехани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работе "О некоторых случаях движения твёрдого тела в жидкости" и в магистерской диссертации "О некоторых случаях движения твёрдого тела в жидкости" он дал геометрическую интерпретац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в движения твёрдых тел в жидкост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онце Московский университет докторскую диссертацию "О газовых струях", в которой был дан метод исследова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йных течений га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любых дозвуковых скоростях. для авиа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6259680" y="2514600"/>
            <a:ext cx="2655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Константин Эдуардович Циолковский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(1857-1935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10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Ижевск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расте девяти лет Костя Циолковский заболел скарлатиной и после осложнений оглох. Его особенно привлекали математика, физика и космос. В 16 лет Циолковский поехал в Москву, где три года изучал химию, математику, астрономию и механику. Общению с окружающим миром помогал специальный слуховой аппара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2 году Константин Циолковский был переведен учителем в Калугу. Там он также не забывал о науке, об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онавтике и аэронавт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луге Циолковский построил специальный туннель, который позволил бы измерять различные аэродинамическ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летательных аппара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году опубликовал Петербурге работу, в котор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еактивного дви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положен в основу создания межпланетных кораблей, и доказал, что единственный летательный аппарат, который может проникнуть за пределы земной атмосферы,- это раке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6456240" y="2286000"/>
            <a:ext cx="25052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кие  русские учёные физики  внесли большой вклад в развитие науки физики, тем самым прославили нашу стран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в России работают выдающиеся учёные, которые также делают великие открытия, значимые для всего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3520" y="51055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280" y="2286000"/>
          <a:ext cx="8839440" cy="1920960"/>
        </p:xfrm>
        <a:graphic>
          <a:graphicData uri="http://schemas.openxmlformats.org/drawingml/2006/table">
            <a:tbl>
              <a:tblPr/>
              <a:tblGrid>
                <a:gridCol w="641520"/>
                <a:gridCol w="730080"/>
                <a:gridCol w="766800"/>
                <a:gridCol w="784440"/>
                <a:gridCol w="963360"/>
                <a:gridCol w="762120"/>
                <a:gridCol w="762120"/>
                <a:gridCol w="990360"/>
                <a:gridCol w="812880"/>
                <a:gridCol w="739800"/>
                <a:gridCol w="8859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.И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фе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 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.И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хинцев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.И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ви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в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.Б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льдович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.Л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ца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Я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лов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С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пов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.С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ждест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ский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Г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ле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в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.А.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п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ыгин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.Э. Циолковский</a:t>
                      </a:r>
                      <a:endParaRPr b="0" i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оводники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минесценция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физика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 низких температур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динамика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ы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ффект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механика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ное движение 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Жорес Иванович Алферов 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(15 марта1930г)</a:t>
            </a:r>
            <a:r>
              <a:rPr b="1" lang="ru-RU" sz="4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6782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орес Иванович Алфе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одился в г. Витебс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52 году окончил факультет электроники Ленинградского электротехнического института им. В. И. Ульянова (Ленина). Кандидат технических наук (1961), доктор физико-математических наук (1970), профессор (ЛЭТИ) - с 1972 г.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1953 г. Жорес Иванович работает в Физико-техническом институте им. А. Ф. Иоффе РАН; с 1987 по настоящее время занимает в институте пост директо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1990 по 1991 г. - вице-президент АН СССР, председатель Президиума Ленинградского научного центра, с 1991 г. по настоящее время - вице-президент РАН, председатель Президиума Санкт-Петербургского научного центра РАН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орес Иванович Алферов - один из крупнейших российских ученых в области физики и техник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провод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высокие достижения Ж. И. Алферов был удостоен почетны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аний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йской Академии Наук, Гаванского университета (Куба, 1987); Франклиновского института (США, 1971); Польской АН (Польша, 1988); Национальной инженерной Академии (США, 1990); Национальной академии наук (США, 1990) и друг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11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Дмитрий Иванович Блохинцев (1908–1979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4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физик-теорети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29 декабря 1907 г. в Москве. Блохинцев внес весомый вклад в развитие целого ряда разделов физик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твердого тела он разработал квантовую теорию фосфоресценции твердых тел; в физик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ровод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л и объяснил эффект выпрямления электрического тока на границе двух полупроводников; в оптике развил теорию эффекта Штарка для случая сильного переменного по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334120" y="2054160"/>
            <a:ext cx="335268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авилов Сергей Иванович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(1891-195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15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йский физик, государственный и общественный деятель, один из основателей российской научной школы физической оптики и основоположник исследований люминесценции и нелинейной оптики в СССР родился в Москв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14 г. окончил с отличием физико-математический факультет Московского университе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енно крупный вклад С.И. Вавилов внёс в изучени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минесценции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ительного свечения некоторых веществ, предварительно освещённых свет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учение Вавилова–Черенкова было обнаружено в 1934 году аспирантом Вавилова — П. А. Черенковым при выполнении экспериментов по исследованию люминесценции люминесцирующих растворов под действием гамма-лучей ради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25146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ельдович Яков Борисович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(1914–1987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ий физик, физико-химик и астрофизик.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февраля 1948 по октябрь 1965 занимался оборонной тематикой, работая над создание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омной и водородной бом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связи с чем удостоен был Ленинской премии и трижды – звания Героя Социалистического Труда ССС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1965 профессор физического факультета МГУ, заведующий отделом релятивистской астрофизики Государственного астрономического института им. П.К.Штернберга (ГАИШ МГУ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58 академиком. Награжден золотой медалью им. И.В.Курчатова за предсказания свойств ультрахолодных нейтронов и их обнаружение и исследование (197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оретичес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строфизикой и космолог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нимался с начала 1960-х годов. Разработал теорию строения сверхмассивных звезд и теорию компактных звездных систем;. Детально изучи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ойства черных ды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роцессы, протекающие в их окрестностях.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7" descr="zeldovich"/>
          <p:cNvPicPr/>
          <p:nvPr/>
        </p:nvPicPr>
        <p:blipFill>
          <a:blip r:embed="rId1"/>
          <a:stretch/>
        </p:blipFill>
        <p:spPr>
          <a:xfrm>
            <a:off x="6858000" y="2438280"/>
            <a:ext cx="2286000" cy="23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етр Леонидович Капица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(1894-1984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физик родился в Кронштадт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гимназии в Кронштадте  поступил на факультет инженеров-электриков Петербургского политехнического института, который окончил в 1918 г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никального оборудования для измер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х эфф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анных с влиянием сильных магнитных полей на свойства вещества привело К. к изучению проблем физики низких температ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ой его творчества в этой области явилось создание в 1934 г. необычайно производительной установки для сжижения гелия, который кипит или сжижается при температуре около 4,3К. Он проектирова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и для сжижения других газ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8 г. К. усовершенствовал небольшую турбину, очень эффективно сжижавшую воздух.  К. назвал открытое им новое явл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текучесть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был удостое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белевской прем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физике в 1978 г. «за фундаментальные изобретения и открытия в области физики низких температур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kapitsa"/>
          <p:cNvPicPr/>
          <p:nvPr/>
        </p:nvPicPr>
        <p:blipFill>
          <a:blip r:embed="rId1"/>
          <a:stretch/>
        </p:blipFill>
        <p:spPr>
          <a:xfrm>
            <a:off x="6629400" y="1981080"/>
            <a:ext cx="2351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рлов Александр Яковлевич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(1880-1954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лен-корреспондент АН СССР (1927), действительный член АН УССР (1939), заслуженный деятель науки УССР (1951) Александр Яковлевич Орлов был авторитетнейшим специалистом в области изучения колебаний широты и движения полюсов Земли, одним из создател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одинами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уки, которая изучает Землю как сложную физическую систему, находящуюся под воздействием внешних си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Я.Орлов также был выдающимся гравиметристом, разработавшим новые методы гравиметрии и создавшим гравиметрические карты Украины, Европейской части России, Сибири и Алтая и связавший их в единую се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30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пов Александр Степанович (1859-190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родился в заводском поселке Туринские Рудники на Урал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изобретателе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 ради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ства увлекся техникой, строил самодельные насосы, водяные мельницы, причем старался придумать что-нибудь ново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Попов был профессором физики и директором Петербургского электротехнического институт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78604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ождественский Дмитрий  Сергеевич (1876-194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организаторов оптической промышленности в нашей стран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Петербурге. Окончил  Петербургский университет с отличие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ри года стал преподавателем этого университет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9  году организовал физическое отдел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л одну из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  атом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л и усовершенствовал тео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ко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азал на важную роль интерферен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304956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</cp:lastModifiedBy>
  <dcterms:modified xsi:type="dcterms:W3CDTF">2013-10-15T05:18:5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70000000000010250300207f7000400038000</vt:lpwstr>
  </property>
  <property fmtid="{D5CDD505-2E9C-101B-9397-08002B2CF9AE}" pid="3" name="Version">
    <vt:r8>1</vt:r8>
  </property>
</Properties>
</file>