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2ACD-F228-492B-B63A-4643EE26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менилось? Верхний ряд - поменялись местами перец и огурец, нижний ряд – капуста и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371-49E9-412D-930F-8260659E0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менилось? Обмен между рядами: кукуруза с луком поменялись числами, помидор и све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4D56-BC88-4012-BB40-EF3173BB4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менилось? Поменялись местами морковка с кукурузой и баклажан с картоф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BC5D-73AE-4A01-BE3E-0AC3F91B2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25A-DDCF-4584-87AC-55086F4A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7120" y="396648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CE4-A3C3-4B3D-B56E-B6DD3791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BB9-45D1-451A-984C-56C14D3A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736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712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736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FC5-B140-436D-8492-8418941B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7850-6335-454D-905F-6B8CF75F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5465-6BDC-4674-B628-5ACC1CD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91BC-FB3C-4EE7-91C0-A34A2BE3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AF3-D467-4C34-858C-51EC0A49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8F3-D5FB-446F-9197-6CC85E52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344A-6912-477D-A00E-47B7997A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DEA-13ED-462E-A79C-74633AD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B52-947D-43E4-8D4F-2C3A35B4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08F9-8AA5-4248-8FDF-E194AEE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C24B-98E2-4555-A353-3B6B187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7120" y="396648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1E77-158A-45F4-A6DC-0F65BE99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CA21-E9A3-40F5-8CF6-98404D04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724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736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712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724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736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CB66-2AF9-412C-95A8-FDB222F3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050-2408-4C14-8372-F99715B9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7EE-1647-4A2E-8692-45E84431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12E-7BED-4488-A9BD-64850CFB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D51-CC8A-42E0-B4A4-45179C86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EF5-D2F7-4536-AB37-21FFB64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D59-3533-4122-B5FB-33D4B656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682-6829-4D92-A953-4D49210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7963-2D47-454F-B840-487D9A3972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CFD7-A727-44A0-A013-307C28AA99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s016.radikal.ru/i335/1010/9d/8166af6eb4b0.png" TargetMode="External"/><Relationship Id="rId3" Type="http://schemas.openxmlformats.org/officeDocument/2006/relationships/hyperlink" Target="http://i024.radikal.ru/0801/7f/178f950fd202.png" TargetMode="External"/><Relationship Id="rId4" Type="http://schemas.openxmlformats.org/officeDocument/2006/relationships/hyperlink" Target="http://www.ljplus.ru/img/s/t/stalic/_Morkovka-malenkij.jpg" TargetMode="External"/><Relationship Id="rId5" Type="http://schemas.openxmlformats.org/officeDocument/2006/relationships/hyperlink" Target="http://s60.radikal.ru/i169/0811/d6/f8a6cd6d1dc8.png" TargetMode="External"/><Relationship Id="rId6" Type="http://schemas.openxmlformats.org/officeDocument/2006/relationships/hyperlink" Target="http://i067.radikal.ru/0811/fd/c633b8812809.png" TargetMode="External"/><Relationship Id="rId7" Type="http://schemas.openxmlformats.org/officeDocument/2006/relationships/hyperlink" Target="http://s013.radikal.ru/i324/1010/a7/90a346353983.png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3" descr=""/>
          <p:cNvPicPr/>
          <p:nvPr/>
        </p:nvPicPr>
        <p:blipFill>
          <a:blip r:embed="rId1"/>
          <a:stretch/>
        </p:blipFill>
        <p:spPr>
          <a:xfrm>
            <a:off x="1073160" y="1847880"/>
            <a:ext cx="6643800" cy="1560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5640" y="3500280"/>
            <a:ext cx="55450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Урок математики,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ыряева Вера Александ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ООШ №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8229600" cy="1493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000" y="1268280"/>
            <a:ext cx="8567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се числа от 1 до 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число «соответствует» кукурузе (капусте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ин у доски, остальные – веером могут показыва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звать овощи чётных (нечётных) чисе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им числам соответствуют овощи зелёного цвет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звать все овощи в порядке возрастания «их» чис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рковь, помидор, огурец, перец, свекла, кукуруза, баклажан, капуста, лук, картофел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звать все овощи в порядке убывания «их»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им числам соответствуют овощи круглой (овальной) фор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Что изменилось – 1 вариант? (слайды 4-6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менилось – 2 вариант? (слайды 7-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94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95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98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101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104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107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110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113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116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119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122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Picture 33" descr=""/>
          <p:cNvPicPr/>
          <p:nvPr/>
        </p:nvPicPr>
        <p:blipFill>
          <a:blip r:embed="rId2"/>
          <a:stretch/>
        </p:blipFill>
        <p:spPr>
          <a:xfrm rot="20895000">
            <a:off x="7729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4" descr=""/>
          <p:cNvPicPr/>
          <p:nvPr/>
        </p:nvPicPr>
        <p:blipFill>
          <a:blip r:embed="rId3"/>
          <a:stretch/>
        </p:blipFill>
        <p:spPr>
          <a:xfrm>
            <a:off x="2481120" y="134136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0" descr=""/>
          <p:cNvPicPr/>
          <p:nvPr/>
        </p:nvPicPr>
        <p:blipFill>
          <a:blip r:embed="rId8"/>
          <a:stretch/>
        </p:blipFill>
        <p:spPr>
          <a:xfrm rot="21447000">
            <a:off x="985320" y="4272120"/>
            <a:ext cx="70200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3" descr=""/>
          <p:cNvPicPr/>
          <p:nvPr/>
        </p:nvPicPr>
        <p:blipFill>
          <a:blip r:embed="rId10"/>
          <a:stretch/>
        </p:blipFill>
        <p:spPr>
          <a:xfrm>
            <a:off x="4151160" y="4272120"/>
            <a:ext cx="827280" cy="110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2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1683000"/>
          </a:xfrm>
          <a:prstGeom prst="rect">
            <a:avLst/>
          </a:prstGeom>
          <a:ln w="0">
            <a:noFill/>
          </a:ln>
        </p:spPr>
      </p:pic>
      <p:grpSp>
        <p:nvGrpSpPr>
          <p:cNvPr id="135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136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139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142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145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148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151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154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157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160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163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Picture 33" descr=""/>
          <p:cNvPicPr/>
          <p:nvPr/>
        </p:nvPicPr>
        <p:blipFill>
          <a:blip r:embed="rId2"/>
          <a:stretch/>
        </p:blipFill>
        <p:spPr>
          <a:xfrm rot="20895000">
            <a:off x="57211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4" descr=""/>
          <p:cNvPicPr/>
          <p:nvPr/>
        </p:nvPicPr>
        <p:blipFill>
          <a:blip r:embed="rId3"/>
          <a:stretch/>
        </p:blipFill>
        <p:spPr>
          <a:xfrm>
            <a:off x="2481120" y="134136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7" descr=""/>
          <p:cNvPicPr/>
          <p:nvPr/>
        </p:nvPicPr>
        <p:blipFill>
          <a:blip r:embed="rId5"/>
          <a:stretch/>
        </p:blipFill>
        <p:spPr>
          <a:xfrm>
            <a:off x="838080" y="148752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8" descr=""/>
          <p:cNvPicPr/>
          <p:nvPr/>
        </p:nvPicPr>
        <p:blipFill>
          <a:blip r:embed="rId6"/>
          <a:stretch/>
        </p:blipFill>
        <p:spPr>
          <a:xfrm>
            <a:off x="3767040" y="3863880"/>
            <a:ext cx="1505160" cy="147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0" descr=""/>
          <p:cNvPicPr/>
          <p:nvPr/>
        </p:nvPicPr>
        <p:blipFill>
          <a:blip r:embed="rId8"/>
          <a:stretch/>
        </p:blipFill>
        <p:spPr>
          <a:xfrm>
            <a:off x="1060560" y="4286160"/>
            <a:ext cx="70164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"/>
          <p:cNvPicPr/>
          <p:nvPr/>
        </p:nvPicPr>
        <p:blipFill>
          <a:blip r:embed="rId10"/>
          <a:stretch/>
        </p:blipFill>
        <p:spPr>
          <a:xfrm>
            <a:off x="2500200" y="4251240"/>
            <a:ext cx="827280" cy="1101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76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177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180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183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186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189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192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195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198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201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204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33" descr=""/>
          <p:cNvPicPr/>
          <p:nvPr/>
        </p:nvPicPr>
        <p:blipFill>
          <a:blip r:embed="rId2"/>
          <a:stretch/>
        </p:blipFill>
        <p:spPr>
          <a:xfrm rot="20895000">
            <a:off x="7729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4" descr=""/>
          <p:cNvPicPr/>
          <p:nvPr/>
        </p:nvPicPr>
        <p:blipFill>
          <a:blip r:embed="rId3"/>
          <a:stretch/>
        </p:blipFill>
        <p:spPr>
          <a:xfrm>
            <a:off x="2481120" y="134136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0" descr=""/>
          <p:cNvPicPr/>
          <p:nvPr/>
        </p:nvPicPr>
        <p:blipFill>
          <a:blip r:embed="rId8"/>
          <a:stretch/>
        </p:blipFill>
        <p:spPr>
          <a:xfrm rot="21447000">
            <a:off x="985320" y="4272120"/>
            <a:ext cx="702000" cy="1066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3" descr=""/>
          <p:cNvPicPr/>
          <p:nvPr/>
        </p:nvPicPr>
        <p:blipFill>
          <a:blip r:embed="rId10"/>
          <a:stretch/>
        </p:blipFill>
        <p:spPr>
          <a:xfrm>
            <a:off x="4151160" y="4272120"/>
            <a:ext cx="827280" cy="110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1683000"/>
          </a:xfrm>
          <a:prstGeom prst="rect">
            <a:avLst/>
          </a:prstGeom>
          <a:ln w="0">
            <a:noFill/>
          </a:ln>
        </p:spPr>
      </p:pic>
      <p:grpSp>
        <p:nvGrpSpPr>
          <p:cNvPr id="217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218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221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224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227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230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233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236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239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242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245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7" name="Picture 33" descr=""/>
          <p:cNvPicPr/>
          <p:nvPr/>
        </p:nvPicPr>
        <p:blipFill>
          <a:blip r:embed="rId2"/>
          <a:stretch/>
        </p:blipFill>
        <p:spPr>
          <a:xfrm rot="20895000">
            <a:off x="7729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4" descr=""/>
          <p:cNvPicPr/>
          <p:nvPr/>
        </p:nvPicPr>
        <p:blipFill>
          <a:blip r:embed="rId3"/>
          <a:stretch/>
        </p:blipFill>
        <p:spPr>
          <a:xfrm>
            <a:off x="833400" y="409104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9" descr=""/>
          <p:cNvPicPr/>
          <p:nvPr/>
        </p:nvPicPr>
        <p:blipFill>
          <a:blip r:embed="rId7"/>
          <a:stretch/>
        </p:blipFill>
        <p:spPr>
          <a:xfrm>
            <a:off x="5837400" y="4427640"/>
            <a:ext cx="807840" cy="788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0" descr=""/>
          <p:cNvPicPr/>
          <p:nvPr/>
        </p:nvPicPr>
        <p:blipFill>
          <a:blip r:embed="rId8"/>
          <a:stretch/>
        </p:blipFill>
        <p:spPr>
          <a:xfrm>
            <a:off x="2573280" y="1608120"/>
            <a:ext cx="701640" cy="1066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3" descr=""/>
          <p:cNvPicPr/>
          <p:nvPr/>
        </p:nvPicPr>
        <p:blipFill>
          <a:blip r:embed="rId10"/>
          <a:stretch/>
        </p:blipFill>
        <p:spPr>
          <a:xfrm>
            <a:off x="4151160" y="4272120"/>
            <a:ext cx="827280" cy="1101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7319520" y="1593360"/>
            <a:ext cx="9622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258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259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262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265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268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271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274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277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280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283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286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8" name="Picture 33" descr=""/>
          <p:cNvPicPr/>
          <p:nvPr/>
        </p:nvPicPr>
        <p:blipFill>
          <a:blip r:embed="rId2"/>
          <a:stretch/>
        </p:blipFill>
        <p:spPr>
          <a:xfrm rot="20895000">
            <a:off x="7729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4" descr=""/>
          <p:cNvPicPr/>
          <p:nvPr/>
        </p:nvPicPr>
        <p:blipFill>
          <a:blip r:embed="rId3"/>
          <a:stretch/>
        </p:blipFill>
        <p:spPr>
          <a:xfrm>
            <a:off x="2481120" y="134136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0" descr=""/>
          <p:cNvPicPr/>
          <p:nvPr/>
        </p:nvPicPr>
        <p:blipFill>
          <a:blip r:embed="rId8"/>
          <a:stretch/>
        </p:blipFill>
        <p:spPr>
          <a:xfrm rot="21447000">
            <a:off x="985320" y="4272120"/>
            <a:ext cx="702000" cy="1066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3" descr=""/>
          <p:cNvPicPr/>
          <p:nvPr/>
        </p:nvPicPr>
        <p:blipFill>
          <a:blip r:embed="rId10"/>
          <a:stretch/>
        </p:blipFill>
        <p:spPr>
          <a:xfrm>
            <a:off x="4151160" y="4272120"/>
            <a:ext cx="827280" cy="1101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2" descr=""/>
          <p:cNvPicPr/>
          <p:nvPr/>
        </p:nvPicPr>
        <p:blipFill>
          <a:blip r:embed="rId1"/>
          <a:stretch/>
        </p:blipFill>
        <p:spPr>
          <a:xfrm>
            <a:off x="669960" y="66600"/>
            <a:ext cx="8229600" cy="1586160"/>
          </a:xfrm>
          <a:prstGeom prst="rect">
            <a:avLst/>
          </a:prstGeom>
          <a:ln w="0">
            <a:noFill/>
          </a:ln>
        </p:spPr>
      </p:pic>
      <p:grpSp>
        <p:nvGrpSpPr>
          <p:cNvPr id="299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300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303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306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309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Группа 1"/>
          <p:cNvGrpSpPr/>
          <p:nvPr/>
        </p:nvGrpSpPr>
        <p:grpSpPr>
          <a:xfrm>
            <a:off x="719280" y="1675440"/>
            <a:ext cx="1321920" cy="2113920"/>
            <a:chOff x="719280" y="1675440"/>
            <a:chExt cx="1321920" cy="2113920"/>
          </a:xfrm>
        </p:grpSpPr>
        <p:grpSp>
          <p:nvGrpSpPr>
            <p:cNvPr id="312" name="Группа 1"/>
            <p:cNvGrpSpPr/>
            <p:nvPr/>
          </p:nvGrpSpPr>
          <p:grpSpPr>
            <a:xfrm>
              <a:off x="930240" y="2718000"/>
              <a:ext cx="642960" cy="1071360"/>
              <a:chOff x="930240" y="2718000"/>
              <a:chExt cx="642960" cy="1071360"/>
            </a:xfrm>
          </p:grpSpPr>
          <p:sp>
            <p:nvSpPr>
              <p:cNvPr id="313" name="Прямоугольник 16"/>
              <p:cNvSpPr/>
              <p:nvPr/>
            </p:nvSpPr>
            <p:spPr>
              <a:xfrm>
                <a:off x="930240" y="2718000"/>
                <a:ext cx="642960" cy="1071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TextBox 23"/>
              <p:cNvSpPr/>
              <p:nvPr/>
            </p:nvSpPr>
            <p:spPr>
              <a:xfrm>
                <a:off x="982440" y="2868480"/>
                <a:ext cx="500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5" name="Picture 33" descr=""/>
            <p:cNvPicPr/>
            <p:nvPr/>
          </p:nvPicPr>
          <p:blipFill>
            <a:blip r:embed="rId2"/>
            <a:stretch/>
          </p:blipFill>
          <p:spPr>
            <a:xfrm rot="20895000">
              <a:off x="772920" y="1792080"/>
              <a:ext cx="1214280" cy="65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Группа 2"/>
          <p:cNvGrpSpPr/>
          <p:nvPr/>
        </p:nvGrpSpPr>
        <p:grpSpPr>
          <a:xfrm>
            <a:off x="4076640" y="1297080"/>
            <a:ext cx="887400" cy="2492280"/>
            <a:chOff x="4076640" y="1297080"/>
            <a:chExt cx="887400" cy="2492280"/>
          </a:xfrm>
        </p:grpSpPr>
        <p:grpSp>
          <p:nvGrpSpPr>
            <p:cNvPr id="317" name="Группа 2"/>
            <p:cNvGrpSpPr/>
            <p:nvPr/>
          </p:nvGrpSpPr>
          <p:grpSpPr>
            <a:xfrm>
              <a:off x="4189320" y="2718000"/>
              <a:ext cx="642960" cy="1071360"/>
              <a:chOff x="4189320" y="2718000"/>
              <a:chExt cx="642960" cy="1071360"/>
            </a:xfrm>
          </p:grpSpPr>
          <p:sp>
            <p:nvSpPr>
              <p:cNvPr id="318" name="Прямоугольник 17"/>
              <p:cNvSpPr/>
              <p:nvPr/>
            </p:nvSpPr>
            <p:spPr>
              <a:xfrm>
                <a:off x="4189320" y="2718000"/>
                <a:ext cx="642960" cy="1071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TextBox 25"/>
              <p:cNvSpPr/>
              <p:nvPr/>
            </p:nvSpPr>
            <p:spPr>
              <a:xfrm>
                <a:off x="4224240" y="2843280"/>
                <a:ext cx="571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0" name="Picture 34" descr=""/>
            <p:cNvPicPr/>
            <p:nvPr/>
          </p:nvPicPr>
          <p:blipFill>
            <a:blip r:embed="rId3"/>
            <a:stretch/>
          </p:blipFill>
          <p:spPr>
            <a:xfrm>
              <a:off x="4076640" y="1297080"/>
              <a:ext cx="88740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Группа 3"/>
          <p:cNvGrpSpPr/>
          <p:nvPr/>
        </p:nvGrpSpPr>
        <p:grpSpPr>
          <a:xfrm>
            <a:off x="2297160" y="1598760"/>
            <a:ext cx="1257120" cy="2141280"/>
            <a:chOff x="2297160" y="1598760"/>
            <a:chExt cx="1257120" cy="2141280"/>
          </a:xfrm>
        </p:grpSpPr>
        <p:grpSp>
          <p:nvGrpSpPr>
            <p:cNvPr id="322" name="Группа 3"/>
            <p:cNvGrpSpPr/>
            <p:nvPr/>
          </p:nvGrpSpPr>
          <p:grpSpPr>
            <a:xfrm>
              <a:off x="2597040" y="2668680"/>
              <a:ext cx="641160" cy="1071360"/>
              <a:chOff x="2597040" y="2668680"/>
              <a:chExt cx="641160" cy="1071360"/>
            </a:xfrm>
          </p:grpSpPr>
          <p:sp>
            <p:nvSpPr>
              <p:cNvPr id="323" name="Прямоугольник 15"/>
              <p:cNvSpPr/>
              <p:nvPr/>
            </p:nvSpPr>
            <p:spPr>
              <a:xfrm>
                <a:off x="2597040" y="2668680"/>
                <a:ext cx="641160" cy="1071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TextBox 28"/>
              <p:cNvSpPr/>
              <p:nvPr/>
            </p:nvSpPr>
            <p:spPr>
              <a:xfrm>
                <a:off x="2668320" y="2844720"/>
                <a:ext cx="498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5" name="Picture 36" descr=""/>
            <p:cNvPicPr/>
            <p:nvPr/>
          </p:nvPicPr>
          <p:blipFill>
            <a:blip r:embed="rId4"/>
            <a:stretch/>
          </p:blipFill>
          <p:spPr>
            <a:xfrm>
              <a:off x="2297160" y="1598760"/>
              <a:ext cx="1257120" cy="85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grpSp>
        <p:nvGrpSpPr>
          <p:cNvPr id="329" name="Группа 4"/>
          <p:cNvGrpSpPr/>
          <p:nvPr/>
        </p:nvGrpSpPr>
        <p:grpSpPr>
          <a:xfrm>
            <a:off x="962280" y="4257000"/>
            <a:ext cx="748800" cy="2301120"/>
            <a:chOff x="962280" y="4257000"/>
            <a:chExt cx="748800" cy="2301120"/>
          </a:xfrm>
        </p:grpSpPr>
        <p:grpSp>
          <p:nvGrpSpPr>
            <p:cNvPr id="330" name="Группа 1"/>
            <p:cNvGrpSpPr/>
            <p:nvPr/>
          </p:nvGrpSpPr>
          <p:grpSpPr>
            <a:xfrm>
              <a:off x="1026720" y="5486400"/>
              <a:ext cx="645120" cy="1071720"/>
              <a:chOff x="1026720" y="5486400"/>
              <a:chExt cx="645120" cy="1071720"/>
            </a:xfrm>
          </p:grpSpPr>
          <p:sp>
            <p:nvSpPr>
              <p:cNvPr id="331" name="Прямоугольник 11"/>
              <p:cNvSpPr/>
              <p:nvPr/>
            </p:nvSpPr>
            <p:spPr>
              <a:xfrm>
                <a:off x="1026720" y="5486400"/>
                <a:ext cx="645120" cy="107172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TextBox 33"/>
              <p:cNvSpPr/>
              <p:nvPr/>
            </p:nvSpPr>
            <p:spPr>
              <a:xfrm>
                <a:off x="1098000" y="5700600"/>
                <a:ext cx="50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33" name="Picture 40" descr=""/>
            <p:cNvPicPr/>
            <p:nvPr/>
          </p:nvPicPr>
          <p:blipFill>
            <a:blip r:embed="rId8"/>
            <a:stretch/>
          </p:blipFill>
          <p:spPr>
            <a:xfrm rot="21447000">
              <a:off x="985320" y="4272120"/>
              <a:ext cx="702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Группа 6"/>
          <p:cNvGrpSpPr/>
          <p:nvPr/>
        </p:nvGrpSpPr>
        <p:grpSpPr>
          <a:xfrm>
            <a:off x="3988080" y="4025880"/>
            <a:ext cx="1269720" cy="2519280"/>
            <a:chOff x="3988080" y="4025880"/>
            <a:chExt cx="1269720" cy="2519280"/>
          </a:xfrm>
        </p:grpSpPr>
        <p:grpSp>
          <p:nvGrpSpPr>
            <p:cNvPr id="335" name="Группа 5"/>
            <p:cNvGrpSpPr/>
            <p:nvPr/>
          </p:nvGrpSpPr>
          <p:grpSpPr>
            <a:xfrm>
              <a:off x="4317840" y="5473800"/>
              <a:ext cx="939960" cy="1071360"/>
              <a:chOff x="4317840" y="5473800"/>
              <a:chExt cx="939960" cy="1071360"/>
            </a:xfrm>
          </p:grpSpPr>
          <p:sp>
            <p:nvSpPr>
              <p:cNvPr id="336" name="Прямоугольник 8"/>
              <p:cNvSpPr/>
              <p:nvPr/>
            </p:nvSpPr>
            <p:spPr>
              <a:xfrm>
                <a:off x="4317840" y="5473800"/>
                <a:ext cx="642960" cy="1071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TextBox 29"/>
              <p:cNvSpPr/>
              <p:nvPr/>
            </p:nvSpPr>
            <p:spPr>
              <a:xfrm>
                <a:off x="4400280" y="5683320"/>
                <a:ext cx="857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38" name="Picture 42" descr=""/>
            <p:cNvPicPr/>
            <p:nvPr/>
          </p:nvPicPr>
          <p:blipFill>
            <a:blip r:embed="rId9"/>
            <a:stretch/>
          </p:blipFill>
          <p:spPr>
            <a:xfrm rot="20918400">
              <a:off x="4103640" y="4113360"/>
              <a:ext cx="1016280" cy="127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Группа 5"/>
          <p:cNvGrpSpPr/>
          <p:nvPr/>
        </p:nvGrpSpPr>
        <p:grpSpPr>
          <a:xfrm>
            <a:off x="7483320" y="4392720"/>
            <a:ext cx="743040" cy="2152440"/>
            <a:chOff x="7483320" y="4392720"/>
            <a:chExt cx="743040" cy="2152440"/>
          </a:xfrm>
        </p:grpSpPr>
        <p:grpSp>
          <p:nvGrpSpPr>
            <p:cNvPr id="340" name="Группа 3"/>
            <p:cNvGrpSpPr/>
            <p:nvPr/>
          </p:nvGrpSpPr>
          <p:grpSpPr>
            <a:xfrm>
              <a:off x="7483320" y="5473440"/>
              <a:ext cx="743040" cy="1071720"/>
              <a:chOff x="7483320" y="5473440"/>
              <a:chExt cx="743040" cy="1071720"/>
            </a:xfrm>
          </p:grpSpPr>
          <p:sp>
            <p:nvSpPr>
              <p:cNvPr id="341" name="Прямоугольник 10"/>
              <p:cNvSpPr/>
              <p:nvPr/>
            </p:nvSpPr>
            <p:spPr>
              <a:xfrm>
                <a:off x="7569000" y="5473440"/>
                <a:ext cx="624240" cy="107172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TextBox 31"/>
              <p:cNvSpPr/>
              <p:nvPr/>
            </p:nvSpPr>
            <p:spPr>
              <a:xfrm>
                <a:off x="7483320" y="5694120"/>
                <a:ext cx="743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3" name="Picture 43" descr=""/>
            <p:cNvPicPr/>
            <p:nvPr/>
          </p:nvPicPr>
          <p:blipFill>
            <a:blip r:embed="rId10"/>
            <a:stretch/>
          </p:blipFill>
          <p:spPr>
            <a:xfrm>
              <a:off x="7486200" y="4392720"/>
              <a:ext cx="740160" cy="9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4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47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323640" y="1484280"/>
            <a:ext cx="8429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016.radikal.ru/i335/1010/9d/8166af6eb4b0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руза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i024.radikal.ru/0801/7f/178f950fd202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ljplus.ru/img/s/t/stalic/_Morkovka-malenkij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s60.radikal.ru/i169/0811/d6/f8a6cd6d1dc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067.radikal.ru/0811/fd/c633b8812809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s013.radikal.ru/i324/1010/a7/90a346353983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51.radikal.ru/i132/0811/63/31518d0539da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фел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053.radikal.ru/1010/38/83dc13297a94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/s/svekl/svekla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лажан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009.radikal.ru/i310/1010/a5/ae4d1d55d39a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для презентации http://www.numi.ru/fullview.php?id=23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6:39:07Z</dcterms:created>
  <dc:creator>Galina</dc:creator>
  <dc:description/>
  <dc:language>en-US</dc:language>
  <cp:lastModifiedBy>Пользователь</cp:lastModifiedBy>
  <dcterms:modified xsi:type="dcterms:W3CDTF">2013-03-27T17:28:33Z</dcterms:modified>
  <cp:revision>88</cp:revision>
  <dc:subject/>
  <dc:title>Слайд 1</dc:title>
</cp:coreProperties>
</file>