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C07-4654-4E60-BA72-6E59BF68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790C-27E1-4A10-91CE-93963498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A809-BCF3-439F-9C31-CAD1271C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DF5-351B-4058-81D5-60E26223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D75FE-0F01-4D54-9303-04987084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6FF8A-F50A-4C40-90F9-444B228C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D71A3-020C-4D8F-BD6A-EDA39FEA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471D1-19D4-43A5-AF45-DD992282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55E72-4C82-4B07-BCFB-6EA5866C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75A73-8FA6-4A45-8122-6972F5DE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29C86-EE32-4CA6-910D-33417B74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1BA-19D7-4928-B1EE-E331EA76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C47D8-5A02-4714-A502-FC7516DB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3FEC0-F4C3-414C-AD76-0A6032E6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4EC0E-C688-483A-B932-9D3E5AE7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F1C47-F729-4A7C-AA0C-ECD4846E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2C63A-D825-4E82-A7EC-3B9723D6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D0B-64C1-4AFE-936A-A18C4A1C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9AE5-CFD3-4425-8455-6149573F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025-62DB-4409-8D2F-FA2D2AC5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0A82-4FB2-4092-83B7-A310C1DA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1A7-D9C8-4F14-BBD1-FD3F5C7A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1C89-189A-40A3-BA21-A58B7714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2DEB-18F8-4C0E-BF83-ED9EF924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5168-8139-4564-8D35-42F5E779C8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FD39-6DE8-41F9-A4D1-933988DECB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zdorov.com.ua/Alko1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d74.ru/img/zablud/12-22.jp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roxi.ru/users/88/1254_big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6043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Arial"/>
              </a:rPr>
              <a:t>                           </a:t>
            </a:r>
            <a:br>
              <a:rPr sz="6000"/>
            </a:br>
            <a:r>
              <a:rPr b="1" lang="ru-RU" sz="6000" spc="-1" strike="noStrike">
                <a:solidFill>
                  <a:srgbClr val="ff9900"/>
                </a:solidFill>
                <a:latin typeface="Arial"/>
              </a:rPr>
              <a:t>  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Вредные привычк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2571-l1"/>
          <p:cNvPicPr/>
          <p:nvPr/>
        </p:nvPicPr>
        <p:blipFill>
          <a:blip r:embed="rId1"/>
          <a:srcRect l="0" t="14160" r="0" b="15041"/>
          <a:stretch/>
        </p:blipFill>
        <p:spPr>
          <a:xfrm>
            <a:off x="2895480" y="3328920"/>
            <a:ext cx="3505320" cy="2843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БОЛЬНЫЕ ОРГА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75760" cy="48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97973viig157eimyz0g4"/>
          <p:cNvPicPr/>
          <p:nvPr/>
        </p:nvPicPr>
        <p:blipFill>
          <a:blip r:embed="rId1"/>
          <a:stretch/>
        </p:blipFill>
        <p:spPr>
          <a:xfrm>
            <a:off x="200160" y="0"/>
            <a:ext cx="2935080" cy="3352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699090_20041023132959"/>
          <p:cNvPicPr/>
          <p:nvPr/>
        </p:nvPicPr>
        <p:blipFill>
          <a:blip r:embed="rId2"/>
          <a:srcRect l="0" t="0" r="0" b="21973"/>
          <a:stretch/>
        </p:blipFill>
        <p:spPr>
          <a:xfrm>
            <a:off x="4191120" y="1066680"/>
            <a:ext cx="3809880" cy="2590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куриль"/>
          <p:cNvPicPr/>
          <p:nvPr/>
        </p:nvPicPr>
        <p:blipFill>
          <a:blip r:embed="rId3"/>
          <a:stretch/>
        </p:blipFill>
        <p:spPr>
          <a:xfrm>
            <a:off x="4952880" y="3429000"/>
            <a:ext cx="3330720" cy="342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kurilschik"/>
          <p:cNvPicPr/>
          <p:nvPr/>
        </p:nvPicPr>
        <p:blipFill>
          <a:blip r:embed="rId4"/>
          <a:stretch/>
        </p:blipFill>
        <p:spPr>
          <a:xfrm>
            <a:off x="1447920" y="3200400"/>
            <a:ext cx="311148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18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вред алкоголя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09320" y="2666520"/>
            <a:ext cx="6775560" cy="34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-  Пить – здоровью вредить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-  от алкоголя происходят значительные нарушения мозг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-  нарушается сон, теряется голос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Картинка 70 из 1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685800"/>
            <a:ext cx="2114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3757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Наркомания – прямая дорога в а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Картинка 92 из 11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981080"/>
            <a:ext cx="2451240" cy="38862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3962520" y="5309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Не ломай себе жизн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6" descr="вредные"/>
          <p:cNvPicPr/>
          <p:nvPr/>
        </p:nvPicPr>
        <p:blipFill>
          <a:blip r:embed="rId3"/>
          <a:srcRect l="15369" t="0" r="4787" b="15950"/>
          <a:stretch/>
        </p:blipFill>
        <p:spPr>
          <a:xfrm>
            <a:off x="4572000" y="1905120"/>
            <a:ext cx="3657600" cy="2979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09320" y="1927080"/>
            <a:ext cx="6775560" cy="41515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Times New Roman"/>
              </a:rPr>
              <a:t>Вредные привычки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962520" y="990720"/>
            <a:ext cx="5181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полезные и вредные привычки человек выращивает в себе са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лько полезные привычки требуют постоянного ухода – дело это нелегкое, изо дня в день нужно трудиться, чтобы получить результат, а вредные привычки очень легко пускают корни, как сорная трава. Но зато полезные привычки делают из своего хозяина настоящего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209320" y="1927080"/>
            <a:ext cx="6775560" cy="41515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Наши верные друзья – полезные привычки»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сеешь привычку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жнешь характе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народная мудрость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09320" y="1927080"/>
            <a:ext cx="6775560" cy="41515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азминка «Сложи пословицу»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457200" y="3581280"/>
            <a:ext cx="8381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Здоровье дороже зол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Здоровье, ни за какие деньги не купиш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 здоровом теле здоровый ду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сеешь привычку – пожнешь характе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ано в кровать, рано вставать – горя и хвори не будете зна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лезные привычки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048120" y="4038480"/>
            <a:ext cx="57909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ычка – это такое действие, которое человек выполняет как бы автоматичес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09320" y="1927080"/>
            <a:ext cx="6775560" cy="4151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D:\неучеба\картинки\смесь\510b2e844b8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228600" y="4572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гра «Цветы и сорняки»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7360" y="380520"/>
            <a:ext cx="8756640" cy="22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Жизнь прекрасна!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Не потрать ее напрасно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kostro2b"/>
          <p:cNvPicPr/>
          <p:nvPr/>
        </p:nvPicPr>
        <p:blipFill>
          <a:blip r:embed="rId1"/>
          <a:stretch/>
        </p:blipFill>
        <p:spPr>
          <a:xfrm>
            <a:off x="1447920" y="2438280"/>
            <a:ext cx="6400800" cy="424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155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1155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1155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1155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155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1155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1155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1155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ff9900"/>
                </a:solidFill>
                <a:latin typeface="Arial"/>
              </a:rPr>
              <a:t>Обжор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srdvd348big"/>
          <p:cNvPicPr/>
          <p:nvPr/>
        </p:nvPicPr>
        <p:blipFill>
          <a:blip r:embed="rId1"/>
          <a:srcRect l="0" t="10941" r="0" b="14059"/>
          <a:stretch/>
        </p:blipFill>
        <p:spPr>
          <a:xfrm>
            <a:off x="914400" y="121932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i"/>
          <p:cNvPicPr/>
          <p:nvPr/>
        </p:nvPicPr>
        <p:blipFill>
          <a:blip r:embed="rId2"/>
          <a:stretch/>
        </p:blipFill>
        <p:spPr>
          <a:xfrm>
            <a:off x="4800600" y="1752480"/>
            <a:ext cx="3886200" cy="2895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17880" y="380520"/>
            <a:ext cx="68673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3300"/>
                </a:solidFill>
                <a:latin typeface="Arial"/>
              </a:rPr>
              <a:t>НЕРЯХ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1151760644_828834315"/>
          <p:cNvPicPr/>
          <p:nvPr/>
        </p:nvPicPr>
        <p:blipFill>
          <a:blip r:embed="rId1"/>
          <a:stretch/>
        </p:blipFill>
        <p:spPr>
          <a:xfrm>
            <a:off x="2286000" y="1981080"/>
            <a:ext cx="5105520" cy="4686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80880" y="1371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Times New Roman"/>
              </a:rPr>
              <a:t>            </a:t>
            </a:r>
            <a:r>
              <a:rPr b="1" lang="ru-RU" sz="6000" spc="-1" strike="noStrike">
                <a:solidFill>
                  <a:srgbClr val="cc3300"/>
                </a:solidFill>
                <a:latin typeface="Times New Roman"/>
              </a:rPr>
              <a:t>ВРЕДНЫЕ ПРИВЫЧКИ- КЛИЧ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ЛОЖЬ И ОБМА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27080"/>
            <a:ext cx="822312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Запомните пословиц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На обмане далеко не уедеш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Ложь дружбу губи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Ври , да знай мер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Маленькая ложь за собою большую ведё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0_8c17_3ce6e5eb_L"/>
          <p:cNvPicPr/>
          <p:nvPr/>
        </p:nvPicPr>
        <p:blipFill>
          <a:blip r:embed="rId1"/>
          <a:stretch/>
        </p:blipFill>
        <p:spPr>
          <a:xfrm>
            <a:off x="304920" y="304920"/>
            <a:ext cx="3695760" cy="4927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0000039960-preview"/>
          <p:cNvPicPr/>
          <p:nvPr/>
        </p:nvPicPr>
        <p:blipFill>
          <a:blip r:embed="rId2"/>
          <a:srcRect l="0" t="0" r="0" b="11799"/>
          <a:stretch/>
        </p:blipFill>
        <p:spPr>
          <a:xfrm>
            <a:off x="4114800" y="304920"/>
            <a:ext cx="4724280" cy="311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2571-l1"/>
          <p:cNvPicPr/>
          <p:nvPr/>
        </p:nvPicPr>
        <p:blipFill>
          <a:blip r:embed="rId3"/>
          <a:srcRect l="0" t="15041" r="0" b="16524"/>
          <a:stretch/>
        </p:blipFill>
        <p:spPr>
          <a:xfrm>
            <a:off x="2895480" y="3505320"/>
            <a:ext cx="275904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2"/>
          <p:cNvPicPr/>
          <p:nvPr/>
        </p:nvPicPr>
        <p:blipFill>
          <a:blip r:embed="rId4"/>
          <a:stretch/>
        </p:blipFill>
        <p:spPr>
          <a:xfrm>
            <a:off x="5943600" y="3276720"/>
            <a:ext cx="3048120" cy="3124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304920"/>
            <a:ext cx="8375760" cy="577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Это полезно помнить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imes New Roman"/>
              </a:rPr>
              <a:t>1. Для ухода за носом существует носовой платок, его надо всегда носить с соб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2. Ногти необходимо один раз в неделю постригать ножница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3. Остатки пищи между зубами удаляют зубочисткой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i"/>
          <p:cNvPicPr/>
          <p:nvPr/>
        </p:nvPicPr>
        <p:blipFill>
          <a:blip r:embed="rId1"/>
          <a:stretch/>
        </p:blipFill>
        <p:spPr>
          <a:xfrm>
            <a:off x="152280" y="1143000"/>
            <a:ext cx="2894040" cy="4114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0" y="471960"/>
            <a:ext cx="88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«Курить  – здоровью вредить!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Картинка 66 из 685">
            <a:hlinkClick r:id="rId2"/>
          </p:cNvPr>
          <p:cNvPicPr/>
          <p:nvPr/>
        </p:nvPicPr>
        <p:blipFill>
          <a:blip r:embed="rId3"/>
          <a:srcRect l="5260" t="7071" r="4409" b="3984"/>
          <a:stretch/>
        </p:blipFill>
        <p:spPr>
          <a:xfrm>
            <a:off x="5029200" y="1295280"/>
            <a:ext cx="3701880" cy="42674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2057400" y="2744280"/>
            <a:ext cx="4876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гарета в нашей жизн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нимает пять минут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курил ты их полтыщи -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живешь поменьше, друг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чем же смысл?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не курить!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о жизнью дорожить!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здоровье - это важно -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жет каждый сохранить!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860436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ЖЕЛУДОК                         МОЗГ                        СЕРД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180px-Gray1050-stomach"/>
          <p:cNvPicPr/>
          <p:nvPr/>
        </p:nvPicPr>
        <p:blipFill>
          <a:blip r:embed="rId1"/>
          <a:stretch/>
        </p:blipFill>
        <p:spPr>
          <a:xfrm>
            <a:off x="304920" y="1447920"/>
            <a:ext cx="2895480" cy="24382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7"/>
          <p:cNvSpPr/>
          <p:nvPr/>
        </p:nvSpPr>
        <p:spPr>
          <a:xfrm>
            <a:off x="3124080" y="3962520"/>
            <a:ext cx="13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ЛЁГ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180px-Human_brain_NIH"/>
          <p:cNvPicPr/>
          <p:nvPr/>
        </p:nvPicPr>
        <p:blipFill>
          <a:blip r:embed="rId2"/>
          <a:stretch/>
        </p:blipFill>
        <p:spPr>
          <a:xfrm>
            <a:off x="3352680" y="838080"/>
            <a:ext cx="3048120" cy="2217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350px-Heart_ru_svg"/>
          <p:cNvPicPr/>
          <p:nvPr/>
        </p:nvPicPr>
        <p:blipFill>
          <a:blip r:embed="rId3"/>
          <a:stretch/>
        </p:blipFill>
        <p:spPr>
          <a:xfrm>
            <a:off x="5810400" y="838080"/>
            <a:ext cx="3333600" cy="471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200px-Lungs_Ru"/>
          <p:cNvPicPr/>
          <p:nvPr/>
        </p:nvPicPr>
        <p:blipFill>
          <a:blip r:embed="rId4"/>
          <a:stretch/>
        </p:blipFill>
        <p:spPr>
          <a:xfrm>
            <a:off x="2362320" y="4419720"/>
            <a:ext cx="3429000" cy="2441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18T18:45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