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gif" ContentType="image/gif"/>
  <Override PartName="/ppt/media/image32.jpeg" ContentType="image/jpeg"/>
  <Override PartName="/ppt/media/image21.jpeg" ContentType="image/jpeg"/>
  <Override PartName="/ppt/media/chimes.wav" ContentType="audio/x-wav"/>
  <Override PartName="/ppt/media/image16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.jpeg" ContentType="image/jpeg"/>
  <Override PartName="/ppt/media/image30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.jpeg" ContentType="image/jpeg"/>
  <Override PartName="/ppt/media/image28.jpeg" ContentType="image/jpeg"/>
  <Override PartName="/ppt/media/image27.gif" ContentType="image/gif"/>
  <Override PartName="/ppt/media/image13.jpeg" ContentType="image/jpeg"/>
  <Override PartName="/ppt/media/image18.gif" ContentType="image/gif"/>
  <Override PartName="/ppt/media/image15.jpeg" ContentType="image/jpeg"/>
  <Override PartName="/ppt/media/image12.gif" ContentType="image/gif"/>
  <Override PartName="/ppt/media/image17.jpeg" ContentType="image/jpeg"/>
  <Override PartName="/ppt/media/image23.gif" ContentType="image/gif"/>
  <Override PartName="/ppt/media/image14.jpeg" ContentType="image/jpeg"/>
  <Override PartName="/ppt/media/image19.gif" ContentType="image/gif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64F8-C0A1-4501-A489-16598C3C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733-E035-4F4D-AE46-35B5D9B2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8214-1695-49D2-B196-1E46EAA5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954A-85CE-4649-81EC-93E7BFF8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4741-9A81-4631-A6D2-4ED36E0F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ACD2-956C-42B9-82D2-07E95B1F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9C7B-26AE-4A06-91C1-64512B6E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DDA4-58D1-4F76-96EF-B6B3CC0C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5337-FFB5-4525-B773-51AABE50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4A14-F693-4440-A4E6-A82DDFD4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9A9D-8C3A-4217-8957-A049DD4B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1592-EDB4-45CE-9470-988388B3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DED5-FD08-458C-BB3E-841A5FED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3DD8-ADEB-44E0-A7EB-1D7F5351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19C4-4CD1-45DB-9947-6848B0BD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F943-E264-431D-ABF0-827D582D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C2FB-EA3E-4716-80F1-9AA74DFB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8945-42EE-42C2-9BB9-C5BB5B3D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C9B0-FF1B-43FB-94EA-B39CB7F9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4DC-71F0-4D0D-852B-6D4B6696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ADD-179B-4888-BFA6-57329905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7B33-AE58-4DEF-A18D-D394CD3D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449-0D91-4C6A-9DE5-D34372A3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27A4-CEDE-4A17-A078-205AE6B1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7937-DC21-4BDE-B1D3-353F47A937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7AEB-9246-41AB-9406-392D1E931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1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5 клас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 программе Б.М.Неменског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00"/>
                </a:solidFill>
                <a:uFillTx/>
                <a:latin typeface="Arial"/>
              </a:rPr>
              <a:t>Тема четверти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: «Связь времен в народном искусстве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00"/>
                </a:solidFill>
                <a:uFillTx/>
                <a:latin typeface="Arial"/>
              </a:rPr>
              <a:t>Тема урока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: </a:t>
            </a:r>
            <a:r>
              <a:rPr b="0" i="1" lang="en-US" sz="4000" spc="-1" strike="noStrike">
                <a:solidFill>
                  <a:srgbClr val="333300"/>
                </a:solidFill>
                <a:latin typeface="Arial"/>
              </a:rPr>
              <a:t>Древние образы в современных народных игрушках. Дымковская игрушка.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imes New Roman"/>
              </a:rPr>
              <a:t>Дымковская игруш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100240" y="1631880"/>
            <a:ext cx="2819520" cy="4272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767560" y="1631880"/>
            <a:ext cx="2690640" cy="422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71640" y="1989000"/>
            <a:ext cx="3166920" cy="3745080"/>
          </a:xfrm>
          <a:prstGeom prst="rect">
            <a:avLst/>
          </a:prstGeom>
          <a:solidFill>
            <a:srgbClr val="6699ff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035080" y="2082960"/>
            <a:ext cx="2643120" cy="3616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219640" y="1916280"/>
            <a:ext cx="367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SkazkaForSerge"/>
              </a:rPr>
              <a:t>В этих живописных краях на берегу реки Вятки возникла дымковская игрушка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124000" y="692280"/>
            <a:ext cx="5162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174675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SkazkaForSerge"/>
              </a:rPr>
              <a:t>Слобода Дымково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174675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SkazkaForSerge"/>
              <a:ea typeface="SkazkaForSerge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6923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52400" y="-36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4000" spc="-1" strike="noStrike">
                <a:solidFill>
                  <a:srgbClr val="cccc00"/>
                </a:solidFill>
                <a:latin typeface="Times New Roman"/>
              </a:rPr>
              <a:t>Дымковская игру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32000" y="1052280"/>
            <a:ext cx="3674880" cy="51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Чем знаменито Дымково?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Игрушкою своей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В ней нету света дымного.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А есть любовь людей.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В ней что-то есть от радуги.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От капельки росы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В ней что-то есть от радости,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Гремящей, как басы,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Она гудит не прянично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Ликующе и празднично!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В ней молодость-изюминка.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В ней удаль и размах.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Сияйте охра с суриком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По всей земле в домах.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От дымковской игрушки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Идёт тепло и свет,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Он не иссякнет десятки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Сотни лет. Игрушкою своей!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794400" cy="38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imes New Roman"/>
              </a:rPr>
              <a:t>Почему так назвали игрушку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ccc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92360" y="1844280"/>
            <a:ext cx="36748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Эту игрушку называют “дымковской”по месту происхождения. С берега реки Вятки, на котором стоит г. Киров видно заречную слободу. Зимой топили печи, а летом часто стояли туманы. Слобода была будто в дымке. Так и назвали ёе – Дымково. Отсюда и название игрушки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724360" y="1844640"/>
            <a:ext cx="2895840" cy="434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imes New Roman"/>
              </a:rPr>
              <a:t>История игруш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19280" y="1196640"/>
            <a:ext cx="367488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en-US" sz="1700" spc="-1" strike="noStrike">
                <a:solidFill>
                  <a:srgbClr val="333300"/>
                </a:solidFill>
                <a:latin typeface="Arial"/>
              </a:rPr>
              <a:t>В начале были игрушки – свистульки. Собирались люди на гуляние, весну встречать, зиму провожать. Засвистят, запоют на улице:</a:t>
            </a:r>
            <a:endParaRPr b="1" lang="en-US" sz="17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00"/>
                </a:solidFill>
                <a:latin typeface="Arial"/>
              </a:rPr>
              <a:t> “</a:t>
            </a:r>
            <a:r>
              <a:rPr b="1" lang="en-US" sz="1700" spc="-1" strike="noStrike">
                <a:solidFill>
                  <a:srgbClr val="333300"/>
                </a:solidFill>
                <a:latin typeface="Arial"/>
              </a:rPr>
              <a:t>Глиняная свистулька”Птица-свиристелка,</a:t>
            </a:r>
            <a:br>
              <a:rPr sz="1700"/>
            </a:br>
            <a:r>
              <a:rPr b="1" lang="en-US" sz="1700" spc="-1" strike="noStrike">
                <a:solidFill>
                  <a:srgbClr val="333300"/>
                </a:solidFill>
                <a:latin typeface="Arial"/>
              </a:rPr>
              <a:t>Звонкая поделка!</a:t>
            </a:r>
            <a:br>
              <a:rPr sz="1700"/>
            </a:br>
            <a:r>
              <a:rPr b="1" lang="en-US" sz="1700" spc="-1" strike="noStrike">
                <a:solidFill>
                  <a:srgbClr val="333300"/>
                </a:solidFill>
                <a:latin typeface="Arial"/>
              </a:rPr>
              <a:t>Ну-ка, ну-ка, говори,</a:t>
            </a:r>
            <a:br>
              <a:rPr sz="1700"/>
            </a:br>
            <a:r>
              <a:rPr b="1" lang="en-US" sz="1700" spc="-1" strike="noStrike">
                <a:solidFill>
                  <a:srgbClr val="333300"/>
                </a:solidFill>
                <a:latin typeface="Arial"/>
              </a:rPr>
              <a:t>Что там у тебя в нутрии?</a:t>
            </a:r>
            <a:br>
              <a:rPr sz="1700"/>
            </a:br>
            <a:r>
              <a:rPr b="1" lang="en-US" sz="1700" spc="-1" strike="noStrike">
                <a:solidFill>
                  <a:srgbClr val="333300"/>
                </a:solidFill>
                <a:latin typeface="Arial"/>
              </a:rPr>
              <a:t>-Верь, не верь ли, мой хороший,</a:t>
            </a:r>
            <a:br>
              <a:rPr sz="1700"/>
            </a:br>
            <a:r>
              <a:rPr b="1" lang="en-US" sz="1700" spc="-1" strike="noStrike">
                <a:solidFill>
                  <a:srgbClr val="333300"/>
                </a:solidFill>
                <a:latin typeface="Arial"/>
              </a:rPr>
              <a:t>А в нутрии-то - ничего,</a:t>
            </a:r>
            <a:br>
              <a:rPr sz="1700"/>
            </a:br>
            <a:r>
              <a:rPr b="1" lang="en-US" sz="1700" spc="-1" strike="noStrike">
                <a:solidFill>
                  <a:srgbClr val="333300"/>
                </a:solidFill>
                <a:latin typeface="Arial"/>
              </a:rPr>
              <a:t>Кроме двух сухих горошин</a:t>
            </a:r>
            <a:br>
              <a:rPr sz="1700"/>
            </a:br>
            <a:r>
              <a:rPr b="1" lang="en-US" sz="1700" spc="-1" strike="noStrike">
                <a:solidFill>
                  <a:srgbClr val="333300"/>
                </a:solidFill>
                <a:latin typeface="Arial"/>
              </a:rPr>
              <a:t>И дыханья твоего.</a:t>
            </a:r>
            <a:endParaRPr b="1" lang="en-US" sz="17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00"/>
                </a:solidFill>
                <a:latin typeface="Arial"/>
              </a:rPr>
              <a:t>Так весну закликали:</a:t>
            </a:r>
            <a:br>
              <a:rPr sz="1700"/>
            </a:br>
            <a:r>
              <a:rPr b="1" lang="en-US" sz="1700" spc="-1" strike="noStrike">
                <a:solidFill>
                  <a:srgbClr val="333300"/>
                </a:solidFill>
                <a:latin typeface="Arial"/>
              </a:rPr>
              <a:t>Уж ты пташечка,</a:t>
            </a:r>
            <a:br>
              <a:rPr sz="1700"/>
            </a:br>
            <a:r>
              <a:rPr b="1" lang="en-US" sz="1700" spc="-1" strike="noStrike">
                <a:solidFill>
                  <a:srgbClr val="333300"/>
                </a:solidFill>
                <a:latin typeface="Arial"/>
              </a:rPr>
              <a:t>Ты зеленая,</a:t>
            </a:r>
            <a:br>
              <a:rPr sz="1700"/>
            </a:br>
            <a:r>
              <a:rPr b="1" lang="en-US" sz="1700" spc="-1" strike="noStrike">
                <a:solidFill>
                  <a:srgbClr val="333300"/>
                </a:solidFill>
                <a:latin typeface="Arial"/>
              </a:rPr>
              <a:t>Ты слетай за сине море</a:t>
            </a:r>
            <a:br>
              <a:rPr sz="1700"/>
            </a:br>
            <a:r>
              <a:rPr b="1" lang="en-US" sz="1700" spc="-1" strike="noStrike">
                <a:solidFill>
                  <a:srgbClr val="333300"/>
                </a:solidFill>
                <a:latin typeface="Arial"/>
              </a:rPr>
              <a:t>Ты возьми ключи весенние,</a:t>
            </a:r>
            <a:br>
              <a:rPr sz="1700"/>
            </a:br>
            <a:r>
              <a:rPr b="1" lang="en-US" sz="1700" spc="-1" strike="noStrike">
                <a:solidFill>
                  <a:srgbClr val="333300"/>
                </a:solidFill>
                <a:latin typeface="Arial"/>
              </a:rPr>
              <a:t>Замкни зиму – </a:t>
            </a:r>
            <a:br>
              <a:rPr sz="1700"/>
            </a:br>
            <a:r>
              <a:rPr b="1" lang="en-US" sz="1700" spc="-1" strike="noStrike">
                <a:solidFill>
                  <a:srgbClr val="333300"/>
                </a:solidFill>
                <a:latin typeface="Arial"/>
              </a:rPr>
              <a:t>Отомкни лето.</a:t>
            </a:r>
            <a:endParaRPr b="1" lang="en-US" sz="17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946840" y="1781280"/>
            <a:ext cx="2406600" cy="42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3067200" cy="4176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940360" y="1557360"/>
            <a:ext cx="2814840" cy="4651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859280" y="260280"/>
            <a:ext cx="30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SkazkaForSerge"/>
              </a:rPr>
              <a:t>Лепили в Вятке              и коней,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5280" y="5229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SkazkaForSerge"/>
              </a:rPr>
              <a:t>и оленей,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692360" y="501336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8028000" y="11592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619280" y="476280"/>
            <a:ext cx="306720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6" name="chimes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0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660"/>
                            </p:stCondLst>
                            <p:childTnLst>
                              <p:par>
                                <p:cTn id="2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16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2829240" cy="32623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940360" y="404640"/>
            <a:ext cx="2847960" cy="4119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403280" y="5300640"/>
            <a:ext cx="41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SkazkaForSerge"/>
              </a:rPr>
              <a:t>Нашли свое отображение в глине домашние животные и птицы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796000" y="4869000"/>
            <a:ext cx="1297080" cy="1368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7524720" y="486900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1835280" y="3645000"/>
            <a:ext cx="201600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6" name="chimes.wav"/>
      </p:stSnd>
    </p:sndAc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2981160" cy="3386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724360" y="2924280"/>
            <a:ext cx="2867040" cy="3338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219640" y="476280"/>
            <a:ext cx="367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SkazkaForSerge"/>
              </a:rPr>
              <a:t>С большой любовью лепились простые деревенские мужички,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494172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SkazkaForSerge"/>
              </a:rPr>
              <a:t>былинные рыцари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476360" y="3860640"/>
            <a:ext cx="2089080" cy="2519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  <p:sndAc>
      <p:stSnd>
        <p:snd r:embed="rId4" name="chimes.wav"/>
      </p:stSnd>
    </p:sndAc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100"/>
                            </p:stCondLst>
                            <p:childTnLst>
                              <p:par>
                                <p:cTn id="2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2690640" cy="4308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076720" y="206064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SkazkaForSerge"/>
              </a:rPr>
              <a:t>Сначала мастерица вытягивает фигурку из куска глины</a:t>
            </a:r>
            <a:r>
              <a:rPr b="0" lang="en-US" sz="2800" spc="-1" strike="noStrike">
                <a:solidFill>
                  <a:srgbClr val="333300"/>
                </a:solidFill>
                <a:latin typeface="SkazkaForSerge"/>
              </a:rPr>
              <a:t>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619280" y="476280"/>
            <a:ext cx="6972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2f4675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SkazkaForSerge"/>
              </a:rPr>
              <a:t>Изготовление игрушки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2f4675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SkazkaForSerge"/>
              <a:ea typeface="SkazkaForSerge"/>
            </a:endParaRPr>
          </a:p>
        </p:txBody>
      </p:sp>
    </p:spTree>
  </p:cSld>
  <p:transition spd="slow">
    <p:wipe dir="d"/>
    <p:sndAc>
      <p:stSnd>
        <p:snd r:embed="rId2" name="chimes.wav"/>
      </p:stSnd>
    </p:sndAc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00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08200" y="1631880"/>
            <a:ext cx="2646360" cy="43023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692360" y="333360"/>
            <a:ext cx="66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SkazkaForSerge"/>
              </a:rPr>
              <a:t>Сушат игрушку 2-3 суток, а то и несколько недель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2349360"/>
            <a:ext cx="424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SkazkaForSerge"/>
              </a:rPr>
              <a:t>Раньше игрушку обжигали в русской печи, а теперь – в муфельной</a:t>
            </a:r>
            <a:r>
              <a:rPr b="0" lang="en-US" sz="2800" spc="-1" strike="noStrike">
                <a:solidFill>
                  <a:srgbClr val="333300"/>
                </a:solidFill>
                <a:latin typeface="SkazkaForSerge"/>
              </a:rPr>
              <a:t> 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2" name="chimes.wav"/>
      </p:stSnd>
    </p:sndAc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33"/>
                </a:solidFill>
                <a:uFillTx/>
                <a:latin typeface="Times New Roman"/>
                <a:hlinkClick r:id="rId1" action="ppaction://hlinksldjump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132000" y="1197000"/>
            <a:ext cx="4003920" cy="547200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4" action="ppaction://hlinksldjump"/>
          </p:cNvPr>
          <p:cNvSpPr/>
          <p:nvPr/>
        </p:nvSpPr>
        <p:spPr>
          <a:xfrm>
            <a:off x="1547640" y="5950080"/>
            <a:ext cx="863640" cy="57456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427800" y="1703520"/>
            <a:ext cx="2500200" cy="40179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619280" y="549360"/>
            <a:ext cx="3011400" cy="3989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67280" y="26028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80000" y="26028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260280"/>
            <a:ext cx="41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SkazkaForSerge"/>
              </a:rPr>
              <a:t>После обжига игрушку белят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472428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SkazkaForSerge"/>
              </a:rPr>
              <a:t>И расписывают красками.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3" name="chimes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267080" y="109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99760" y="22824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cccc00"/>
                </a:solidFill>
                <a:latin typeface="Times New Roman"/>
              </a:rPr>
              <a:t>Фрагмент орнамента на         дымковской игрушк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6948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Игрушки- отражение мир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Музей народной игрушки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Слобода Дымково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Почему так назвали игрушку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История игрушки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Изготовление игрушки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1547640" y="5589720"/>
            <a:ext cx="863640" cy="50328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9480" y="240840"/>
            <a:ext cx="735300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imes New Roman"/>
              </a:rPr>
              <a:t>Игрушки- отражение ми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824440" y="1523880"/>
            <a:ext cx="2657520" cy="2270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2651400" cy="2281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021040" y="3951360"/>
            <a:ext cx="2651040" cy="2276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823000" y="3951360"/>
            <a:ext cx="2655720" cy="2276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638440" y="1703520"/>
            <a:ext cx="5202360" cy="444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502000" y="1523880"/>
            <a:ext cx="5487840" cy="4714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547640" y="1628640"/>
            <a:ext cx="6035760" cy="4530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547640" y="1628640"/>
            <a:ext cx="6035760" cy="4530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1547640" y="1628640"/>
            <a:ext cx="6035760" cy="4530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1547640" y="1628640"/>
            <a:ext cx="6035760" cy="4530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ackadder ITC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835280" y="1631880"/>
            <a:ext cx="3146400" cy="4564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510160" y="1631880"/>
            <a:ext cx="3013200" cy="4564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cc00"/>
                </a:solidFill>
                <a:latin typeface="Times New Roman"/>
              </a:rPr>
              <a:t>Абашевская игруш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14520" y="2379600"/>
            <a:ext cx="3672000" cy="3524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510160" y="1631880"/>
            <a:ext cx="3273480" cy="4564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638440" y="1703520"/>
            <a:ext cx="5202360" cy="444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4:35:02Z</dcterms:created>
  <dc:creator>Владелец</dc:creator>
  <dc:description/>
  <dc:language>en-US</dc:language>
  <cp:lastModifiedBy>Владелец</cp:lastModifiedBy>
  <dcterms:modified xsi:type="dcterms:W3CDTF">2008-12-03T17:30:12Z</dcterms:modified>
  <cp:revision>8</cp:revision>
  <dc:subject/>
  <dc:title>Слайд 1</dc:title>
</cp:coreProperties>
</file>