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E88-D74C-4C42-A6BC-EE855257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64D-3E5B-41A9-A508-BB9AC157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76C-5A0F-4D46-BD52-2F39FB14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941-D84F-43A5-8328-D5515D8F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0B103-4849-40E9-B080-31265B9D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90710-674F-45AC-B849-32E60813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FF98D-5F1D-45DB-95EB-6CF5147E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79FC1-9482-40F1-B7BE-231AA824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38AC1-E7B2-4B98-A07E-A4769140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9C172-024D-41F2-B9C2-7D2ABD33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DB9DE-EB65-4680-9C51-E4A02E43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71D-7D28-45A7-BCB5-353524FB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1DCE2-19DF-4F65-8577-4D7849FF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3BE6B-C4CE-4B04-9953-F19368ED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D9973-C86D-4E77-8432-049D4538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3255A-93C2-471D-88FA-281E9DDF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0C9E3-00ED-4593-A77A-657A8D68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CD4-2963-4FCD-9DB8-B2A79601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799-AC04-4B1C-9FE2-CDC45678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852-FC03-45F3-AE94-A0A880CB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7A1-3EDD-4D21-8B6F-21DE943C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6A7-00BA-4D96-840D-CCCD5761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B92-E81B-4C86-A589-8D53B981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4CF-53E7-4E72-8C61-C5B0AB3C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C1B7-4E6C-491F-819B-2D34F536DA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AE42-8334-4FFF-A696-BF6E377139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ЗАКАЛИВАНИЕ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40000" y="6165360"/>
            <a:ext cx="662472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физической культуры Богуш В.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ДАННЫЙ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 практический материал рекомендуется учителям физической культуры, з о ж, классным руководителям и может быть полезен и интересен родителя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cc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630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ahoma"/>
              </a:rPr>
              <a:t>Закаливание</a:t>
            </a: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  - это комплекс мероприятий , направленных на повышение устойчивости организма к неблагоприятным факторам окружающей среды, особенно к холоду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cc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ОСНОВНЫЕ ПРИНЦИПЫ ЗАКАЛИВА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Постепе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истематич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Учет индивидуальных особенностей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Комплексное использование различных форм закали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4"/>
          <p:cNvPicPr/>
          <p:nvPr/>
        </p:nvPicPr>
        <p:blipFill>
          <a:blip r:embed="rId1"/>
          <a:stretch/>
        </p:blipFill>
        <p:spPr>
          <a:xfrm>
            <a:off x="1763640" y="0"/>
            <a:ext cx="5329440" cy="6840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Способы закалива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олнечные ван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рименяются не позже ч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за 1 час до еды и не раньш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м через 1,5 ч после е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начале солнечные ван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родолжаются не более 5 -10 м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Голову защищают от прямых лучей белой косынкой или панамой. Общая продолжительность процедуры может постепенно достигнуть 40 -60 мин и более с обязательным перерывом через 30 мин на 10 – 15 мин для отдыха в тени. Наиболее безопасно и полезно загорать на юге с 8 до 11ч, в средней полосе страны – с 10 до 12 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ван сол"/>
          <p:cNvPicPr/>
          <p:nvPr/>
        </p:nvPicPr>
        <p:blipFill>
          <a:blip r:embed="rId1"/>
          <a:stretch/>
        </p:blipFill>
        <p:spPr>
          <a:xfrm>
            <a:off x="5398920" y="836640"/>
            <a:ext cx="3745080" cy="2563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Солнечные ванны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-387360"/>
            <a:ext cx="7715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ВОЗДУШНЫЕ ВАН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61952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2600" spc="-1" strike="noStrike">
                <a:solidFill>
                  <a:srgbClr val="010199"/>
                </a:solidFill>
                <a:latin typeface="Tahoma"/>
              </a:rPr>
              <a:t>ПРИМЕНЯЮТСЯ ПРИ ТЕМПЕРАТУРЕ НЕ НИЖЕ 16 – 18 </a:t>
            </a:r>
            <a:r>
              <a:rPr b="0" lang="ru-RU" sz="2600" spc="-1" strike="noStrike" baseline="30000">
                <a:solidFill>
                  <a:srgbClr val="010199"/>
                </a:solidFill>
                <a:latin typeface="Tahoma"/>
              </a:rPr>
              <a:t>0</a:t>
            </a:r>
            <a:r>
              <a:rPr b="0" lang="ru-RU" sz="2600" spc="-1" strike="noStrike">
                <a:solidFill>
                  <a:srgbClr val="010199"/>
                </a:solidFill>
                <a:latin typeface="Tahoma"/>
              </a:rPr>
              <a:t>С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ru-RU" sz="2600" spc="-1" strike="noStrike">
                <a:solidFill>
                  <a:srgbClr val="010199"/>
                </a:solidFill>
                <a:latin typeface="Tahoma"/>
              </a:rPr>
              <a:t>С ПОСТЕПЕННЫМ УВЕЛЕЧЕНИЕМ ВРЕМЕНИ ПРИЕМА И СНИЖЕНИЕМ ТЕМПЕРАТУРЫ ДО 12 </a:t>
            </a:r>
            <a:r>
              <a:rPr b="0" lang="ru-RU" sz="2600" spc="-1" strike="noStrike" baseline="30000">
                <a:solidFill>
                  <a:srgbClr val="010199"/>
                </a:solidFill>
                <a:latin typeface="Tahoma"/>
              </a:rPr>
              <a:t>0</a:t>
            </a:r>
            <a:r>
              <a:rPr b="0" lang="ru-RU" sz="2600" spc="-1" strike="noStrike">
                <a:solidFill>
                  <a:srgbClr val="010199"/>
                </a:solidFill>
                <a:latin typeface="Tahoma"/>
              </a:rPr>
              <a:t>С  ВОЗДУШНОЕ  ЗАКАЛИВАНИЕ ХОРОШО СОЧЕТАЕТСЯ С ФИЗИЧЕСКИМИ УПРАЖНЕНИЯМИ И ИГРАМИ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91500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50"/>
                            </p:stCondLst>
                            <p:childTnLst>
                              <p:par>
                                <p:cTn id="1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65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ОБТИР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5122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НАЧИНАЮТ ПРОЦЕДУРУ С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t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воды 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28-30</a:t>
            </a:r>
            <a:r>
              <a:rPr b="0" lang="ru-RU" sz="2400" spc="-1" strike="noStrike" baseline="30000">
                <a:solidFill>
                  <a:srgbClr val="010199"/>
                </a:solidFill>
                <a:latin typeface="Tahoma"/>
              </a:rPr>
              <a:t>0 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С И ПОСТЕПЕННО СНИЖАЮТ ЕЕ КАЖДЫЕ 2-3 ДНЯ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НА ГРАДУС ДО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 15-18</a:t>
            </a:r>
            <a:r>
              <a:rPr b="0" lang="ru-RU" sz="2400" spc="-1" strike="noStrike" baseline="30000">
                <a:solidFill>
                  <a:srgbClr val="010199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 С. ОБТИРАЮТСЯ МЯГКОЙ РУКОВИЦЕЙ, СМОЧЕННОЙ ВОДОЙ, НАЧИНАЯ С ВЕРХНЕЙ ЧАСТИ ТУЛОВИЩА; ЗАКАНЧИВАЮТ РАСТИРАНИЕМ СУХИМ ПОЛОТЕНЦЕМ, НАПРАВЛЯЯ ДВИЖЕНИЯ ОТ ПЕРЕФИРИИ К СЕРДЦУ, ДО ПОЯВЛЕНИЯ ПРИЯТНОГО ТЕП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снег"/>
          <p:cNvPicPr/>
          <p:nvPr/>
        </p:nvPicPr>
        <p:blipFill>
          <a:blip r:embed="rId2"/>
          <a:stretch/>
        </p:blipFill>
        <p:spPr>
          <a:xfrm>
            <a:off x="5605560" y="1413000"/>
            <a:ext cx="353844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ОБЛИ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ВОДУ ВЫЛИВАЮТ НА ШЕЮ И ПЛЕЧИ С РАССТОЯНИЯ 5-8 СМ, А ГОЛОВУ ОБЛИВАТЬ НЕ РЕКОМЕНДУЕТСЯ.ТЕМПЕРАТУРА ВОДЫ ДОЛЖНА БЫТЬ ПРИ ЭТОМ НА 2-3</a:t>
            </a:r>
            <a:r>
              <a:rPr b="0" lang="ru-RU" sz="2400" spc="-1" strike="noStrike" baseline="30000">
                <a:solidFill>
                  <a:srgbClr val="010199"/>
                </a:solidFill>
                <a:latin typeface="Tahoma"/>
              </a:rPr>
              <a:t>0  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С ВЫШЕ ПРИ ПОСЛЕДНИХ ОБТИРАНИЯХ. СНИЖАЕМ НА 1</a:t>
            </a:r>
            <a:r>
              <a:rPr b="0" lang="ru-RU" sz="2400" spc="-1" strike="noStrike" baseline="30000">
                <a:solidFill>
                  <a:srgbClr val="010199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 КАЖДЫЕ 2-3 ДНЯ, НО НЕ ОПУСКАЕМ НИЖЕ 17-15</a:t>
            </a:r>
            <a:r>
              <a:rPr b="0" lang="ru-RU" sz="2400" spc="-1" strike="noStrike" baseline="30000">
                <a:solidFill>
                  <a:srgbClr val="010199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 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5219640" y="1484280"/>
            <a:ext cx="36864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КУПАНИЕ В ОТКРЫТЫХ ВОДОЕМА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ru-RU" sz="2600" spc="-1" strike="noStrike">
                <a:solidFill>
                  <a:srgbClr val="010199"/>
                </a:solidFill>
                <a:latin typeface="Tahoma"/>
              </a:rPr>
              <a:t>Рекомендуется при </a:t>
            </a:r>
            <a:r>
              <a:rPr b="0" lang="en-US" sz="2600" spc="-1" strike="noStrike">
                <a:solidFill>
                  <a:srgbClr val="010199"/>
                </a:solidFill>
                <a:latin typeface="Tahoma"/>
              </a:rPr>
              <a:t>t</a:t>
            </a:r>
            <a:r>
              <a:rPr b="0" lang="ru-RU" sz="2600" spc="-1" strike="noStrike">
                <a:solidFill>
                  <a:srgbClr val="010199"/>
                </a:solidFill>
                <a:latin typeface="Tahoma"/>
              </a:rPr>
              <a:t> окружающего воздуха не ниже 24-25</a:t>
            </a:r>
            <a:r>
              <a:rPr b="0" lang="ru-RU" sz="2600" spc="-1" strike="noStrike" baseline="30000">
                <a:solidFill>
                  <a:srgbClr val="010199"/>
                </a:solidFill>
                <a:latin typeface="Tahoma"/>
              </a:rPr>
              <a:t>0 </a:t>
            </a:r>
            <a:r>
              <a:rPr b="0" lang="ru-RU" sz="2600" spc="-1" strike="noStrike">
                <a:solidFill>
                  <a:srgbClr val="010199"/>
                </a:solidFill>
                <a:latin typeface="Tahoma"/>
              </a:rPr>
              <a:t>с и воды не ниже 20</a:t>
            </a:r>
            <a:r>
              <a:rPr b="0" lang="ru-RU" sz="2600" spc="-1" strike="noStrike" baseline="30000">
                <a:solidFill>
                  <a:srgbClr val="010199"/>
                </a:solidFill>
                <a:latin typeface="Tahoma"/>
              </a:rPr>
              <a:t>0</a:t>
            </a:r>
            <a:r>
              <a:rPr b="0" lang="ru-RU" sz="2600" spc="-1" strike="noStrike">
                <a:solidFill>
                  <a:srgbClr val="010199"/>
                </a:solidFill>
                <a:latin typeface="Tahoma"/>
              </a:rPr>
              <a:t>с. В воде нужно находиться  не дольше 10-15 мин.Купаться можно через1-1,5ч после еды. После купания интенсивно растираются полотенцем. Нельзя в воду входить разгоряченным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купание"/>
          <p:cNvPicPr/>
          <p:nvPr/>
        </p:nvPicPr>
        <p:blipFill>
          <a:blip r:embed="rId2"/>
          <a:stretch/>
        </p:blipFill>
        <p:spPr>
          <a:xfrm>
            <a:off x="4610160" y="1628640"/>
            <a:ext cx="438156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1:12:38Z</dcterms:created>
  <dc:creator>школа</dc:creator>
  <dc:description/>
  <dc:language>en-US</dc:language>
  <cp:lastModifiedBy>Саттелит</cp:lastModifiedBy>
  <dcterms:modified xsi:type="dcterms:W3CDTF">2008-10-29T03:19:15Z</dcterms:modified>
  <cp:revision>18</cp:revision>
  <dc:subject/>
  <dc:title>ЗАКАЛИВАНИЕ</dc:title>
</cp:coreProperties>
</file>