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EEA-1AC2-48F1-B129-4D2EC463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EEC-25FB-44A8-BB07-E2066E20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A86-0191-4F57-AD16-30B2CDE3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9D8-1AE4-4D6D-BD0B-D2ECEE64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57A-8A6F-48E6-A031-E74530C0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C3B-D7B4-4B20-935E-890EEE95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945-9EB6-4433-AA99-A7FA68FD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887-8AE6-426E-9787-B61CB1E9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FAD-DC79-4093-9E6E-2A59B874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354-1522-492D-9441-91F3A02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DC4-690D-4CE0-BD44-1EAAD8E7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5C1-EBF6-4E21-BFD1-4575F0EF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E577-3C9B-4749-9B84-A6F2F06F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biologija/fotosintez9.html" TargetMode="External"/><Relationship Id="rId3" Type="http://schemas.openxmlformats.org/officeDocument/2006/relationships/hyperlink" Target="http://ppt4web.ru/biologija/fotosintez9.html" TargetMode="External"/><Relationship Id="rId4" Type="http://schemas.openxmlformats.org/officeDocument/2006/relationships/hyperlink" Target="http://tipslife.ru/41074-dlya-chego-nuzhny-problemy.htm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95280" y="6192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биологии по ФГОС в 6 классе 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Дыхание раст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06920" y="350028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ькова Гали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биологии 1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ОУ СОШ № 5 г. Усть- Ка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ябин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 мы должны вести себя по отношению к зелёным «лёгким планеты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сосны, липы, ели не болели, зелен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новые леса поднимались в неб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должны их  охранять 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 жить в одной сем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еть в одном полёт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вайте сохра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машку на л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вшинку на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клюкву на бол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8360" y="1052640"/>
          <a:ext cx="8424720" cy="45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9383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17656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8360" y="1844640"/>
            <a:ext cx="20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ыхан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х ж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3440" y="3573360"/>
            <a:ext cx="260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дых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глощ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екислый г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9800" y="220500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дыш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1440" y="4076640"/>
            <a:ext cx="16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у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628640"/>
            <a:ext cx="302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ышит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чевичк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ьиц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невые вол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5800" y="3789360"/>
            <a:ext cx="254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окис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ще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Изучить § 29, раздел «Дыхание растений», ответить на вопрос 3 после парагра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Написать мини-сочинение от имени молекулы кислорода «Мое путешествие по расте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736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11120" y="46656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916280"/>
            <a:ext cx="2448000" cy="27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1773360"/>
            <a:ext cx="2448000" cy="27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1844640"/>
            <a:ext cx="2448000" cy="273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852640"/>
            <a:ext cx="287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852640"/>
            <a:ext cx="287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0720" y="285264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285264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27082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27082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223280" y="3248640"/>
            <a:ext cx="576000" cy="136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7055280" y="3177360"/>
            <a:ext cx="57636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716280"/>
            <a:ext cx="1152360" cy="289080"/>
          </a:xfrm>
          <a:prstGeom prst="rect">
            <a:avLst/>
          </a:prstGeom>
          <a:solidFill>
            <a:srgbClr val="f43e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ые сайты карти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ppt4web.ru/biologija/fotosintez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ipslife.ru/41074-dlya-chego-nuzhny-problemy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26560" y="549360"/>
            <a:ext cx="813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дышат насеком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кого клеточн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называется дыхание при помощи жаб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то дышит жабр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ые позвоночные животные дыш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мноводные дыш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называется такое дых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1147680"/>
            <a:ext cx="40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ыхание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108240"/>
            <a:ext cx="567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Я дышу, а значит, я живу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. Высо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8360" y="1052640"/>
          <a:ext cx="8229600" cy="45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17656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8360" y="1844640"/>
            <a:ext cx="20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ыхан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х ж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3573360"/>
            <a:ext cx="260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дых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глощ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екислый г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9800" y="220500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дыш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1440" y="4076640"/>
            <a:ext cx="16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у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5013000"/>
            <a:ext cx="345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зеф Прист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a-VA" sz="2400" spc="-1" strike="noStrike">
                <a:solidFill>
                  <a:srgbClr val="000000"/>
                </a:solidFill>
                <a:latin typeface="Arial"/>
              </a:rPr>
              <a:t> 1733-180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64000" y="259920"/>
            <a:ext cx="540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1\Desktop\pristly24.jpg"/>
          <p:cNvPicPr/>
          <p:nvPr/>
        </p:nvPicPr>
        <p:blipFill>
          <a:blip r:embed="rId2"/>
          <a:stretch/>
        </p:blipFill>
        <p:spPr>
          <a:xfrm>
            <a:off x="250920" y="692280"/>
            <a:ext cx="3095640" cy="40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1\Desktop\1290128914_image001.jpg"/>
          <p:cNvPicPr/>
          <p:nvPr/>
        </p:nvPicPr>
        <p:blipFill>
          <a:blip r:embed="rId3"/>
          <a:srcRect l="0" t="0" r="0" b="49963"/>
          <a:stretch/>
        </p:blipFill>
        <p:spPr>
          <a:xfrm>
            <a:off x="4284720" y="2060640"/>
            <a:ext cx="4356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погиб мышонок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пытах Прист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Что нам нужно сделать, чтобы решить эту пробл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знать, что так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что нужно для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что образуется в процессе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что вызвало гибель мышо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33811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1\Desktop\1290128914_image001.jpg"/>
          <p:cNvPicPr/>
          <p:nvPr/>
        </p:nvPicPr>
        <p:blipFill>
          <a:blip r:embed="rId2"/>
          <a:stretch/>
        </p:blipFill>
        <p:spPr>
          <a:xfrm>
            <a:off x="4500720" y="765000"/>
            <a:ext cx="3895560" cy="5329440"/>
          </a:xfrm>
          <a:prstGeom prst="rect">
            <a:avLst/>
          </a:prstGeom>
          <a:ln w="0">
            <a:noFill/>
          </a:ln>
        </p:spPr>
      </p:pic>
      <p:sp>
        <p:nvSpPr>
          <p:cNvPr id="61" name="Текст 4"/>
          <p:cNvSpPr/>
          <p:nvPr/>
        </p:nvSpPr>
        <p:spPr>
          <a:xfrm>
            <a:off x="250920" y="260280"/>
            <a:ext cx="540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 Дж. Прист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1\Desktop\pristly24.jpg"/>
          <p:cNvPicPr/>
          <p:nvPr/>
        </p:nvPicPr>
        <p:blipFill>
          <a:blip r:embed="rId3"/>
          <a:stretch/>
        </p:blipFill>
        <p:spPr>
          <a:xfrm>
            <a:off x="468360" y="1197000"/>
            <a:ext cx="3095640" cy="4032360"/>
          </a:xfrm>
          <a:prstGeom prst="rect">
            <a:avLst/>
          </a:prstGeom>
          <a:ln w="0">
            <a:noFill/>
          </a:ln>
        </p:spPr>
      </p:pic>
      <p:sp>
        <p:nvSpPr>
          <p:cNvPr id="63" name="Текст 2"/>
          <p:cNvSpPr/>
          <p:nvPr/>
        </p:nvSpPr>
        <p:spPr>
          <a:xfrm>
            <a:off x="395280" y="5300640"/>
            <a:ext cx="345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зеф Прист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a-VA" sz="2400" spc="-1" strike="noStrike">
                <a:solidFill>
                  <a:srgbClr val="000000"/>
                </a:solidFill>
                <a:latin typeface="Arial"/>
              </a:rPr>
              <a:t> 1733-180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0920" y="141120"/>
          <a:ext cx="8229600" cy="6608880"/>
        </p:xfrm>
        <a:graphic>
          <a:graphicData uri="http://schemas.openxmlformats.org/drawingml/2006/table">
            <a:tbl>
              <a:tblPr/>
              <a:tblGrid>
                <a:gridCol w="2665440"/>
                <a:gridCol w="2820960"/>
                <a:gridCol w="2743200"/>
              </a:tblGrid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ы проце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их клетках происходи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газ поглощает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газ выделяется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е время суток происходи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с органическими веществам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е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918160" y="907920"/>
            <a:ext cx="23738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оропла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1080" y="98100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сех жи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280" y="184464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ки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1640" y="270828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ки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5800" y="19162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9080" y="28526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4160" y="3860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н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4520" y="38606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лосу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7080" y="508464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2520" y="501336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ад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6160" y="602136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апл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9440" y="60199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ть ли у растений специальные органы для дых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7280" y="2637000"/>
            <a:ext cx="4906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 с учебником: стр.108 пункт «Дыхание растений» 1 абзац и рис 5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736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8:21:40Z</dcterms:created>
  <dc:creator>User</dc:creator>
  <dc:description/>
  <dc:language>en-US</dc:language>
  <cp:lastModifiedBy>User</cp:lastModifiedBy>
  <dcterms:modified xsi:type="dcterms:W3CDTF">2013-10-20T08:21:40Z</dcterms:modified>
  <cp:revision>1</cp:revision>
  <dc:subject/>
  <dc:title>Слайд 1</dc:title>
</cp:coreProperties>
</file>