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png" ContentType="image/png"/>
  <Override PartName="/ppt/media/image12.wmf" ContentType="image/x-wmf"/>
  <Override PartName="/ppt/media/image16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146A-21AD-4EA3-A5B3-8F98960A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7B22-D009-49D4-A4C5-A981C401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A855-20D4-457F-8BD1-A5835BBF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CD13-086A-4836-A6EC-1C4327D3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079E-EB96-4513-B23F-28E71341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3275-ACC2-4B81-8E99-6230C585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F7B2-ADA8-42FB-B821-BF3E60AB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1261-45F4-491F-844F-B1487932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6BC7-425B-415E-AB01-93FBB873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8D95-E347-42F9-98E7-8B4584E9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1EF6-2FBB-441E-B453-334A6EBB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3044-38FC-412E-BAD2-B0568F61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A8C8-206F-4BE1-800C-D6B422D5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A34E-E43D-4D59-9A1C-92C59E3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104E-8133-4E89-8D05-065835EF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5769-FE92-42C7-A9E0-5D5B903D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97C5-C66E-4A63-A55C-1974AF5C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67E9-A403-4778-9396-3E104175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5BE1-5496-4CAD-8183-BDE9B012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D50F-5266-4F8D-93CF-EDE41404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6B95-15F4-4E25-BF0A-4CE3216F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D7B3-91E8-4F10-9E79-48DB642F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C69D-36D7-4603-AF61-D69A6BA0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6737-E371-415D-9D88-FA506169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790A-4A27-4050-AFA3-BACCC943D5D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0B55-17F2-4D11-9F8A-3E6C11DE9B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JAPO_010"/>
          <p:cNvPicPr/>
          <p:nvPr/>
        </p:nvPicPr>
        <p:blipFill>
          <a:blip r:embed="rId1"/>
          <a:stretch/>
        </p:blipFill>
        <p:spPr>
          <a:xfrm>
            <a:off x="4429080" y="28584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21420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3399"/>
                </a:solidFill>
                <a:latin typeface="Tahoma"/>
              </a:rPr>
              <a:t>Этот таинственный </a:t>
            </a:r>
            <a:br>
              <a:rPr sz="5000"/>
            </a:br>
            <a:r>
              <a:rPr b="0" lang="ru-RU" sz="5000" spc="-1" strike="noStrike">
                <a:solidFill>
                  <a:srgbClr val="ff3399"/>
                </a:solidFill>
                <a:latin typeface="Tahoma"/>
              </a:rPr>
              <a:t>«Ай-джи»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40384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99"/>
                </a:solidFill>
                <a:latin typeface="Tahoma"/>
              </a:rPr>
              <a:t>А Вы пробовали «Вей-сю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99"/>
                </a:solidFill>
                <a:latin typeface="Tahoma"/>
              </a:rPr>
              <a:t>Ну и ка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680" y="3429000"/>
            <a:ext cx="85723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чётная раб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элективному курсу по хим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Истории открытий удивительных веществ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и учащиеся 9А класса ГОУ СОШ № 46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дреева Елена,Ладыгина Анастасия,Купцова Анастас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ь-учитель химии Овчарова О.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3456000" y="621180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7" descr="MAP"/>
          <p:cNvPicPr/>
          <p:nvPr/>
        </p:nvPicPr>
        <p:blipFill>
          <a:blip r:embed="rId1"/>
          <a:stretch/>
        </p:blipFill>
        <p:spPr>
          <a:xfrm>
            <a:off x="5429160" y="928800"/>
            <a:ext cx="345600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3" descr="j0195534"/>
          <p:cNvPicPr/>
          <p:nvPr/>
        </p:nvPicPr>
        <p:blipFill>
          <a:blip r:embed="rId2"/>
          <a:stretch/>
        </p:blipFill>
        <p:spPr>
          <a:xfrm>
            <a:off x="250920" y="4149720"/>
            <a:ext cx="1884240" cy="2320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928440"/>
            <a:ext cx="5715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Японии глутамат стали выпускать под названием «Адзи-но-мото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«Аджи-но-мото»), что означает </a:t>
            </a: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«сущность вкус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итае его называют «Вей-сю», то есть </a:t>
            </a: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«гастрономический порошок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ранцузы называют его </a:t>
            </a: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«сывороткой ум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утамат стал настолько популярен во всем мире, что в ресторанах на столы ставили солонки со смесью глутамата и со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42960" y="0"/>
            <a:ext cx="822960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e87ac"/>
                </a:solidFill>
                <a:latin typeface="Tahoma"/>
              </a:rPr>
              <a:t>Что мы узнал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28" descr="00010577"/>
          <p:cNvPicPr/>
          <p:nvPr/>
        </p:nvPicPr>
        <p:blipFill>
          <a:blip r:embed="rId3"/>
          <a:stretch/>
        </p:blipFill>
        <p:spPr>
          <a:xfrm>
            <a:off x="5429160" y="3786120"/>
            <a:ext cx="352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AMBULANC"/>
          <p:cNvPicPr/>
          <p:nvPr/>
        </p:nvPicPr>
        <p:blipFill>
          <a:blip r:embed="rId1"/>
          <a:stretch/>
        </p:blipFill>
        <p:spPr>
          <a:xfrm>
            <a:off x="468360" y="1628640"/>
            <a:ext cx="2521080" cy="131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j0240719"/>
          <p:cNvPicPr/>
          <p:nvPr/>
        </p:nvPicPr>
        <p:blipFill>
          <a:blip r:embed="rId2"/>
          <a:stretch/>
        </p:blipFill>
        <p:spPr>
          <a:xfrm>
            <a:off x="642960" y="3357720"/>
            <a:ext cx="1879560" cy="2952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solidFill>
            <a:srgbClr val="b5c2d5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ea5"/>
                </a:solidFill>
                <a:latin typeface="Tahoma"/>
              </a:rPr>
              <a:t>Но вдруг глутаматом заинтересовались </a:t>
            </a:r>
            <a:br>
              <a:rPr sz="2800"/>
            </a:br>
            <a:r>
              <a:rPr b="0" lang="ru-RU" sz="2800" spc="-1" strike="noStrike">
                <a:solidFill>
                  <a:srgbClr val="376ea5"/>
                </a:solidFill>
                <a:latin typeface="Tahoma"/>
              </a:rPr>
              <a:t>врачи-токсиколог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28760" y="1285920"/>
            <a:ext cx="2458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43040" y="999720"/>
            <a:ext cx="7500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здоровых людей после ресторана наблюдались симптомы странного заболев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-442800" algn="ctr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головная б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-442800" algn="ctr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судороги мышц ли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рки устанавливали свежесть и доброкачественность блюд и продуктов пит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уг чаще поражал посетителей китайских ресторанов. Болезнь получила название </a:t>
            </a: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«синдром китайского ресторан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Причина оказалась в том, что повар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лоупотребляют глутаматом нат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9"/>
          <p:cNvSpPr/>
          <p:nvPr/>
        </p:nvSpPr>
        <p:spPr>
          <a:xfrm flipV="1">
            <a:off x="1979640" y="2781000"/>
            <a:ext cx="1224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20"/>
          <p:cNvSpPr/>
          <p:nvPr/>
        </p:nvSpPr>
        <p:spPr>
          <a:xfrm flipV="1">
            <a:off x="2050920" y="3068280"/>
            <a:ext cx="1152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ahoma"/>
              </a:rPr>
              <a:t>Что нужно знать при употреблении продуктов с глутаматом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быток глутамата действует не на всех и не всегда одинако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ьзование глутамата лимитируе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должен быть исключен из пищи для детей раннего возрас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подростков до 16 лет суточная доза составляет 0,5 г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взрослых однократная доза не боле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5 г, а суточная — не более 1,5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dfa06"/>
                </a:solidFill>
                <a:latin typeface="Tahoma"/>
              </a:rPr>
              <a:t>Есть ли еще модификаторы </a:t>
            </a:r>
            <a:br>
              <a:rPr sz="3800"/>
            </a:br>
            <a:r>
              <a:rPr b="0" lang="en-US" sz="3800" spc="-1" strike="noStrike">
                <a:solidFill>
                  <a:srgbClr val="5dfa06"/>
                </a:solidFill>
                <a:latin typeface="Tahoma"/>
              </a:rPr>
              <a:t>вкуса и аромата?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днее были обнаружены и исследованы другие усилители вкуса и арома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зинат динатрия (Е63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уанилат динатрия(Е62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х смесь «Риботайд» («Риботид»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льтол (Е63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омальтол (Е63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которые интенсивные подсластители (тауматин, неогесперидина дигидрохалкон) при крайне малой дозировке проявляют эффект усиления вкуса и аром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START44"/>
          <p:cNvPicPr/>
          <p:nvPr/>
        </p:nvPicPr>
        <p:blipFill>
          <a:blip r:embed="rId1"/>
          <a:stretch/>
        </p:blipFill>
        <p:spPr>
          <a:xfrm>
            <a:off x="468360" y="1268280"/>
            <a:ext cx="1554120" cy="2117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5ea0e"/>
                </a:solidFill>
                <a:latin typeface="Tahoma"/>
              </a:rPr>
              <a:t>«Досье» на иные модификатор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24000" y="1268280"/>
            <a:ext cx="4762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е инозината и гуанилата отлично от действия глутама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глутамат усиливает только мясной вкус и аромат, то названные вещества усиливают большое число разнообразных вкусов и ароматов и модифицируют соленый и сладкий вкус. Их действие в десятки и сотни раз выше действия глутамата. Они редко используются в отдельности,чаще в смеси 1: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9" descr="JAPO_011"/>
          <p:cNvPicPr/>
          <p:nvPr/>
        </p:nvPicPr>
        <p:blipFill>
          <a:blip r:embed="rId2"/>
          <a:stretch/>
        </p:blipFill>
        <p:spPr>
          <a:xfrm>
            <a:off x="324000" y="3645000"/>
            <a:ext cx="3384360" cy="254628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0"/>
          <p:cNvSpPr/>
          <p:nvPr/>
        </p:nvSpPr>
        <p:spPr>
          <a:xfrm>
            <a:off x="1403280" y="1125360"/>
            <a:ext cx="2592360" cy="936720"/>
          </a:xfrm>
          <a:prstGeom prst="wedgeRoundRectCallout">
            <a:avLst>
              <a:gd name="adj1" fmla="val -58879"/>
              <a:gd name="adj2" fmla="val 49828"/>
              <a:gd name="adj3" fmla="val 16667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 это знаю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00010788"/>
          <p:cNvPicPr/>
          <p:nvPr/>
        </p:nvPicPr>
        <p:blipFill>
          <a:blip r:embed="rId1"/>
          <a:stretch/>
        </p:blipFill>
        <p:spPr>
          <a:xfrm>
            <a:off x="684360" y="4071960"/>
            <a:ext cx="3316320" cy="2571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00010544"/>
          <p:cNvPicPr/>
          <p:nvPr/>
        </p:nvPicPr>
        <p:blipFill>
          <a:blip r:embed="rId2"/>
          <a:stretch/>
        </p:blipFill>
        <p:spPr>
          <a:xfrm>
            <a:off x="5072040" y="4071960"/>
            <a:ext cx="3441600" cy="2465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5ea0e"/>
                </a:solidFill>
                <a:latin typeface="Tahoma"/>
              </a:rPr>
              <a:t>«Досье» на иные модификатор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28800" y="1142640"/>
            <a:ext cx="7488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илителем сладкого вкуса является мальтол. Он образуется при карамелизации сахаров. Содержится в карамели, молоке, иглах хвойных деревьев, цикории, хлебной корке. Используется в производстве конфет, джемов, напитков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лмальтол подобен мальтолу, но превосходит последний по «вкусовой силе в 4-6 ра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Будем компетентными и бдительными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0040" y="17856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йчас мы знаем, что злоупотреблять бульонными кубиками, пакетами супов, вермишелей быстрого приготовления не следует и будем следить за своим ежедневным меню, т.е. заботиться о свом здоров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Чего и всем желаем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БИБЛИОГРАФИЯ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519120" y="128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15000" y="162864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В.П.Исупов «Пищевые добавки и пря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MF0372"/>
          <p:cNvPicPr/>
          <p:nvPr/>
        </p:nvPicPr>
        <p:blipFill>
          <a:blip r:embed="rId1"/>
          <a:stretch/>
        </p:blipFill>
        <p:spPr>
          <a:xfrm>
            <a:off x="395280" y="1268280"/>
            <a:ext cx="8136000" cy="3800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BBQ"/>
          <p:cNvPicPr/>
          <p:nvPr/>
        </p:nvPicPr>
        <p:blipFill>
          <a:blip r:embed="rId2"/>
          <a:stretch/>
        </p:blipFill>
        <p:spPr>
          <a:xfrm>
            <a:off x="7380360" y="5202360"/>
            <a:ext cx="1495440" cy="1655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4200" y="1413000"/>
            <a:ext cx="8715600" cy="31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лучилось в осеннем пох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л полдень, всем хотелось кушать на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 не делать из готовки скук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ворим  обед мы на скорую ру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меню сложилось скупо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иски, «Ролтон» и пакеты «Быстросуп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e87ac"/>
                </a:solidFill>
                <a:latin typeface="Tahoma"/>
              </a:rPr>
              <a:t>Постановка проблемы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4200" y="150012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ппетит был отменный, смели мы всё разом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Лена - любопытная проказ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аковку прочитал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чень громко закричал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натоком» стать каждый рад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что такое «глутамат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еще ты мне скаж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за айджитайд «Ай-джи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95280" y="333360"/>
            <a:ext cx="822960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e87ac"/>
                </a:solidFill>
                <a:latin typeface="Tahoma"/>
              </a:rPr>
              <a:t>Постановка проблемы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e87ac"/>
                </a:solidFill>
                <a:latin typeface="Tahoma"/>
              </a:rPr>
              <a:t>Постановка проблем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924280"/>
            <a:ext cx="2881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00240" y="1500120"/>
            <a:ext cx="6143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никто  не знал, не ведал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за «аджитайд»  отвед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езно это иль опасн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лжны мы знать, чтоб жить прекра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ты, мой друг, коль знаешь, расскаж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чем добавлен в вермишель «Ай-джи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11" descr="1452041"/>
          <p:cNvPicPr/>
          <p:nvPr/>
        </p:nvPicPr>
        <p:blipFill>
          <a:blip r:embed="rId1"/>
          <a:stretch/>
        </p:blipFill>
        <p:spPr>
          <a:xfrm>
            <a:off x="500040" y="2286000"/>
            <a:ext cx="34225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e87ac"/>
                </a:solidFill>
                <a:latin typeface="Tahoma"/>
              </a:rPr>
              <a:t>Муки поиск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торые учащиеся нашего класса соч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иже своего достоинства не найти ответа на поставленный Леной вопрос и ринулись в поис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 найти ответ оказалось крайне трудным де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ая большая трудность заключалась в отсутствии в библиотеках научно-популярной и научной литературы по данной т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Откуда пришла помошь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7120" y="1599840"/>
            <a:ext cx="8786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Tahoma"/>
              </a:rPr>
              <a:t>!!!  НО  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шей школе для учащихся 9 классов  проводится элективный кур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Истории открытий удивительных веществ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т курс учитель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вчарова Ольга Эдуардов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нно она увлекла нас тайнами приготовления и состава нашей пищ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5280" y="333360"/>
            <a:ext cx="8229600" cy="1023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e87ac"/>
                </a:solidFill>
                <a:latin typeface="Tahoma"/>
              </a:rPr>
              <a:t>Откуда пришла помощь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книга3"/>
          <p:cNvPicPr/>
          <p:nvPr/>
        </p:nvPicPr>
        <p:blipFill>
          <a:blip r:embed="rId1"/>
          <a:stretch/>
        </p:blipFill>
        <p:spPr>
          <a:xfrm rot="612600">
            <a:off x="6300360" y="3499920"/>
            <a:ext cx="2084400" cy="3024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Но раскрывать все секреты преподаватель не спешил …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(Наша работа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5280" y="333360"/>
            <a:ext cx="822960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e87ac"/>
                </a:solidFill>
                <a:latin typeface="Tahoma"/>
              </a:rPr>
              <a:t>Но раскрывать все секреты Ольга Эдуардовна не спешила…</a:t>
            </a:r>
            <a:br>
              <a:rPr sz="2100"/>
            </a:br>
            <a:r>
              <a:rPr b="0" lang="en-US" sz="2100" spc="-1" strike="noStrike">
                <a:solidFill>
                  <a:srgbClr val="6e87ac"/>
                </a:solidFill>
                <a:latin typeface="Tahoma"/>
              </a:rPr>
              <a:t>Она предложил нам поработать самостоятельно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 было предложен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ть этикетки пищевых продуктов и отобрать тех, которые содержат глутамат (глютамат) натрия, «Ай+джи», «Вей-сю», «Ай-джи-но-мото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обрать этикетки продуктов, которые содержат гуанилат и саркозинат натр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ть коллекцию этикеток, содержащих названные вещ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ть по книгам, предложенным преподавателем, интересующие нас вопро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ть выступления по итогам исследовательских работ, выступить перед одноклассникам, создать буклеты для тех, кто желал бы знать о пищевых добавках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0" descr="00012311"/>
          <p:cNvPicPr/>
          <p:nvPr/>
        </p:nvPicPr>
        <p:blipFill>
          <a:blip r:embed="rId1"/>
          <a:stretch/>
        </p:blipFill>
        <p:spPr>
          <a:xfrm>
            <a:off x="6227640" y="1989000"/>
            <a:ext cx="238464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Что мы узнал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483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рия глутам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66 г. немецкий химик Риттенгаузен получает из продуктов гидролиза пшеничного белка аминокислоту, которую называет глутаминов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около 50 лет это открытие не имело практического значения. Позднее выясняется, что она очень важна для деятельности мозга и нервной сис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чале 20-го века японский ученый Кикунае Икеда, изучая составы соуса из морской капусты и соевого соуса, обнаруживает, что они облагораживают пищу благодаря содержанию глутаминовой кислоты. В 1909 г. Икеда получает английский патент на способ производства вкусовых препаратов, а именно глутамата натрия как восстановителя вкуса продук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156000" y="1989000"/>
            <a:ext cx="245916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8360" y="404640"/>
            <a:ext cx="8229600" cy="79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e87ac"/>
                </a:solidFill>
                <a:latin typeface="Tahoma"/>
              </a:rPr>
              <a:t>Что мы узнал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4"/>
          <p:cNvGraphicFramePr/>
          <p:nvPr/>
        </p:nvGraphicFramePr>
        <p:xfrm>
          <a:off x="5651640" y="3860640"/>
          <a:ext cx="302580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3860640"/>
                    <a:ext cx="302580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утамат натрия (Е621) используется как интенсификатор, усиливающий вкус основного проду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ная пищевая добавка широко используется при производстве концентратов супов, соусов, консерв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го формул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HOOC — CH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— CH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— CH — COO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ccff"/>
                </a:solidFill>
                <a:latin typeface="Tahoma"/>
              </a:rPr>
              <a:t>Что мы узнал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2:31:34Z</dcterms:created>
  <dc:creator>Исупов В.П.</dc:creator>
  <dc:description/>
  <dc:language>en-US</dc:language>
  <cp:lastModifiedBy>Химия</cp:lastModifiedBy>
  <dcterms:modified xsi:type="dcterms:W3CDTF">2011-04-15T10:06:18Z</dcterms:modified>
  <cp:revision>16</cp:revision>
  <dc:subject/>
  <dc:title>Слайд 1</dc:title>
</cp:coreProperties>
</file>