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4A2-2DFB-4AAD-B743-F79F2FBF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D46-8488-44D3-9A75-A5A37CCB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C06-4310-4608-9A18-19A7DA1A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FF2-3A47-40E3-9DEF-C8C9DA06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58B8-1D7E-48B6-BFA6-839380B3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515D-3C95-4125-9929-8768C3A4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8E27-C9A6-429B-B273-A3908A3D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9EF-F3E5-43D7-943B-478803E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56A-1D6D-4A0E-9A8A-442B1916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FF2-2442-466C-948C-6D5A7D98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9B69-4685-4EB9-A830-520E421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518-69C4-4218-BBDE-6C17C86A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6EF2-980C-4606-A2EF-59C692BC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2FCC-453F-424C-851D-58F64D30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8F39-1504-4F58-AF90-C75CA5B1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8AAC-B552-40C7-BFD3-3297F493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B605-25B5-4C77-AC2A-C20F2D45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BA3-4224-4CF3-BFEF-B5DC35EA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E5C-503D-43B3-8A41-4B1B2810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71C-6776-4124-85EC-B94C59F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B42-02A3-45F4-8392-E99551F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03C-AAAE-4E65-9312-DE5AFA57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CD9-E2D5-4697-B9B6-28C37AC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CC0-1CE0-4F3D-9686-D34852B3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A435-C55D-4F2B-ABB2-80540B9BF0C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F950-E41A-46AB-83C6-480F8D88EAF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utoShape 2" descr=""/>
          <p:cNvPicPr/>
          <p:nvPr/>
        </p:nvPicPr>
        <p:blipFill>
          <a:blip r:embed="rId1"/>
          <a:stretch/>
        </p:blipFill>
        <p:spPr>
          <a:xfrm>
            <a:off x="285840" y="1047600"/>
            <a:ext cx="8827920" cy="236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образительное искусство, 6 клас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учителя ИЗО Бурцевой Ольги Борисов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2315a0314c02t"/>
          <p:cNvPicPr/>
          <p:nvPr/>
        </p:nvPicPr>
        <p:blipFill>
          <a:blip r:embed="rId1"/>
          <a:stretch/>
        </p:blipFill>
        <p:spPr>
          <a:xfrm>
            <a:off x="4357800" y="357120"/>
            <a:ext cx="4462200" cy="334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1281944080_10"/>
          <p:cNvPicPr/>
          <p:nvPr/>
        </p:nvPicPr>
        <p:blipFill>
          <a:blip r:embed="rId2"/>
          <a:stretch/>
        </p:blipFill>
        <p:spPr>
          <a:xfrm>
            <a:off x="428760" y="3043080"/>
            <a:ext cx="387504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 rot="10800000">
            <a:off x="457200" y="1553760"/>
            <a:ext cx="418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" descr="http://img.beatrisa.ru/forums/monthly_05_2008/user3/post21389_img1.jpg"/>
          <p:cNvPicPr/>
          <p:nvPr/>
        </p:nvPicPr>
        <p:blipFill>
          <a:blip r:embed="rId2"/>
          <a:stretch/>
        </p:blipFill>
        <p:spPr>
          <a:xfrm>
            <a:off x="642960" y="1563840"/>
            <a:ext cx="3286080" cy="496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stihi.ru/pics/2013/06/06/5000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003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4114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http://s4.live4fun.ru/pictures/s3img_13714540_1035_1.jpg"/>
          <p:cNvPicPr/>
          <p:nvPr/>
        </p:nvPicPr>
        <p:blipFill>
          <a:blip r:embed="rId2"/>
          <a:stretch/>
        </p:blipFill>
        <p:spPr>
          <a:xfrm>
            <a:off x="571680" y="1357200"/>
            <a:ext cx="3643200" cy="485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www.a7lashare.com/viewimages/0da7e035f8.jpg"/>
          <p:cNvPicPr/>
          <p:nvPr/>
        </p:nvPicPr>
        <p:blipFill>
          <a:blip r:embed="rId3"/>
          <a:stretch/>
        </p:blipFill>
        <p:spPr>
          <a:xfrm>
            <a:off x="4643280" y="214308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2" descr="http://stranamasterov.ru/files/u15556/tumblr_kv8yn5mxjk1qzb7gjo1_400_0.jpg"/>
          <p:cNvPicPr/>
          <p:nvPr/>
        </p:nvPicPr>
        <p:blipFill>
          <a:blip r:embed="rId1"/>
          <a:stretch/>
        </p:blipFill>
        <p:spPr>
          <a:xfrm>
            <a:off x="214308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6840" y="1599840"/>
            <a:ext cx="104292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http://img0.liveinternet.ru/images/attach/c/1/61/356/61356201_1278705198_Fantasy_Girl_and_dragon_021476_.jpg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289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lubomarti.ucoz.ru/_pu/11/22006721.jpg"/>
          <p:cNvPicPr/>
          <p:nvPr/>
        </p:nvPicPr>
        <p:blipFill>
          <a:blip r:embed="rId3"/>
          <a:stretch/>
        </p:blipFill>
        <p:spPr>
          <a:xfrm>
            <a:off x="4286160" y="3000240"/>
            <a:ext cx="41436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Придумайте свой фантастический ми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идумайте пейзаж, или сюжет, на котором главное действующее лицо –  фантазийный персонаж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http://stranamasterov.ru/files/u2/boris_olshanskiy_rus_velikaya.jpg"/>
          <p:cNvPicPr/>
          <p:nvPr/>
        </p:nvPicPr>
        <p:blipFill>
          <a:blip r:embed="rId2"/>
          <a:stretch/>
        </p:blipFill>
        <p:spPr>
          <a:xfrm>
            <a:off x="3000240" y="4378320"/>
            <a:ext cx="3384720" cy="24796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6"/>
          <p:cNvSpPr/>
          <p:nvPr/>
        </p:nvSpPr>
        <p:spPr>
          <a:xfrm>
            <a:off x="155520" y="-1050840"/>
            <a:ext cx="20862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555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555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3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307152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9" descr="269364"/>
          <p:cNvPicPr/>
          <p:nvPr/>
        </p:nvPicPr>
        <p:blipFill>
          <a:blip r:embed="rId1"/>
          <a:stretch/>
        </p:blipFill>
        <p:spPr>
          <a:xfrm>
            <a:off x="2928960" y="321480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5"/>
          <p:cNvSpPr txBox="1"/>
          <p:nvPr/>
        </p:nvSpPr>
        <p:spPr>
          <a:xfrm>
            <a:off x="576360" y="571680"/>
            <a:ext cx="77104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антазируйте!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так прекрасно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utoShap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67280" y="2565360"/>
            <a:ext cx="4897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М. Васнец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Иван-царевич и серый волк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c9c2d1"/>
                </a:solidFill>
                <a:latin typeface="Times New Roman"/>
              </a:rPr>
              <a:t>Какими выразительными средствами можно создать фантастический рисунок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0_16e14_b99261b6_XL"/>
          <p:cNvPicPr/>
          <p:nvPr/>
        </p:nvPicPr>
        <p:blipFill>
          <a:blip r:embed="rId2"/>
          <a:stretch/>
        </p:blipFill>
        <p:spPr>
          <a:xfrm>
            <a:off x="1285920" y="2000160"/>
            <a:ext cx="2495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8242560" cy="157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71920" cy="4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img1.liveinternet.ru/images/attach/c/4/82/781/82781857_121076184110.jpg"/>
          <p:cNvPicPr/>
          <p:nvPr/>
        </p:nvPicPr>
        <p:blipFill>
          <a:blip r:embed="rId3"/>
          <a:stretch/>
        </p:blipFill>
        <p:spPr>
          <a:xfrm>
            <a:off x="1643040" y="1643040"/>
            <a:ext cx="59292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utoShape 2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821700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0438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8843"/>
          <p:cNvPicPr/>
          <p:nvPr/>
        </p:nvPicPr>
        <p:blipFill>
          <a:blip r:embed="rId2"/>
          <a:stretch/>
        </p:blipFill>
        <p:spPr>
          <a:xfrm>
            <a:off x="1571760" y="2000160"/>
            <a:ext cx="60721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81532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 rot="10800000">
            <a:off x="456480" y="1553760"/>
            <a:ext cx="29005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http://www.newsps.ru/wp-content/uploads/2013/03/tri-bogatirya.jpg"/>
          <p:cNvPicPr/>
          <p:nvPr/>
        </p:nvPicPr>
        <p:blipFill>
          <a:blip r:embed="rId2"/>
          <a:stretch/>
        </p:blipFill>
        <p:spPr>
          <a:xfrm>
            <a:off x="1500120" y="1643040"/>
            <a:ext cx="6143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моции, чувства сопутствуют созданию образа дважды: в первый раз — когда побуждаемый ими человек запоминает образ, второй — когда фиксирует его. Невозможно запечатлеть образ, не испытывая к нему определенных чувст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ображение – главная составляющая творческого процесса гд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антазия связана с реальностью как источника замыс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pic-450"/>
          <p:cNvPicPr/>
          <p:nvPr/>
        </p:nvPicPr>
        <p:blipFill>
          <a:blip r:embed="rId2"/>
          <a:stretch/>
        </p:blipFill>
        <p:spPr>
          <a:xfrm>
            <a:off x="2571840" y="4172040"/>
            <a:ext cx="3948120" cy="26859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 flipH="1">
            <a:off x="357120" y="1714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ни художественного образа могут быть различными, в зависимости от цели автора, а также от понимания и проникновения в образ зрителя. Их невозможно выстроить в  определенной последовательности, каждая из них имеет право на существование, как имеют право быть разные люди, с многообразными характерами и интере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5600" y="-13320"/>
            <a:ext cx="69008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571320"/>
            <a:ext cx="82580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ркость, свежесть, эмоциональная насыщенность образов воображения  находит свое отражение в творческом процессе.  Творчество невозможно  без  взаимосвязи воображения ,чувств, эмо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1" descr="1270789596_152907-jugra"/>
          <p:cNvPicPr/>
          <p:nvPr/>
        </p:nvPicPr>
        <p:blipFill>
          <a:blip r:embed="rId1"/>
          <a:stretch/>
        </p:blipFill>
        <p:spPr>
          <a:xfrm>
            <a:off x="2000160" y="3143160"/>
            <a:ext cx="4229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600200"/>
            <a:ext cx="685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kolyan.net/uploads/posts/2009-10/thumbs/1256538036_fantasy_art_scenery_wallpaper_cliff_cramp_01.jpg"/>
          <p:cNvPicPr/>
          <p:nvPr/>
        </p:nvPicPr>
        <p:blipFill>
          <a:blip r:embed="rId1"/>
          <a:stretch/>
        </p:blipFill>
        <p:spPr>
          <a:xfrm>
            <a:off x="571680" y="357120"/>
            <a:ext cx="4894200" cy="305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uwd.ru/uploads/posts/2012-11/1353184744_vkusnye_fotografii_0_002.jpg"/>
          <p:cNvPicPr/>
          <p:nvPr/>
        </p:nvPicPr>
        <p:blipFill>
          <a:blip r:embed="rId2"/>
          <a:stretch/>
        </p:blipFill>
        <p:spPr>
          <a:xfrm>
            <a:off x="3643200" y="3643200"/>
            <a:ext cx="48578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05:23Z</dcterms:created>
  <dc:creator>user</dc:creator>
  <dc:description/>
  <dc:language>en-US</dc:language>
  <cp:lastModifiedBy>SSS</cp:lastModifiedBy>
  <dcterms:modified xsi:type="dcterms:W3CDTF">2013-10-20T09:41:14Z</dcterms:modified>
  <cp:revision>28</cp:revision>
  <dc:subject/>
  <dc:title>Художественное познание: реальность и фантазия</dc:title>
</cp:coreProperties>
</file>